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BA4-4A99-4D01-AF6B-957C789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AF6-E76B-4EEA-A95D-3377BB2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0DE-442E-4815-878A-A158A0E9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B94-C80E-4269-A027-DCD12A47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A2A-AF3F-45D0-B3D9-3EE0C7AF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17B-6967-4A2B-83BC-EF9E4BE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48F-009B-4E76-A4ED-2453D84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774-92AE-4B00-9DEF-0A57FF9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A47-DA04-4795-8F95-F9BF3A2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08A-D41B-4191-9AA6-A91A408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670-C7C5-4150-9C3D-333CD6A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656-39E9-4F4C-8180-359B847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B4F-63B7-4503-AEAC-37B49781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362320"/>
            <a:ext cx="5639040" cy="18288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BLEM STRU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430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pecific Elements of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nthly Block Problem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280" y="1693800"/>
            <a:ext cx="7846920" cy="43992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in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w me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nthly 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c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ings; Rests; Trainings; 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 credits; nb days off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ys off patterns; 8/24 rule;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/Min of block typ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 Uncovered Tasks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 worklo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430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pecific Elements of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eferential Bidding Problem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2562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in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w me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nthly 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c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ings; Rests; Trainings; 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 credits; nb days off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ys off patterns; 8/24 rule;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/Min of block typ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aximize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atisfaction Scor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n Seniority Or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LUTION APPROACH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67760" cy="40356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ranching &amp; Cutting  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involving 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grangean Relax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tzig-Wolfe Decompos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dle Met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tic Center Cutting Plane Met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--&gt;  Column Gene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4880" y="2052360"/>
            <a:ext cx="3525840" cy="15922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ter Probl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s Cover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619280" y="3924000"/>
            <a:ext cx="5905440" cy="159228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-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h Structur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l Feasibility by Using Resource Variabl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2438280"/>
            <a:ext cx="5639040" cy="18288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LINE CREW  SCHEDULIN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446400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EQUENTIAL PLANN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ight Schedul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ircraft Rout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ew Pair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nthly Block Assignmen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Bidlines (anonymous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Rostering (personnalized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eferential Bidd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92360" y="2050920"/>
            <a:ext cx="3165480" cy="411480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igh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`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e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ew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IR SCHEDULING PROCES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7816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OBLEM STRU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2057040"/>
            <a:ext cx="5562720" cy="304812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-Space Networ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l Schedule Restri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 Coveri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e Composi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 Linear Cost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696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airing Stru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755800"/>
            <a:ext cx="15843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55800"/>
            <a:ext cx="1079280" cy="43200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755800"/>
            <a:ext cx="1079640" cy="43200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755800"/>
            <a:ext cx="1079640" cy="43200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187800"/>
            <a:ext cx="1368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324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2324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8920" y="23241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d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35481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347652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3332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3332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2684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4515600">
            <a:off x="6696360" y="3728160"/>
            <a:ext cx="1800360" cy="57636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83640" y="3763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220400">
            <a:off x="4284720" y="5132160"/>
            <a:ext cx="1800000" cy="57600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83280" y="4916520"/>
            <a:ext cx="1368360" cy="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5280" y="48909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3481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5276880"/>
            <a:ext cx="1368360" cy="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3746000">
            <a:off x="581040" y="4326840"/>
            <a:ext cx="2339640" cy="38448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441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onthly Block Structur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407664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3272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2755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a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319560"/>
            <a:ext cx="1152360" cy="75708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4076640"/>
            <a:ext cx="57636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060640"/>
            <a:ext cx="1440000" cy="201600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4076640"/>
            <a:ext cx="576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716280"/>
            <a:ext cx="1152720" cy="39852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4076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500280"/>
            <a:ext cx="1152720" cy="541440"/>
          </a:xfrm>
          <a:custGeom>
            <a:avLst/>
            <a:gdLst/>
            <a:ahLst/>
            <a:rect l="l" t="t" r="r" b="b"/>
            <a:pathLst>
              <a:path w="816" h="363">
                <a:moveTo>
                  <a:pt x="0" y="363"/>
                </a:moveTo>
                <a:cubicBezTo>
                  <a:pt x="136" y="181"/>
                  <a:pt x="272" y="0"/>
                  <a:pt x="408" y="0"/>
                </a:cubicBezTo>
                <a:cubicBezTo>
                  <a:pt x="544" y="0"/>
                  <a:pt x="748" y="302"/>
                  <a:pt x="816" y="363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3043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a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043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a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3043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a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0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2920" y="40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56720" y="35305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437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2 3 …                                                                       29 30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24816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000000"/>
                </a:solidFill>
                <a:latin typeface="Times New Roman"/>
              </a:rPr>
              <a:t>The Generic Problem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94400" y="2131560"/>
            <a:ext cx="2658960" cy="350676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 Black"/>
              </a:rPr>
              <a:t>COVER AT MINIMUM C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cc"/>
                </a:solidFill>
                <a:latin typeface="Arial Black"/>
              </a:rPr>
              <a:t>A SET OF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990000"/>
                </a:solidFill>
                <a:latin typeface="Arial Black"/>
              </a:rPr>
              <a:t>WITH FEASIBLE PATH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4857840"/>
            <a:ext cx="795240" cy="94608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1160" y="4857840"/>
            <a:ext cx="795240" cy="94608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200" y="4857840"/>
            <a:ext cx="2319120" cy="94608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ahoma"/>
              </a:rPr>
              <a:t>COMMO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2600" y="1828080"/>
            <a:ext cx="1353960" cy="3002040"/>
            <a:chOff x="912600" y="1828080"/>
            <a:chExt cx="1353960" cy="3002040"/>
          </a:xfrm>
        </p:grpSpPr>
        <p:sp>
          <p:nvSpPr>
            <p:cNvPr id="97" name=""/>
            <p:cNvSpPr/>
            <p:nvPr/>
          </p:nvSpPr>
          <p:spPr>
            <a:xfrm>
              <a:off x="1227600" y="182808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ahoma"/>
                </a:rPr>
                <a:t>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912600" y="2429280"/>
              <a:ext cx="1353960" cy="2400840"/>
              <a:chOff x="912600" y="2429280"/>
              <a:chExt cx="1353960" cy="2400840"/>
            </a:xfrm>
          </p:grpSpPr>
          <p:sp>
            <p:nvSpPr>
              <p:cNvPr id="99" name=""/>
              <p:cNvSpPr/>
              <p:nvPr/>
            </p:nvSpPr>
            <p:spPr>
              <a:xfrm flipH="1" flipV="1">
                <a:off x="912600" y="3790440"/>
                <a:ext cx="226440" cy="1026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952920" y="2429280"/>
                <a:ext cx="599760" cy="10407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58600" y="2503080"/>
                <a:ext cx="442080" cy="948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935360" y="3804120"/>
                <a:ext cx="331200" cy="1026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3564000" y="2308320"/>
            <a:ext cx="1668240" cy="801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57680" y="2814480"/>
            <a:ext cx="1244520" cy="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63720" y="3795840"/>
            <a:ext cx="936720" cy="35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7280" y="3987720"/>
            <a:ext cx="669960" cy="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387520" y="3987360"/>
            <a:ext cx="344520" cy="830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0240" y="3005280"/>
            <a:ext cx="2063880" cy="1812960"/>
          </a:xfrm>
          <a:custGeom>
            <a:avLst/>
            <a:gdLst/>
            <a:ahLst/>
            <a:rect l="l" t="t" r="r" b="b"/>
            <a:pathLst>
              <a:path w="1494" h="1104">
                <a:moveTo>
                  <a:pt x="1494" y="0"/>
                </a:moveTo>
                <a:lnTo>
                  <a:pt x="0" y="1104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27280" y="2903400"/>
            <a:ext cx="177840" cy="987480"/>
          </a:xfrm>
          <a:custGeom>
            <a:avLst/>
            <a:gdLst/>
            <a:ahLst/>
            <a:rect l="l" t="t" r="r" b="b"/>
            <a:pathLst>
              <a:path w="129" h="602">
                <a:moveTo>
                  <a:pt x="129" y="602"/>
                </a:moveTo>
                <a:cubicBezTo>
                  <a:pt x="110" y="551"/>
                  <a:pt x="14" y="396"/>
                  <a:pt x="7" y="296"/>
                </a:cubicBezTo>
                <a:cubicBezTo>
                  <a:pt x="0" y="196"/>
                  <a:pt x="70" y="62"/>
                  <a:pt x="87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3429000"/>
            <a:ext cx="304920" cy="304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209680"/>
            <a:ext cx="304920" cy="304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304920" cy="3045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676520"/>
            <a:ext cx="7772400" cy="46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1752480"/>
            <a:ext cx="7720920" cy="4572000"/>
            <a:chOff x="711360" y="1752480"/>
            <a:chExt cx="7720920" cy="4572000"/>
          </a:xfrm>
        </p:grpSpPr>
        <p:sp>
          <p:nvSpPr>
            <p:cNvPr id="115" name=""/>
            <p:cNvSpPr/>
            <p:nvPr/>
          </p:nvSpPr>
          <p:spPr>
            <a:xfrm>
              <a:off x="6197400" y="531612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280" y="531612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1360" y="531612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97400" y="450468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60280" y="450468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1360" y="450468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400" y="315288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0280" y="315288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1360" y="315288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97400" y="5856840"/>
              <a:ext cx="2234520" cy="46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SEQUENCES           ON A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0280" y="5856840"/>
              <a:ext cx="2336760" cy="46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1360" y="5856840"/>
              <a:ext cx="3148920" cy="46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JOB-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7400" y="558612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0280" y="558612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1360" y="558612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4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cc0000"/>
                  </a:solidFill>
                  <a:latin typeface="Arial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7400" y="504540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60280" y="504540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1360" y="504540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UTING of LOCOMO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97400" y="477540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60280" y="477540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360" y="477540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4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cc0000"/>
                  </a:solidFill>
                  <a:latin typeface="Arial"/>
                </a:rPr>
                <a:t>R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97400" y="423432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0280" y="423432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PAIR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1360" y="423432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ST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97400" y="396432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PAIR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60280" y="396432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FL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1360" y="396432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CREW PAI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7400" y="369360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280" y="369360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FL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360" y="369360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IRCRAFT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7400" y="342360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0280" y="342360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360" y="342360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4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cc0000"/>
                  </a:solidFill>
                  <a:latin typeface="Arial"/>
                </a:rPr>
                <a:t>AIR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97400" y="288252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0280" y="288252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SHIF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1360" y="288252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ST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97400" y="261216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SHIF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280" y="261216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TRIP SEG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1360" y="261216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DRIVER SCHEDU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7400" y="2341800"/>
              <a:ext cx="22345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O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60280" y="2341800"/>
              <a:ext cx="233676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US TR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1360" y="2341800"/>
              <a:ext cx="3148920" cy="27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US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97400" y="2071440"/>
              <a:ext cx="22345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0280" y="2071440"/>
              <a:ext cx="233676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1360" y="2071440"/>
              <a:ext cx="3148920" cy="27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4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cc0000"/>
                  </a:solidFill>
                  <a:latin typeface="Arial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97400" y="1752480"/>
              <a:ext cx="2234520" cy="318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cc0000"/>
                  </a:solidFill>
                  <a:latin typeface="Arial"/>
                </a:rPr>
                <a:t>PA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60280" y="1752480"/>
              <a:ext cx="2336760" cy="318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cc"/>
                  </a:solidFill>
                  <a:latin typeface="Arial"/>
                </a:rPr>
                <a:t>TAS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1360" y="1752480"/>
              <a:ext cx="3148920" cy="318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1360" y="1752480"/>
              <a:ext cx="3148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1360" y="6324480"/>
              <a:ext cx="3148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1360" y="1752480"/>
              <a:ext cx="0" cy="31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2280" y="1752480"/>
              <a:ext cx="0" cy="31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60280" y="1752480"/>
              <a:ext cx="23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360" y="207144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97400" y="1752480"/>
              <a:ext cx="2234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32280" y="207144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360" y="234180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2280" y="234180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1360" y="261216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32280" y="261216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360" y="28825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32280" y="28825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" y="315288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32280" y="315288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360" y="369360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32280" y="369360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1360" y="39643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32280" y="39643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1360" y="42343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32280" y="4234320"/>
              <a:ext cx="0" cy="27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1360" y="450468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32280" y="450468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1360" y="504540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32280" y="5045400"/>
              <a:ext cx="0" cy="27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1360" y="531612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32280" y="5316120"/>
              <a:ext cx="0" cy="54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1360" y="5856840"/>
              <a:ext cx="0" cy="46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32280" y="5856840"/>
              <a:ext cx="0" cy="46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280" y="6324480"/>
              <a:ext cx="23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97400" y="6324480"/>
              <a:ext cx="2234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" y="2071440"/>
              <a:ext cx="7720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280" y="1752480"/>
              <a:ext cx="0" cy="457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7400" y="1752480"/>
              <a:ext cx="0" cy="457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495288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Various Exampl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43080"/>
          </a:xfrm>
          <a:prstGeom prst="rect">
            <a:avLst/>
          </a:prstGeom>
          <a:solidFill>
            <a:srgbClr val="eaeaea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pecific Elements of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rew Pairing Problem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7846920" cy="4327560"/>
          </a:xfrm>
          <a:prstGeom prst="rect">
            <a:avLst/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ligh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s x 7 (implicit pairing dur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in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c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ties; Night rests; Connection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 rest time; 8/24 rule;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nstra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 credit/base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/Min of pairing typ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708360" y="5229360"/>
                <a:ext cx="4680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airing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uratio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uties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edits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2:07:35Z</dcterms:created>
  <dc:creator>Jacques Desrosiers</dc:creator>
  <dc:description/>
  <dc:language>en-US</dc:language>
  <cp:lastModifiedBy>Jacques Desrosiers</cp:lastModifiedBy>
  <cp:lastPrinted>2000-05-04T10:40:17Z</cp:lastPrinted>
  <dcterms:modified xsi:type="dcterms:W3CDTF">2003-07-17T00:14:30Z</dcterms:modified>
  <cp:revision>57</cp:revision>
  <dc:subject/>
  <dc:title>CREW SCHEDULING : Past and Future</dc:title>
</cp:coreProperties>
</file>