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png" ContentType="image/png"/>
  <Override PartName="/ppt/media/image2.png" ContentType="image/png"/>
  <Override PartName="/ppt/media/image27.wmf" ContentType="image/x-wmf"/>
  <Override PartName="/ppt/media/image26.wmf" ContentType="image/x-wmf"/>
  <Override PartName="/ppt/media/image15.png" ContentType="image/png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ACC1-E567-4CEE-A82D-1892CE37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807-23D8-48C9-9B1C-C4994153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C2D6-9806-4FCB-98BB-91EBD4B9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C68E-A3A7-47E8-AF81-6DBD6146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6D8E-8371-4AE7-9BCF-4CA8E663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983B-47F1-4F1A-8C3C-E4902C72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A51A-0F6B-43BF-B810-2FF10A1E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67E0-9D1E-4E92-B5FD-A62CC02C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B01C-68AA-45E8-B751-70852857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E7DF-789F-49A0-A71F-DB86CF21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FEB3-C3AD-47F5-8363-91ADB549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228F-C73D-4D93-8335-1CEF37C2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D5B3-10FF-450F-9A14-B63F5E968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07732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Arial"/>
              </a:rPr>
              <a:t>Periodic Airline Fleet Assignment with Time Windows, </a:t>
            </a:r>
            <a:br>
              <a:rPr sz="3600"/>
            </a:br>
            <a:r>
              <a:rPr b="1" i="1" lang="en-US" sz="3600" spc="-1" strike="noStrike">
                <a:solidFill>
                  <a:srgbClr val="990000"/>
                </a:solidFill>
                <a:latin typeface="Arial"/>
              </a:rPr>
              <a:t>Spacing Constraints, </a:t>
            </a:r>
            <a:br>
              <a:rPr sz="3600"/>
            </a:br>
            <a:r>
              <a:rPr b="1" i="1" lang="en-US" sz="3600" spc="-1" strike="noStrike">
                <a:solidFill>
                  <a:srgbClr val="990000"/>
                </a:solidFill>
                <a:latin typeface="Arial"/>
              </a:rPr>
              <a:t>and Time Dependent Revenues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 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38858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colas Bélange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y Desaulnier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nçois Soum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cole Polytechnique de Montréal &amp; GE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Jacques Desrosier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EC Montréal &amp; GER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1C06-D29E-4C2B-8182-876409A888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Mathematical Model</a:t>
            </a: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erms of network flow, departure time and spacing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overing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of each flight exactly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pacing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ynchronizatio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ime window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ime incremental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constraints when using a flow 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inary flow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E06F-D902-44A3-895C-CD12473ED6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12500" t="9140" r="12500" b="4837"/>
          <a:stretch/>
        </p:blipFill>
        <p:spPr>
          <a:xfrm>
            <a:off x="76320" y="380880"/>
            <a:ext cx="8305560" cy="6096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543800" y="457200"/>
                <a:ext cx="1523880" cy="41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D942-FE18-4CBD-8094-CB806276F7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contrast="30000"/>
          </a:blip>
          <a:srcRect l="15656" t="10548" r="30285" b="38172"/>
          <a:stretch/>
        </p:blipFill>
        <p:spPr>
          <a:xfrm>
            <a:off x="228600" y="857160"/>
            <a:ext cx="8610480" cy="5226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DD7D-2C13-4C15-A2D9-0D121D7EE9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Block Angular Structure</a:t>
            </a: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lumn gen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ntzig-Wolfe Decom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et partitioning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spac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synchron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um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 aircraft itinera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generated by a time constrained shortest path problem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ith flow and time variables in the objectiv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oachim et al. (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Itineraries characterized by the 0-1 flight covering binary values and the flight departure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7DC5-9E2F-4A29-B054-B58B927D0F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 Dynamic Programming Algorithm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for the Shortest Path Problem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with Time Windows and Linear Node Costs</a:t>
            </a:r>
            <a:br>
              <a:rPr sz="32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. Ioachim, S. Gélinas, J. Desrosiers, F. Soumis  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Networks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(31), 193-204 (1998)</a:t>
            </a:r>
            <a:endParaRPr b="1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14814" t="35357" r="23150" b="42760"/>
          <a:stretch/>
        </p:blipFill>
        <p:spPr>
          <a:xfrm>
            <a:off x="2819520" y="2286000"/>
            <a:ext cx="5105160" cy="990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rcRect l="9273" t="37039" r="2292" b="27604"/>
          <a:stretch/>
        </p:blipFill>
        <p:spPr>
          <a:xfrm>
            <a:off x="380880" y="3343320"/>
            <a:ext cx="8077320" cy="2905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47920" y="2438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 / 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3352680"/>
            <a:ext cx="83844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B979-DF9F-4A80-82E7-5A61D230F2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The shortest path problem</a:t>
            </a: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674800" y="2286000"/>
                <a:ext cx="373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191120" y="2895480"/>
                <a:ext cx="4698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352680" y="3755880"/>
                <a:ext cx="44316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838080" y="2133720"/>
            <a:ext cx="38124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5791320"/>
            <a:ext cx="38124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562720" y="4800240"/>
            <a:ext cx="838080" cy="1143360"/>
            <a:chOff x="5562720" y="4800240"/>
            <a:chExt cx="838080" cy="1143360"/>
          </a:xfrm>
        </p:grpSpPr>
        <p:grpSp>
          <p:nvGrpSpPr>
            <p:cNvPr id="138" name=""/>
            <p:cNvGrpSpPr/>
            <p:nvPr/>
          </p:nvGrpSpPr>
          <p:grpSpPr>
            <a:xfrm>
              <a:off x="5562720" y="5410080"/>
              <a:ext cx="152280" cy="304560"/>
              <a:chOff x="5562720" y="5410080"/>
              <a:chExt cx="152280" cy="30456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5562720" y="5410080"/>
                <a:ext cx="152280" cy="304560"/>
                <a:chOff x="5562720" y="5410080"/>
                <a:chExt cx="152280" cy="3045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562720" y="541008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562720" y="54100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5562720" y="57146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5867640" y="579132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6248160" y="5408640"/>
              <a:ext cx="152280" cy="306360"/>
              <a:chOff x="6248160" y="5408640"/>
              <a:chExt cx="152280" cy="30636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6248160" y="5408640"/>
                <a:ext cx="152280" cy="304560"/>
                <a:chOff x="6248160" y="5408640"/>
                <a:chExt cx="152280" cy="3045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400440" y="54086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6248160" y="54086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 flipH="1">
                <a:off x="6248160" y="5713560"/>
                <a:ext cx="152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 flipV="1">
              <a:off x="5639040" y="4800240"/>
              <a:ext cx="76176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286000" y="2666880"/>
            <a:ext cx="838080" cy="838080"/>
            <a:chOff x="2286000" y="2666880"/>
            <a:chExt cx="838080" cy="838080"/>
          </a:xfrm>
        </p:grpSpPr>
        <p:grpSp>
          <p:nvGrpSpPr>
            <p:cNvPr id="151" name=""/>
            <p:cNvGrpSpPr/>
            <p:nvPr/>
          </p:nvGrpSpPr>
          <p:grpSpPr>
            <a:xfrm>
              <a:off x="2286000" y="2971800"/>
              <a:ext cx="152280" cy="304560"/>
              <a:chOff x="2286000" y="2971800"/>
              <a:chExt cx="152280" cy="30456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2286000" y="2971800"/>
                <a:ext cx="152280" cy="304560"/>
                <a:chOff x="2286000" y="2971800"/>
                <a:chExt cx="152280" cy="3045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2286000" y="297180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286000" y="29718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2286000" y="3276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2590920" y="33526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2971440" y="2970000"/>
              <a:ext cx="152280" cy="306360"/>
              <a:chOff x="2971440" y="2970000"/>
              <a:chExt cx="152280" cy="30636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2971440" y="2970000"/>
                <a:ext cx="152280" cy="304560"/>
                <a:chOff x="2971440" y="2970000"/>
                <a:chExt cx="152280" cy="3045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123720" y="297000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2971440" y="29700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 flipH="1">
                <a:off x="2971440" y="3274920"/>
                <a:ext cx="152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flipV="1">
              <a:off x="2362320" y="2666880"/>
              <a:ext cx="761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191120" y="3352680"/>
            <a:ext cx="837720" cy="761760"/>
            <a:chOff x="4191120" y="3352680"/>
            <a:chExt cx="837720" cy="761760"/>
          </a:xfrm>
        </p:grpSpPr>
        <p:grpSp>
          <p:nvGrpSpPr>
            <p:cNvPr id="164" name=""/>
            <p:cNvGrpSpPr/>
            <p:nvPr/>
          </p:nvGrpSpPr>
          <p:grpSpPr>
            <a:xfrm>
              <a:off x="4191120" y="3581280"/>
              <a:ext cx="152280" cy="304560"/>
              <a:chOff x="4191120" y="3581280"/>
              <a:chExt cx="152280" cy="30456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4191120" y="3581280"/>
                <a:ext cx="152280" cy="304560"/>
                <a:chOff x="4191120" y="3581280"/>
                <a:chExt cx="152280" cy="3045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4191120" y="3581280"/>
                  <a:ext cx="0" cy="3045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191120" y="3581280"/>
                  <a:ext cx="15228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4191120" y="3885840"/>
                <a:ext cx="15228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4495680" y="396216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4876560" y="3579480"/>
              <a:ext cx="152280" cy="306360"/>
              <a:chOff x="4876560" y="3579480"/>
              <a:chExt cx="152280" cy="30636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4876560" y="3579480"/>
                <a:ext cx="152280" cy="304560"/>
                <a:chOff x="4876560" y="3579480"/>
                <a:chExt cx="152280" cy="3045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028840" y="3579480"/>
                  <a:ext cx="0" cy="3045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>
                  <a:off x="4876560" y="3579480"/>
                  <a:ext cx="15228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 flipH="1">
                <a:off x="4876560" y="3884400"/>
                <a:ext cx="152280" cy="14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flipH="1" flipV="1">
              <a:off x="4191120" y="3352680"/>
              <a:ext cx="76176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066680" y="2438280"/>
            <a:ext cx="1447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19520" y="3505320"/>
            <a:ext cx="16761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4191120"/>
            <a:ext cx="1219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019920" y="4267080"/>
                <a:ext cx="53028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219320" y="2743200"/>
                <a:ext cx="5061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j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324480" y="5943600"/>
                <a:ext cx="5112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d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572000" y="4724280"/>
                <a:ext cx="53820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701C-3EFF-4515-A59D-B524BE2019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Statistics on Test-Problems</a:t>
            </a: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657440" y="1847880"/>
          <a:ext cx="582912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7440" y="1847880"/>
                    <a:ext cx="58291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3A87-D051-4A7B-815C-2A358E7CF3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Time Window Parameter </a:t>
            </a: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For a flight being offered only o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tual departure time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For a flight being offered more than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tual departure ti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267080" y="2604960"/>
                <a:ext cx="12528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×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495520" y="3200400"/>
                <a:ext cx="31608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×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flight duration/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343400" y="4419720"/>
                <a:ext cx="29988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actual spacin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914400" y="5715000"/>
            <a:ext cx="7391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5562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5562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62920" y="5562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91120" y="5500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            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05720" y="55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[        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19320" y="5500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757600" y="1219320"/>
                <a:ext cx="34509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r>
                      <m:t xml:space="preserve">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4D4F-32FB-4525-AD2E-33D14CC5D2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Spacing Penalty</a:t>
            </a: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inimum spac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425840" y="1981080"/>
                <a:ext cx="296568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actual spacin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297160" y="1252440"/>
                <a:ext cx="45291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%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rPr>
                        <m:lit/>
                        <m:nor/>
                      </m:rPr>
                      <m:t xml:space="preserve">  and  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1828800" y="2895480"/>
            <a:ext cx="4572000" cy="0"/>
          </a:xfrm>
          <a:prstGeom prst="line">
            <a:avLst/>
          </a:prstGeom>
          <a:ln w="25560">
            <a:solidFill>
              <a:srgbClr val="0000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25146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Spacing  100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143000" y="2909880"/>
            <a:ext cx="6172200" cy="749160"/>
            <a:chOff x="1143000" y="2909880"/>
            <a:chExt cx="6172200" cy="749160"/>
          </a:xfrm>
        </p:grpSpPr>
        <p:sp>
          <p:nvSpPr>
            <p:cNvPr id="210" name=""/>
            <p:cNvSpPr/>
            <p:nvPr/>
          </p:nvSpPr>
          <p:spPr>
            <a:xfrm>
              <a:off x="1143000" y="344304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48520" y="329076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76520" y="329076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28800" y="3138480"/>
              <a:ext cx="45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       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]                            [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5537160" y="2916000"/>
                  <a:ext cx="93996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1803240" y="2909880"/>
                  <a:ext cx="93996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6" name=""/>
          <p:cNvGrpSpPr/>
          <p:nvPr/>
        </p:nvGrpSpPr>
        <p:grpSpPr>
          <a:xfrm>
            <a:off x="2590920" y="3429000"/>
            <a:ext cx="3200400" cy="795240"/>
            <a:chOff x="2590920" y="3429000"/>
            <a:chExt cx="3200400" cy="795240"/>
          </a:xfrm>
        </p:grpSpPr>
        <p:sp>
          <p:nvSpPr>
            <p:cNvPr id="217" name=""/>
            <p:cNvSpPr/>
            <p:nvPr/>
          </p:nvSpPr>
          <p:spPr>
            <a:xfrm>
              <a:off x="2666880" y="3429000"/>
              <a:ext cx="28195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90920" y="358164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tential spacing reduction 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84 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752480" y="4343400"/>
            <a:ext cx="5562720" cy="2058840"/>
            <a:chOff x="1752480" y="4343400"/>
            <a:chExt cx="5562720" cy="2058840"/>
          </a:xfrm>
        </p:grpSpPr>
        <p:sp>
          <p:nvSpPr>
            <p:cNvPr id="220" name=""/>
            <p:cNvSpPr/>
            <p:nvPr/>
          </p:nvSpPr>
          <p:spPr>
            <a:xfrm>
              <a:off x="2743200" y="57909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743200" y="441936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57600" y="579096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86400" y="579096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81480" y="60339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76720" y="60339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3657600" y="5029200"/>
              <a:ext cx="914400" cy="761760"/>
            </a:xfrm>
            <a:prstGeom prst="line">
              <a:avLst/>
            </a:prstGeom>
            <a:ln cap="rnd" w="2844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3657600" y="4647600"/>
              <a:ext cx="1371600" cy="1143000"/>
            </a:xfrm>
            <a:prstGeom prst="line">
              <a:avLst/>
            </a:prstGeom>
            <a:ln cap="rnd" w="2844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3124080" y="5257800"/>
                  <a:ext cx="914400" cy="28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ν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3886200" y="4647960"/>
                  <a:ext cx="91440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ν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"/>
            <p:cNvSpPr/>
            <p:nvPr/>
          </p:nvSpPr>
          <p:spPr>
            <a:xfrm>
              <a:off x="6095880" y="556236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pa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52480" y="43434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Penal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4572000" y="5791320"/>
            <a:ext cx="0" cy="2286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29200" y="5791320"/>
            <a:ext cx="0" cy="2286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B173-DF1C-4F74-B5DE-3A9E1D8F9A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Branch &amp; Bound Strategies</a:t>
            </a: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he number of airc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Bis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ea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Z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in classical heterogeneous vehicle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y decision on the selection of a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ircraft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y decision on the selection of 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light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523880" y="5114880"/>
          <a:ext cx="5195880" cy="95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5114880"/>
                    <a:ext cx="519588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8" name="" descr=""/>
          <p:cNvPicPr/>
          <p:nvPr/>
        </p:nvPicPr>
        <p:blipFill>
          <a:blip r:embed="rId3"/>
          <a:srcRect l="10155" t="41398" r="14065" b="49736"/>
          <a:stretch/>
        </p:blipFill>
        <p:spPr>
          <a:xfrm>
            <a:off x="685800" y="2590920"/>
            <a:ext cx="748512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6E99-A317-42C0-8D12-7DE09FB6AF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Abstract</a:t>
            </a: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ropose a mathematical model and a solution approach to solve the fleet assignment problem with time windows, periodicity and spacing constrai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posed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rich fleet assignment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rges togeth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du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onents of the airline sequential decis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se latter constraints, one seeks to take into account the profit deterioration coming from the spacing reduction between flights with the same O-D pa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432-4802-4320-8E5D-F464516558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Difficulties on periodicity constraints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nable to detect the infeasibility of a subt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, even though we have on hand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tional solution in terms of the fl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, there exit no integer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nable to complete the exploration of it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finding fractional solutions satisfy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stra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ource of difficulties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et Heterogenei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ight Synchr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0A8D-6981-43AD-9DC6-E9BB9529AA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Fleet Heterogeneity Aspect 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927" t="33675" r="2776" b="9084"/>
          <a:stretch/>
        </p:blipFill>
        <p:spPr>
          <a:xfrm>
            <a:off x="685800" y="1295280"/>
            <a:ext cx="7620120" cy="32241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33520" y="441972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above example, due to previous B&amp;B decision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we need 2 aircraft of different 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&amp;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both the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umber of aircra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at the end of th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3772-6D8A-4E41-A0D5-CBA223E245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Flight Synchronization Aspect</a:t>
            </a: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462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flight that overlaps the horizon boundaries,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departure times on the two node copies must be iden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ractional solu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ear without any possible integer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&amp;B on the time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6055-E80F-489C-9582-929703296A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Computational Results</a:t>
            </a: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693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ime Window 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ircraft Fleet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elected Spac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djusted Profits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&amp;B: First Integer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ptimality Gap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PU Time for Linear Relax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PU Time for First Integer S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Master Problem vs Column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99E3-32C9-449F-B3A7-77F33D005B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Time Windows: </a:t>
            </a:r>
            <a:br>
              <a:rPr sz="4000"/>
            </a:b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Average and Standard Deviation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rcRect l="14652" t="52198" r="15914" b="12453"/>
          <a:stretch/>
        </p:blipFill>
        <p:spPr>
          <a:xfrm>
            <a:off x="380880" y="1523880"/>
            <a:ext cx="830592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BD53-2266-450D-BF2C-BDE66589FB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Aircraft Fleet Size</a:t>
            </a: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684440" y="2206800"/>
          <a:ext cx="5572080" cy="320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4440" y="2206800"/>
                    <a:ext cx="5572080" cy="32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533520" y="1147680"/>
          <a:ext cx="8001000" cy="5056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147680"/>
                    <a:ext cx="800100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4D7F-55F0-4516-89BF-756055F5B9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Average Selected Compression Factor (%) for Spacing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209680" y="2819520"/>
          <a:ext cx="5511960" cy="20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819520"/>
                    <a:ext cx="55119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533520" y="1511280"/>
          <a:ext cx="8089920" cy="4165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511280"/>
                    <a:ext cx="808992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80A0-4E86-42D7-A9AA-0BF7D36D62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Profit Improvements (%) and Spacing Penalties (%)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rcRect l="7077" t="13471" r="8339" b="22553"/>
          <a:stretch/>
        </p:blipFill>
        <p:spPr>
          <a:xfrm>
            <a:off x="380880" y="1735200"/>
            <a:ext cx="8077320" cy="45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F97B-4A94-4C55-8A89-9D67CA75CD1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Adjusted Profits (%) </a:t>
            </a:r>
            <a:br>
              <a:rPr sz="4000"/>
            </a:b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( Data Set II )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895480" y="2854440"/>
          <a:ext cx="4038840" cy="201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854440"/>
                    <a:ext cx="403884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609480" y="1523880"/>
          <a:ext cx="7858080" cy="4438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523880"/>
                    <a:ext cx="7858080" cy="44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4FB9-EA4F-4E5F-9378-A06E8B7A0F7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B&amp;B nodes: </a:t>
            </a:r>
            <a:br>
              <a:rPr sz="4000"/>
            </a:b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First Integer Solution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523880" y="2057400"/>
          <a:ext cx="607716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6077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685800" y="1868400"/>
          <a:ext cx="7924680" cy="3840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868400"/>
                    <a:ext cx="792468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25CB-3CB5-4E17-96DE-80020F3C065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Problem Description</a:t>
            </a: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l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haracterized by a pair of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D s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ime wind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the departure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heterogeneous fle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a scheduling horizon, we seek for the best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ssignment of aircraft types to fligh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well as the determination of                    the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light departure ti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BF44-12F5-4399-80FD-EC5FEB026F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Average Optimality Gap (%)</a:t>
            </a: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286000" y="2971800"/>
          <a:ext cx="4038480" cy="178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971800"/>
                    <a:ext cx="403848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380880" y="1447920"/>
          <a:ext cx="8305920" cy="4724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447920"/>
                    <a:ext cx="83059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7BB3-563D-4FB7-A650-3C2C633547C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CPU (min) : Linear Relaxation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2057400" y="2324160"/>
          <a:ext cx="4038480" cy="262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324160"/>
                    <a:ext cx="4038480" cy="26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533520" y="1523880"/>
          <a:ext cx="8076960" cy="4265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523880"/>
                    <a:ext cx="80769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A32A-E520-4E32-B4EC-639BB8818BC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CPU (hrs) : First Integer Solution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222800" y="3943440"/>
          <a:ext cx="3219480" cy="100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2800" y="3943440"/>
                    <a:ext cx="32194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609480" y="1506600"/>
          <a:ext cx="7925040" cy="382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506600"/>
                    <a:ext cx="792504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77B3-4707-466D-AB24-881005E9D61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CPU Time </a:t>
            </a: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514600" y="2625840"/>
          <a:ext cx="4572000" cy="279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625840"/>
                    <a:ext cx="4572000" cy="27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80880" y="1496880"/>
          <a:ext cx="8305920" cy="4294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496880"/>
                    <a:ext cx="8305920" cy="42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B006-05C8-44AF-A1A8-27208DB0BAD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onclusions </a:t>
            </a:r>
            <a:br>
              <a:rPr sz="3600"/>
            </a:b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on this Difficult Problem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ime window flexibility with time dependent 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mportant reduction of the number of aircra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an increase (or a slight deterioration) of the pro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lected spacing is close to the actual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creasing flexibility makes B&amp;B more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with integrality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fficiency of the column genera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eudo-polynomial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ster problem cpu time dominates larg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ineraries with binary covering coefficients and departure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LP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coefficients for spacing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s with coefficient of different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research on acceleration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1F98-2F52-4C0C-9680-58861298768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Objective Function</a:t>
            </a: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inimize the total number of air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aximize total pro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rof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 flight depends on th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ircraft 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selected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eparture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egative impact for a short spac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departure times of two consecutive flights serving the same O-D s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8D9E-2BC1-45DC-AAD7-7F95314D8B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04920" y="1980720"/>
            <a:ext cx="8381160" cy="2778480"/>
            <a:chOff x="304920" y="1980720"/>
            <a:chExt cx="8381160" cy="2778480"/>
          </a:xfrm>
        </p:grpSpPr>
        <p:sp>
          <p:nvSpPr>
            <p:cNvPr id="50" name=""/>
            <p:cNvSpPr/>
            <p:nvPr/>
          </p:nvSpPr>
          <p:spPr>
            <a:xfrm>
              <a:off x="943200" y="3241440"/>
              <a:ext cx="73436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3   B4                                                                                B7                  B8                                              B10     B11             B1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1           B2                                                            B5    B6                                                                                B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43200" y="2347200"/>
              <a:ext cx="76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43200" y="3445200"/>
              <a:ext cx="76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43200" y="4543560"/>
              <a:ext cx="76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/>
            <p:nvPr/>
          </p:nvCxnSpPr>
          <p:spPr>
            <a:xfrm>
              <a:off x="1022760" y="2347200"/>
              <a:ext cx="559080" cy="109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/>
            <p:nvPr/>
          </p:nvCxnSpPr>
          <p:spPr>
            <a:xfrm>
              <a:off x="1741320" y="2346840"/>
              <a:ext cx="1277640" cy="219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" name=""/>
            <p:cNvCxnSpPr/>
            <p:nvPr/>
          </p:nvCxnSpPr>
          <p:spPr>
            <a:xfrm>
              <a:off x="2938680" y="2347200"/>
              <a:ext cx="559080" cy="109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" name=""/>
            <p:cNvCxnSpPr/>
            <p:nvPr/>
          </p:nvCxnSpPr>
          <p:spPr>
            <a:xfrm>
              <a:off x="3417480" y="2346840"/>
              <a:ext cx="1277640" cy="219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/>
            <p:nvPr/>
          </p:nvCxnSpPr>
          <p:spPr>
            <a:xfrm flipV="1">
              <a:off x="1182600" y="2347200"/>
              <a:ext cx="1596960" cy="109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/>
            <p:nvPr/>
          </p:nvCxnSpPr>
          <p:spPr>
            <a:xfrm flipV="1">
              <a:off x="3736800" y="2347200"/>
              <a:ext cx="1597320" cy="109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/>
            <p:nvPr/>
          </p:nvCxnSpPr>
          <p:spPr>
            <a:xfrm flipV="1">
              <a:off x="6291720" y="2347200"/>
              <a:ext cx="1596960" cy="109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" name=""/>
            <p:cNvCxnSpPr/>
            <p:nvPr/>
          </p:nvCxnSpPr>
          <p:spPr>
            <a:xfrm>
              <a:off x="1741680" y="3445200"/>
              <a:ext cx="399600" cy="109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/>
            <p:nvPr/>
          </p:nvCxnSpPr>
          <p:spPr>
            <a:xfrm>
              <a:off x="1981080" y="3445200"/>
              <a:ext cx="399600" cy="109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/>
            <p:nvPr/>
          </p:nvCxnSpPr>
          <p:spPr>
            <a:xfrm>
              <a:off x="6770880" y="3445200"/>
              <a:ext cx="399600" cy="109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/>
            <p:nvPr/>
          </p:nvCxnSpPr>
          <p:spPr>
            <a:xfrm>
              <a:off x="4215600" y="390240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5" name=""/>
            <p:cNvCxnSpPr/>
            <p:nvPr/>
          </p:nvCxnSpPr>
          <p:spPr>
            <a:xfrm flipH="1">
              <a:off x="1501920" y="2346840"/>
              <a:ext cx="2315520" cy="219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66" name=""/>
            <p:cNvCxnSpPr/>
            <p:nvPr/>
          </p:nvCxnSpPr>
          <p:spPr>
            <a:xfrm flipV="1">
              <a:off x="3417840" y="3445200"/>
              <a:ext cx="1117800" cy="109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" name=""/>
            <p:cNvCxnSpPr/>
            <p:nvPr/>
          </p:nvCxnSpPr>
          <p:spPr>
            <a:xfrm flipV="1">
              <a:off x="4136400" y="3445200"/>
              <a:ext cx="1117800" cy="109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/>
            <p:nvPr/>
          </p:nvCxnSpPr>
          <p:spPr>
            <a:xfrm flipV="1">
              <a:off x="5972400" y="3445200"/>
              <a:ext cx="1117800" cy="109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/>
            <p:nvPr/>
          </p:nvCxnSpPr>
          <p:spPr>
            <a:xfrm flipV="1">
              <a:off x="6610320" y="3445200"/>
              <a:ext cx="1118160" cy="109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70" name=""/>
            <p:cNvGrpSpPr/>
            <p:nvPr/>
          </p:nvGrpSpPr>
          <p:grpSpPr>
            <a:xfrm>
              <a:off x="913320" y="1980720"/>
              <a:ext cx="7692840" cy="366480"/>
              <a:chOff x="913320" y="1980720"/>
              <a:chExt cx="7692840" cy="366480"/>
            </a:xfrm>
          </p:grpSpPr>
          <p:cxnSp>
            <p:nvCxnSpPr>
              <p:cNvPr id="71" name=""/>
              <p:cNvCxnSpPr/>
              <p:nvPr/>
            </p:nvCxnSpPr>
            <p:spPr>
              <a:xfrm flipV="1" rot="16200000">
                <a:off x="5803560" y="-456120"/>
                <a:ext cx="366480" cy="5239440"/>
              </a:xfrm>
              <a:prstGeom prst="bentConnector3">
                <a:avLst>
                  <a:gd name="adj1" fmla="val 0"/>
                </a:avLst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cxnSp>
            <p:nvCxnSpPr>
              <p:cNvPr id="72" name=""/>
              <p:cNvCxnSpPr/>
              <p:nvPr/>
            </p:nvCxnSpPr>
            <p:spPr>
              <a:xfrm flipV="1" rot="10800000">
                <a:off x="942480" y="1980720"/>
                <a:ext cx="3050280" cy="366480"/>
              </a:xfrm>
              <a:prstGeom prst="bentConnector3">
                <a:avLst>
                  <a:gd name="adj1" fmla="val 100956"/>
                </a:avLst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</p:grpSp>
        <p:grpSp>
          <p:nvGrpSpPr>
            <p:cNvPr id="73" name=""/>
            <p:cNvGrpSpPr/>
            <p:nvPr/>
          </p:nvGrpSpPr>
          <p:grpSpPr>
            <a:xfrm>
              <a:off x="913320" y="3078720"/>
              <a:ext cx="7692840" cy="366480"/>
              <a:chOff x="913320" y="3078720"/>
              <a:chExt cx="7692840" cy="366480"/>
            </a:xfrm>
          </p:grpSpPr>
          <p:cxnSp>
            <p:nvCxnSpPr>
              <p:cNvPr id="74" name=""/>
              <p:cNvCxnSpPr/>
              <p:nvPr/>
            </p:nvCxnSpPr>
            <p:spPr>
              <a:xfrm flipV="1" rot="16200000">
                <a:off x="5803560" y="641880"/>
                <a:ext cx="366480" cy="5239440"/>
              </a:xfrm>
              <a:prstGeom prst="bentConnector3">
                <a:avLst>
                  <a:gd name="adj1" fmla="val 0"/>
                </a:avLst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cxnSp>
            <p:nvCxnSpPr>
              <p:cNvPr id="75" name=""/>
              <p:cNvCxnSpPr/>
              <p:nvPr/>
            </p:nvCxnSpPr>
            <p:spPr>
              <a:xfrm flipV="1" rot="10800000">
                <a:off x="942480" y="3078720"/>
                <a:ext cx="3050280" cy="366480"/>
              </a:xfrm>
              <a:prstGeom prst="bentConnector3">
                <a:avLst>
                  <a:gd name="adj1" fmla="val 100956"/>
                </a:avLst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</p:grpSp>
        <p:grpSp>
          <p:nvGrpSpPr>
            <p:cNvPr id="76" name=""/>
            <p:cNvGrpSpPr/>
            <p:nvPr/>
          </p:nvGrpSpPr>
          <p:grpSpPr>
            <a:xfrm>
              <a:off x="913320" y="4177080"/>
              <a:ext cx="7692840" cy="366480"/>
              <a:chOff x="913320" y="4177080"/>
              <a:chExt cx="7692840" cy="366480"/>
            </a:xfrm>
          </p:grpSpPr>
          <p:cxnSp>
            <p:nvCxnSpPr>
              <p:cNvPr id="77" name=""/>
              <p:cNvCxnSpPr/>
              <p:nvPr/>
            </p:nvCxnSpPr>
            <p:spPr>
              <a:xfrm flipV="1" rot="16200000">
                <a:off x="5803560" y="1740240"/>
                <a:ext cx="366480" cy="5239440"/>
              </a:xfrm>
              <a:prstGeom prst="bentConnector3">
                <a:avLst>
                  <a:gd name="adj1" fmla="val 0"/>
                </a:avLst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cxnSp>
            <p:nvCxnSpPr>
              <p:cNvPr id="78" name=""/>
              <p:cNvCxnSpPr/>
              <p:nvPr/>
            </p:nvCxnSpPr>
            <p:spPr>
              <a:xfrm flipV="1" rot="10800000">
                <a:off x="942480" y="4177080"/>
                <a:ext cx="3050280" cy="366480"/>
              </a:xfrm>
              <a:prstGeom prst="bentConnector3">
                <a:avLst>
                  <a:gd name="adj1" fmla="val 100956"/>
                </a:avLst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</p:grpSp>
        <p:sp>
          <p:nvSpPr>
            <p:cNvPr id="79" name=""/>
            <p:cNvSpPr/>
            <p:nvPr/>
          </p:nvSpPr>
          <p:spPr>
            <a:xfrm>
              <a:off x="1342080" y="4543560"/>
              <a:ext cx="7344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1                C2    C3                 C4           C5                   C6              C7                                      C8                 C9           C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63280" y="2089800"/>
              <a:ext cx="7344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1                   A2                            A3   A4        A5         A6                                              A7                                                                                A8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920" y="4086000"/>
              <a:ext cx="47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2988000"/>
              <a:ext cx="47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920" y="1998360"/>
              <a:ext cx="47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7467480" y="1523880"/>
            <a:ext cx="0" cy="3429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600200"/>
            <a:ext cx="6400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7600" y="1069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97920" y="1069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50320" y="121932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Time 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523880"/>
            <a:ext cx="0" cy="3429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8672-4231-4972-BC74-A9D96BB3BD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24460" t="13540" r="31079" b="10934"/>
          <a:stretch/>
        </p:blipFill>
        <p:spPr>
          <a:xfrm>
            <a:off x="3719520" y="533520"/>
            <a:ext cx="4510080" cy="5562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181480" y="1752480"/>
            <a:ext cx="76212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1371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[      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1371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[      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5195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[        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3200" y="2274840"/>
            <a:ext cx="266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ime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pa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81E-7C4D-49B3-8D97-3335171D19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Literature Review</a:t>
            </a: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ixed schedule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ara (1989), Subramanian et al. (1994), Hane et al.(1995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ulti-commodity network flow formulation solved by B&amp;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ixed schedules + maintenance constrai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rnhart et al. (1998a,b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t partitioning model solved by B&amp;B and column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lumn generator is a shortest path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ime windows on departure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aulniers et al. (19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n linear multi-commodity network flow 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&amp;B and column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lumn generator is a time constrained shortest path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xing (2000), Levin (197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scretization of the time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9BC1-4168-4A51-9339-9E026B6FD5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23091" t="9669" r="27447" b="4034"/>
          <a:stretch/>
        </p:blipFill>
        <p:spPr>
          <a:xfrm>
            <a:off x="3772080" y="228600"/>
            <a:ext cx="4991040" cy="6324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267080" y="2743200"/>
            <a:ext cx="19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ight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412920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ival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1295280"/>
            <a:ext cx="19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arture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8880" y="3809880"/>
            <a:ext cx="2286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86600" y="4800600"/>
            <a:ext cx="2286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838080"/>
            <a:ext cx="2286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7761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[       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34320" y="3747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[       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838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[       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2895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[       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1600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[       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81680" y="4738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[       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5053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57294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+  special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3733920" cy="29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Network </a:t>
            </a:r>
            <a:r>
              <a:rPr b="1" i="1" lang="en-US" sz="4400" spc="-1" strike="noStrike">
                <a:solidFill>
                  <a:srgbClr val="990000"/>
                </a:solidFill>
                <a:latin typeface="Arial"/>
              </a:rPr>
              <a:t>G</a:t>
            </a:r>
            <a:r>
              <a:rPr b="1" i="1" lang="en-US" sz="4400" spc="-1" strike="noStrike" baseline="30000">
                <a:solidFill>
                  <a:srgbClr val="990000"/>
                </a:solidFill>
                <a:latin typeface="Arial"/>
              </a:rPr>
              <a:t>k</a:t>
            </a:r>
            <a:r>
              <a:rPr b="1" i="1" lang="en-US" sz="4400" spc="-1" strike="noStrike">
                <a:solidFill>
                  <a:srgbClr val="990000"/>
                </a:solidFill>
                <a:latin typeface="Arial"/>
              </a:rPr>
              <a:t>=(N</a:t>
            </a:r>
            <a:r>
              <a:rPr b="1" i="1" lang="en-US" sz="4400" spc="-1" strike="noStrike" baseline="30000">
                <a:solidFill>
                  <a:srgbClr val="990000"/>
                </a:solidFill>
                <a:latin typeface="Arial"/>
              </a:rPr>
              <a:t>k</a:t>
            </a:r>
            <a:r>
              <a:rPr b="1" i="1" lang="en-US" sz="4400" spc="-1" strike="noStrike">
                <a:solidFill>
                  <a:srgbClr val="990000"/>
                </a:solidFill>
                <a:latin typeface="Arial"/>
              </a:rPr>
              <a:t>, A</a:t>
            </a:r>
            <a:r>
              <a:rPr b="1" i="1" lang="en-US" sz="4400" spc="-1" strike="noStrike" baseline="30000">
                <a:solidFill>
                  <a:srgbClr val="990000"/>
                </a:solidFill>
                <a:latin typeface="Arial"/>
              </a:rPr>
              <a:t>k</a:t>
            </a:r>
            <a:r>
              <a:rPr b="1" i="1" lang="en-US" sz="4400" spc="-1" strike="noStrike">
                <a:solidFill>
                  <a:srgbClr val="990000"/>
                </a:solidFill>
                <a:latin typeface="Arial"/>
              </a:rPr>
              <a:t>)</a:t>
            </a: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 for aircraft </a:t>
            </a:r>
            <a:r>
              <a:rPr b="1" i="1" lang="en-US" sz="4400" spc="-1" strike="noStrike">
                <a:solidFill>
                  <a:srgbClr val="990000"/>
                </a:solidFill>
                <a:latin typeface="Arial"/>
              </a:rPr>
              <a:t>k</a:t>
            </a: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508B-4912-4DA3-B0B2-C68FF05A21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A Non Linear Multi-commodity Flow Model with Time Variables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7524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low variab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rcs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fits and du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ime variab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nodes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ime windows and penal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ime variab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the spacing out between consecutive flights serving the same O-D pair of c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E669-B641-4083-ADB2-D606448390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9T22:21:16Z</dcterms:created>
  <dc:creator>Jacques Desrosiers</dc:creator>
  <dc:description/>
  <dc:language>en-US</dc:language>
  <cp:lastModifiedBy>Jacques Desrosiers</cp:lastModifiedBy>
  <dcterms:modified xsi:type="dcterms:W3CDTF">2003-06-19T15:21:53Z</dcterms:modified>
  <cp:revision>68</cp:revision>
  <dc:subject/>
  <dc:title>Periodic Airline Fleet Assignment with Time Windows and Spacing Constraints </dc:title>
</cp:coreProperties>
</file>