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908-78CD-44F6-8B8C-4B793475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CFB-1186-45D3-ABF0-487DBFF8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290-6066-4A11-A1B0-353064EA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D8A-800C-4ADF-B602-0C66C05F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04F-E307-475C-88F1-E9FFD8C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FD0-735F-444C-A3F9-461BA512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0A9-3C64-4BB4-A948-F2D6D9DD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7F6-4ED3-43B1-B5CC-143A7FC5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B3E-08D9-4C39-A724-5EB8DB77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585-7999-45B1-A674-C175EB3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81A-2495-42E1-BA88-D5A5DF0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31C-A2A6-49A0-AE85-07291D1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538-E2FC-4C88-B8CA-74385109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276720"/>
            <a:ext cx="3962520" cy="23619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5639040" cy="19810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line Fleet Assignment with Homogeneity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3581280"/>
            <a:ext cx="3962520" cy="129564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3581280"/>
            <a:ext cx="3962160" cy="1752840"/>
          </a:xfrm>
          <a:prstGeom prst="rect">
            <a:avLst/>
          </a:prstGeom>
          <a:solidFill>
            <a:srgbClr val="ffff66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acques Desros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HEC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GE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réal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FIT  =  REVENUES - COS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3429000"/>
            <a:ext cx="5105160" cy="1828800"/>
          </a:xfrm>
          <a:prstGeom prst="rect">
            <a:avLst/>
          </a:prstGeom>
          <a:solidFill>
            <a:srgbClr val="cc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ircraft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stance between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rection (East/West wi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1143000"/>
            <a:ext cx="6858000" cy="2971800"/>
            <a:chOff x="533520" y="1143000"/>
            <a:chExt cx="6858000" cy="2971800"/>
          </a:xfrm>
        </p:grpSpPr>
        <p:sp>
          <p:nvSpPr>
            <p:cNvPr id="121" name=""/>
            <p:cNvSpPr/>
            <p:nvPr/>
          </p:nvSpPr>
          <p:spPr>
            <a:xfrm>
              <a:off x="533520" y="2743200"/>
              <a:ext cx="2971800" cy="13716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ost of a le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s a function o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666880" y="1143000"/>
              <a:ext cx="472464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8DC-1A9E-4FA4-8BFF-A0290129A0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609480"/>
            <a:ext cx="7162560" cy="2971800"/>
          </a:xfrm>
          <a:prstGeom prst="rect">
            <a:avLst/>
          </a:prstGeom>
          <a:solidFill>
            <a:srgbClr val="ffff66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posed model u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passenger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passenger rou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n be readj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y using an external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038480"/>
            <a:ext cx="7086600" cy="1143000"/>
          </a:xfrm>
          <a:prstGeom prst="rect">
            <a:avLst/>
          </a:prstGeom>
          <a:solidFill>
            <a:srgbClr val="cc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enues from assigning an aircraft to a le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evaluated by a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pre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BAC-D766-4A53-8247-B2C5B49298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3200400"/>
            <a:ext cx="3505320" cy="685800"/>
          </a:xfrm>
          <a:prstGeom prst="rect">
            <a:avLst/>
          </a:prstGeom>
          <a:solidFill>
            <a:srgbClr val="cc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133720"/>
            <a:ext cx="6858000" cy="6858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ngle flight or a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819520"/>
            <a:ext cx="7162560" cy="2743200"/>
            <a:chOff x="533520" y="2819520"/>
            <a:chExt cx="7162560" cy="2743200"/>
          </a:xfrm>
        </p:grpSpPr>
        <p:sp>
          <p:nvSpPr>
            <p:cNvPr id="129" name=""/>
            <p:cNvSpPr/>
            <p:nvPr/>
          </p:nvSpPr>
          <p:spPr>
            <a:xfrm>
              <a:off x="1600200" y="4876920"/>
              <a:ext cx="6095880" cy="68580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Easy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to include into the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520" y="2819520"/>
              <a:ext cx="2057400" cy="1904760"/>
            </a:xfrm>
            <a:prstGeom prst="line">
              <a:avLst/>
            </a:prstGeom>
            <a:ln w="7632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543-9AC4-4D3D-9D5F-24A8040537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200400"/>
            <a:ext cx="3505320" cy="685800"/>
          </a:xfrm>
          <a:prstGeom prst="rect">
            <a:avLst/>
          </a:prstGeom>
          <a:solidFill>
            <a:srgbClr val="cc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133720"/>
            <a:ext cx="6858000" cy="6858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ngle flight or a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600200" y="3886200"/>
            <a:ext cx="6095880" cy="1676520"/>
            <a:chOff x="1600200" y="3886200"/>
            <a:chExt cx="6095880" cy="1676520"/>
          </a:xfrm>
        </p:grpSpPr>
        <p:sp>
          <p:nvSpPr>
            <p:cNvPr id="135" name=""/>
            <p:cNvSpPr/>
            <p:nvPr/>
          </p:nvSpPr>
          <p:spPr>
            <a:xfrm>
              <a:off x="1600200" y="4876920"/>
              <a:ext cx="6095880" cy="68580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More difficult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to include into the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581280" y="3886200"/>
              <a:ext cx="1371600" cy="9907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355-D557-4203-A8FC-29BB580B2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886200"/>
            <a:ext cx="6858000" cy="6094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nalty on short connections to improve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133720"/>
            <a:ext cx="6858000" cy="6858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ngle flight or a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876920"/>
            <a:ext cx="6095880" cy="68580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Easy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o include into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048120"/>
            <a:ext cx="8001000" cy="6094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ferences on aircraft type for ground service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5BF-36C9-400B-AE28-5F856674AF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200400"/>
            <a:ext cx="3505320" cy="685800"/>
          </a:xfrm>
          <a:prstGeom prst="rect">
            <a:avLst/>
          </a:prstGeom>
          <a:solidFill>
            <a:srgbClr val="cc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4876920"/>
            <a:ext cx="6095880" cy="68580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ore difficul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o include into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981080"/>
            <a:ext cx="4495680" cy="17528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geneity of aircraft type for a flight number over a wee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reduces ground service costs   and improves custom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309-2792-42B0-B7D7-1BA50114E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ime-space Network for Aircraft Type 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2819520"/>
            <a:ext cx="3047760" cy="685800"/>
            <a:chOff x="1676520" y="2819520"/>
            <a:chExt cx="3047760" cy="685800"/>
          </a:xfrm>
        </p:grpSpPr>
        <p:sp>
          <p:nvSpPr>
            <p:cNvPr id="149" name=""/>
            <p:cNvSpPr/>
            <p:nvPr/>
          </p:nvSpPr>
          <p:spPr>
            <a:xfrm>
              <a:off x="1676520" y="281952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32004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2971800"/>
              <a:ext cx="24386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76520" y="4038480"/>
            <a:ext cx="3047760" cy="990720"/>
            <a:chOff x="1676520" y="4038480"/>
            <a:chExt cx="3047760" cy="990720"/>
          </a:xfrm>
        </p:grpSpPr>
        <p:sp>
          <p:nvSpPr>
            <p:cNvPr id="153" name=""/>
            <p:cNvSpPr/>
            <p:nvPr/>
          </p:nvSpPr>
          <p:spPr>
            <a:xfrm>
              <a:off x="1676520" y="40384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47242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2880" y="4192560"/>
              <a:ext cx="2439720" cy="68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19720" y="3886200"/>
            <a:ext cx="3047760" cy="685800"/>
            <a:chOff x="4419720" y="3886200"/>
            <a:chExt cx="3047760" cy="685800"/>
          </a:xfrm>
        </p:grpSpPr>
        <p:sp>
          <p:nvSpPr>
            <p:cNvPr id="157" name=""/>
            <p:cNvSpPr/>
            <p:nvPr/>
          </p:nvSpPr>
          <p:spPr>
            <a:xfrm>
              <a:off x="4419720" y="38862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42670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24280" y="4038480"/>
              <a:ext cx="24386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19720" y="5181480"/>
            <a:ext cx="3047760" cy="609840"/>
            <a:chOff x="4419720" y="5181480"/>
            <a:chExt cx="3047760" cy="609840"/>
          </a:xfrm>
        </p:grpSpPr>
        <p:sp>
          <p:nvSpPr>
            <p:cNvPr id="161" name=""/>
            <p:cNvSpPr/>
            <p:nvPr/>
          </p:nvSpPr>
          <p:spPr>
            <a:xfrm>
              <a:off x="4419720" y="51814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2920" y="54864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5334120"/>
              <a:ext cx="2438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315200" y="2514600"/>
            <a:ext cx="0" cy="3657600"/>
            <a:chOff x="7315200" y="2514600"/>
            <a:chExt cx="0" cy="3657600"/>
          </a:xfrm>
        </p:grpSpPr>
        <p:sp>
          <p:nvSpPr>
            <p:cNvPr id="165" name=""/>
            <p:cNvSpPr/>
            <p:nvPr/>
          </p:nvSpPr>
          <p:spPr>
            <a:xfrm>
              <a:off x="7315200" y="2514600"/>
              <a:ext cx="0" cy="1752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4572000"/>
              <a:ext cx="0" cy="9144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5791320"/>
              <a:ext cx="0" cy="3808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2000" y="2514600"/>
            <a:ext cx="0" cy="3657600"/>
            <a:chOff x="4572000" y="2514600"/>
            <a:chExt cx="0" cy="3657600"/>
          </a:xfrm>
        </p:grpSpPr>
        <p:sp>
          <p:nvSpPr>
            <p:cNvPr id="169" name=""/>
            <p:cNvSpPr/>
            <p:nvPr/>
          </p:nvSpPr>
          <p:spPr>
            <a:xfrm>
              <a:off x="4572000" y="5486400"/>
              <a:ext cx="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4191120"/>
              <a:ext cx="0" cy="5331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0" y="3505320"/>
              <a:ext cx="0" cy="3808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2514600"/>
              <a:ext cx="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28800" y="2514600"/>
            <a:ext cx="0" cy="3657600"/>
            <a:chOff x="1828800" y="2514600"/>
            <a:chExt cx="0" cy="3657600"/>
          </a:xfrm>
        </p:grpSpPr>
        <p:sp>
          <p:nvSpPr>
            <p:cNvPr id="175" name=""/>
            <p:cNvSpPr/>
            <p:nvPr/>
          </p:nvSpPr>
          <p:spPr>
            <a:xfrm>
              <a:off x="1828800" y="2514600"/>
              <a:ext cx="0" cy="3049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800" y="3124080"/>
              <a:ext cx="0" cy="9144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800" y="4343400"/>
              <a:ext cx="0" cy="1828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416560" y="3429000"/>
                <a:ext cx="679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89280" y="3129120"/>
                <a:ext cx="101592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685800" y="3981600"/>
            <a:ext cx="7772400" cy="706320"/>
            <a:chOff x="685800" y="3981600"/>
            <a:chExt cx="7772400" cy="706320"/>
          </a:xfrm>
        </p:grpSpPr>
        <p:sp>
          <p:nvSpPr>
            <p:cNvPr id="181" name=""/>
            <p:cNvSpPr/>
            <p:nvPr/>
          </p:nvSpPr>
          <p:spPr>
            <a:xfrm>
              <a:off x="990720" y="4648320"/>
              <a:ext cx="7467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85800" y="3981600"/>
                  <a:ext cx="7938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10080" y="2286000"/>
                <a:ext cx="1198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2FC-A203-4DC9-9A5B-A9F28B8D36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7909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nteger Variabl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19051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variab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666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nd variab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35053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craft numbe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1676520"/>
            <a:ext cx="1198440" cy="3276360"/>
            <a:chOff x="685800" y="1676520"/>
            <a:chExt cx="1198440" cy="327636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90480" y="1676520"/>
                  <a:ext cx="7509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90480" y="2438280"/>
                  <a:ext cx="10159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,</m:t>
                              </m:r>
                            </m:sup>
                          </m:sSup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685800" y="3297240"/>
                  <a:ext cx="79380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85800" y="4038480"/>
                  <a:ext cx="11984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" name=""/>
          <p:cNvSpPr/>
          <p:nvPr/>
        </p:nvSpPr>
        <p:spPr>
          <a:xfrm>
            <a:off x="2057400" y="42670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inant aircraft typ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2120" y="4952880"/>
                <a:ext cx="723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057400" y="502920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on) homogeneity variab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509-4688-434E-8713-66A642D41A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thematical Mode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1219320"/>
                <a:ext cx="5146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l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 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57200" y="3276720"/>
            <a:ext cx="2743200" cy="1371600"/>
          </a:xfrm>
          <a:prstGeom prst="wedgeEllipseCallout">
            <a:avLst>
              <a:gd name="adj1" fmla="val 27199"/>
              <a:gd name="adj2" fmla="val -143981"/>
            </a:avLst>
          </a:prstGeom>
          <a:solidFill>
            <a:srgbClr val="ffff99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fit per leg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er aircraft type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3581280"/>
            <a:ext cx="4267080" cy="685800"/>
          </a:xfrm>
          <a:prstGeom prst="wedgeEllipseCallout">
            <a:avLst>
              <a:gd name="adj1" fmla="val -36050"/>
              <a:gd name="adj2" fmla="val -294444"/>
            </a:avLst>
          </a:prstGeom>
          <a:solidFill>
            <a:srgbClr val="ccff66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cost per aircraft type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4952880"/>
            <a:ext cx="5715000" cy="685800"/>
          </a:xfrm>
          <a:prstGeom prst="wedgeEllipseCallout">
            <a:avLst>
              <a:gd name="adj1" fmla="val -583"/>
              <a:gd name="adj2" fmla="val -486111"/>
            </a:avLst>
          </a:prstGeom>
          <a:solidFill>
            <a:srgbClr val="eaeaea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alty factor for non-hom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D16-95B6-4955-BE06-8EA710EF7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thematical Mode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19320" y="2133720"/>
                <a:ext cx="26701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114800" y="3657600"/>
            <a:ext cx="4191120" cy="990720"/>
          </a:xfrm>
          <a:prstGeom prst="wedgeRoundRectCallout">
            <a:avLst>
              <a:gd name="adj1" fmla="val -77726"/>
              <a:gd name="adj2" fmla="val -137337"/>
              <a:gd name="adj3" fmla="val 16667"/>
            </a:avLst>
          </a:prstGeom>
          <a:solidFill>
            <a:srgbClr val="ccff66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on of an aircraft typ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ach le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892-23A0-4F8D-A112-B95BCD503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48006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LLABORA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362320"/>
            <a:ext cx="3657600" cy="3276360"/>
          </a:xfrm>
          <a:prstGeom prst="rect">
            <a:avLst/>
          </a:prstGeom>
          <a:solidFill>
            <a:srgbClr val="f8f8f8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colas Bél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uy Desauln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nçois Soum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Times New Roman"/>
              </a:rPr>
              <a:t>GER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3200400"/>
            <a:ext cx="3733920" cy="2209680"/>
          </a:xfrm>
          <a:prstGeom prst="rect">
            <a:avLst/>
          </a:prstGeom>
          <a:solidFill>
            <a:srgbClr val="ffff66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ne Lavig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Air Cana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F0F-38F5-4761-AA24-21B22C03E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thematical Mode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60640" y="2890800"/>
                <a:ext cx="3487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809880" y="1600200"/>
            <a:ext cx="4648320" cy="1143000"/>
          </a:xfrm>
          <a:prstGeom prst="wedgeRoundRectCallout">
            <a:avLst>
              <a:gd name="adj1" fmla="val -69671"/>
              <a:gd name="adj2" fmla="val 77638"/>
              <a:gd name="adj3" fmla="val 16667"/>
            </a:avLst>
          </a:prstGeom>
          <a:solidFill>
            <a:srgbClr val="ccff66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on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ant aircraft typ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ach flight numb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705-0938-4C2E-81FD-774E8F35FD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thematical Mode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9960" y="3792600"/>
                <a:ext cx="49431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≥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819520" y="1523880"/>
            <a:ext cx="5105160" cy="1143000"/>
          </a:xfrm>
          <a:prstGeom prst="wedgeRoundRectCallout">
            <a:avLst>
              <a:gd name="adj1" fmla="val -47388"/>
              <a:gd name="adj2" fmla="val 142638"/>
              <a:gd name="adj3" fmla="val 16667"/>
            </a:avLst>
          </a:prstGeom>
          <a:solidFill>
            <a:srgbClr val="ccff66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ation for non-hom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ach aircraft typ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for each le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648-D8A7-417E-B5AD-AC02B3F690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thematical Mode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72428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Conserva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aft Coun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362320"/>
            <a:ext cx="3886200" cy="838080"/>
          </a:xfrm>
          <a:prstGeom prst="wedgeRoundRectCallout">
            <a:avLst>
              <a:gd name="adj1" fmla="val -67648"/>
              <a:gd name="adj2" fmla="val 210416"/>
              <a:gd name="adj3" fmla="val 16667"/>
            </a:avLst>
          </a:prstGeom>
          <a:solidFill>
            <a:srgbClr val="ccff66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ining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F4B-F8BD-4AAD-BFE8-1DB9B69276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838080" y="1143000"/>
                <a:ext cx="5146920" cy="371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k</m:t>
                                            </m:r>
                                          </m:sup>
                                        </m:sSubSup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k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 </m:t>
                                        </m:r>
                                        <m:sSub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k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thematical Mode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72428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Conserva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aft Coun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AD6-0701-4A68-87AE-E4B8A15FB7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LUTION APPROACH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3520" y="1370160"/>
            <a:ext cx="4039560" cy="1982520"/>
            <a:chOff x="533520" y="1370160"/>
            <a:chExt cx="4039560" cy="1982520"/>
          </a:xfrm>
        </p:grpSpPr>
        <p:sp>
          <p:nvSpPr>
            <p:cNvPr id="218" name=""/>
            <p:cNvSpPr/>
            <p:nvPr/>
          </p:nvSpPr>
          <p:spPr>
            <a:xfrm>
              <a:off x="533520" y="2362320"/>
              <a:ext cx="2286000" cy="99036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IRE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90560" y="1370160"/>
              <a:ext cx="1982520" cy="9889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72000" y="1371600"/>
            <a:ext cx="3809880" cy="3276720"/>
            <a:chOff x="4572000" y="1371600"/>
            <a:chExt cx="3809880" cy="3276720"/>
          </a:xfrm>
        </p:grpSpPr>
        <p:sp>
          <p:nvSpPr>
            <p:cNvPr id="221" name=""/>
            <p:cNvSpPr/>
            <p:nvPr/>
          </p:nvSpPr>
          <p:spPr>
            <a:xfrm>
              <a:off x="4572000" y="1371600"/>
              <a:ext cx="213372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00800" y="3200400"/>
              <a:ext cx="1981080" cy="144792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WO PHAS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CF0-EE5D-4331-9415-67E10DCBD0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LUTION APPROACH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362320"/>
            <a:ext cx="2286000" cy="990360"/>
          </a:xfrm>
          <a:prstGeom prst="rect">
            <a:avLst/>
          </a:prstGeom>
          <a:solidFill>
            <a:srgbClr val="f8f8f8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90560" y="1370160"/>
            <a:ext cx="1982520" cy="988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200400" y="2209680"/>
            <a:ext cx="5410080" cy="2133720"/>
            <a:chOff x="3200400" y="2209680"/>
            <a:chExt cx="5410080" cy="2133720"/>
          </a:xfrm>
        </p:grpSpPr>
        <p:sp>
          <p:nvSpPr>
            <p:cNvPr id="227" name=""/>
            <p:cNvSpPr/>
            <p:nvPr/>
          </p:nvSpPr>
          <p:spPr>
            <a:xfrm>
              <a:off x="3200400" y="2209680"/>
              <a:ext cx="5410080" cy="2133720"/>
            </a:xfrm>
            <a:prstGeom prst="rect">
              <a:avLst/>
            </a:prstGeom>
            <a:solidFill>
              <a:srgbClr val="cc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eger Linear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&amp;B on 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binar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other variables become  integ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6035760" y="3009960"/>
                  <a:ext cx="8222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114800" y="3124080"/>
                  <a:ext cx="1046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0" name=""/>
          <p:cNvSpPr/>
          <p:nvPr/>
        </p:nvSpPr>
        <p:spPr>
          <a:xfrm>
            <a:off x="1523880" y="4572000"/>
            <a:ext cx="6019920" cy="12952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Small integrality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p at the first integer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02A-B3BC-4D7F-98D3-2A2D146A2F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4572000" y="1371600"/>
            <a:ext cx="3809880" cy="3276720"/>
            <a:chOff x="4572000" y="1371600"/>
            <a:chExt cx="3809880" cy="3276720"/>
          </a:xfrm>
        </p:grpSpPr>
        <p:sp>
          <p:nvSpPr>
            <p:cNvPr id="232" name=""/>
            <p:cNvSpPr/>
            <p:nvPr/>
          </p:nvSpPr>
          <p:spPr>
            <a:xfrm>
              <a:off x="4572000" y="1371600"/>
              <a:ext cx="213372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00800" y="3200400"/>
              <a:ext cx="1981080" cy="144792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WO PHAS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LUTION APPROACH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362320"/>
            <a:ext cx="5486400" cy="3047760"/>
          </a:xfrm>
          <a:prstGeom prst="rect">
            <a:avLst/>
          </a:prstGeom>
          <a:solidFill>
            <a:srgbClr val="f8f8f8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- Select dominant aircraft types   on a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ess than 7-da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- Over the week, select dominant aircraft types for the remaining flights and optimize the aircraft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A52-3D2F-45C7-AB59-B143AB5955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 Canada dat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0 aircraft typ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480" y="1998720"/>
          <a:ext cx="792504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98720"/>
                    <a:ext cx="79250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D24-94BE-4C55-9797-4F4BC2DF3A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Trade-off: Homogeneity vs Profi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2120" y="1752480"/>
          <a:ext cx="7772400" cy="14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85800" y="3240000"/>
          <a:ext cx="7848720" cy="300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240000"/>
                    <a:ext cx="78487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CEA-57D5-4F4C-AFD1-140DB06767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Trade-off: Homogeneity vs Profi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62120" y="1752480"/>
          <a:ext cx="7848360" cy="14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8483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85800" y="3200400"/>
          <a:ext cx="7924680" cy="297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200400"/>
                    <a:ext cx="792468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B28-E9A0-4A16-B7A0-41E50C3499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LIN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LANNING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352680"/>
            <a:ext cx="3352680" cy="60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648320"/>
            <a:ext cx="3352680" cy="609480"/>
          </a:xfrm>
          <a:prstGeom prst="rect">
            <a:avLst/>
          </a:prstGeom>
          <a:solidFill>
            <a:srgbClr val="dddddd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w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743200"/>
            <a:ext cx="0" cy="5335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038480"/>
            <a:ext cx="0" cy="5335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57400"/>
            <a:ext cx="3352680" cy="609480"/>
          </a:xfrm>
          <a:prstGeom prst="rect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ight 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2057400"/>
            <a:ext cx="8077320" cy="2895480"/>
            <a:chOff x="685800" y="2057400"/>
            <a:chExt cx="8077320" cy="2895480"/>
          </a:xfrm>
        </p:grpSpPr>
        <p:sp>
          <p:nvSpPr>
            <p:cNvPr id="55" name=""/>
            <p:cNvSpPr/>
            <p:nvPr/>
          </p:nvSpPr>
          <p:spPr>
            <a:xfrm>
              <a:off x="4572000" y="2743200"/>
              <a:ext cx="4191120" cy="2209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TL    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00     7.50        MTWTF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00     8.50       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MTWTFS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.00     9.50        MTWTF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666880"/>
              <a:ext cx="38862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2057400"/>
              <a:ext cx="3886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2057400"/>
              <a:ext cx="4724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8480" y="266688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B5D-7804-4955-88A8-AA345C9ADF9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Two-Phase Approach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62120" y="1828800"/>
          <a:ext cx="7848360" cy="16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8483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838080" y="3886200"/>
            <a:ext cx="7696440" cy="167652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lution times can be reduced significantly without deteriorating the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qualit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 the solutions in terms of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ticipated profits and hom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1828800"/>
            <a:ext cx="304776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 Set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 day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908-93CD-43F7-B271-D079210073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Comparison with Air Canad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62120" y="1828800"/>
          <a:ext cx="7848360" cy="16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8483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5562720" y="1828800"/>
            <a:ext cx="304776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 Set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 day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C31-5B9B-4CF7-938A-19E3093F87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Comparison with Air Canad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828800"/>
          <a:ext cx="7848360" cy="16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8483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762120" y="1828800"/>
          <a:ext cx="7848360" cy="167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828800"/>
                    <a:ext cx="7848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3" name=""/>
          <p:cNvGrpSpPr/>
          <p:nvPr/>
        </p:nvGrpSpPr>
        <p:grpSpPr>
          <a:xfrm>
            <a:off x="533520" y="1432080"/>
            <a:ext cx="8153280" cy="4592520"/>
            <a:chOff x="533520" y="1432080"/>
            <a:chExt cx="8153280" cy="4592520"/>
          </a:xfrm>
        </p:grpSpPr>
        <p:graphicFrame>
          <p:nvGraphicFramePr>
            <p:cNvPr id="264" name=""/>
            <p:cNvGraphicFramePr/>
            <p:nvPr/>
          </p:nvGraphicFramePr>
          <p:xfrm>
            <a:off x="533520" y="1432080"/>
            <a:ext cx="8153280" cy="45925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520" y="1432080"/>
                      <a:ext cx="8153280" cy="45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5105520" y="3352680"/>
              <a:ext cx="1904760" cy="685800"/>
            </a:xfrm>
            <a:prstGeom prst="wedgeEllipseCallout">
              <a:avLst>
                <a:gd name="adj1" fmla="val -126750"/>
                <a:gd name="adj2" fmla="val 106018"/>
              </a:avLst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241,   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F73-A400-4D49-B40C-AB737406CA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47246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57200" y="1370160"/>
            <a:ext cx="4116240" cy="3354120"/>
            <a:chOff x="457200" y="1370160"/>
            <a:chExt cx="4116240" cy="3354120"/>
          </a:xfrm>
        </p:grpSpPr>
        <p:sp>
          <p:nvSpPr>
            <p:cNvPr id="269" name=""/>
            <p:cNvSpPr/>
            <p:nvPr/>
          </p:nvSpPr>
          <p:spPr>
            <a:xfrm>
              <a:off x="457200" y="3733920"/>
              <a:ext cx="3200400" cy="99036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828800" y="1370160"/>
              <a:ext cx="2744640" cy="2211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809880" y="1371600"/>
            <a:ext cx="5029200" cy="2362320"/>
            <a:chOff x="3809880" y="1371600"/>
            <a:chExt cx="5029200" cy="2362320"/>
          </a:xfrm>
        </p:grpSpPr>
        <p:sp>
          <p:nvSpPr>
            <p:cNvPr id="272" name=""/>
            <p:cNvSpPr/>
            <p:nvPr/>
          </p:nvSpPr>
          <p:spPr>
            <a:xfrm>
              <a:off x="4572000" y="1371600"/>
              <a:ext cx="16765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2590920"/>
              <a:ext cx="5029200" cy="11430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TRATEGIC PLAN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CC8-8457-4C70-AA8D-6EC677EB43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47246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9880" y="1371600"/>
            <a:ext cx="5029200" cy="2362320"/>
            <a:chOff x="3809880" y="1371600"/>
            <a:chExt cx="5029200" cy="2362320"/>
          </a:xfrm>
        </p:grpSpPr>
        <p:sp>
          <p:nvSpPr>
            <p:cNvPr id="276" name=""/>
            <p:cNvSpPr/>
            <p:nvPr/>
          </p:nvSpPr>
          <p:spPr>
            <a:xfrm>
              <a:off x="4572000" y="1371600"/>
              <a:ext cx="16765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09880" y="2590920"/>
              <a:ext cx="5029200" cy="11430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TRATEGIC PLAN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80880" y="1676520"/>
            <a:ext cx="3429000" cy="373356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compa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nual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Effect of adjustments on prof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s very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3733920"/>
            <a:ext cx="4038840" cy="167616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s the way to study many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 small amount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7A4-7360-4EF3-8C63-03D1CEBD89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4724280"/>
            <a:ext cx="815328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intervention needed to adjust som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olutions close to optim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4724280"/>
            <a:ext cx="815328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intervention needed to adjust som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olutions close to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optim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4724280"/>
            <a:ext cx="815328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intervention needed to adjust som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olution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oser to be operation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47246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7200" y="1370160"/>
            <a:ext cx="4116240" cy="3354120"/>
            <a:chOff x="457200" y="1370160"/>
            <a:chExt cx="4116240" cy="3354120"/>
          </a:xfrm>
        </p:grpSpPr>
        <p:sp>
          <p:nvSpPr>
            <p:cNvPr id="285" name=""/>
            <p:cNvSpPr/>
            <p:nvPr/>
          </p:nvSpPr>
          <p:spPr>
            <a:xfrm>
              <a:off x="457200" y="3733920"/>
              <a:ext cx="3200400" cy="99036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28800" y="1370160"/>
              <a:ext cx="2744640" cy="2211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505320" y="1676520"/>
            <a:ext cx="5105160" cy="20574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produces solutions that meet expectations of pl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Very goo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cal and global quality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E90-3097-40D7-9E12-9368D62736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5639040" cy="19810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line Fleet Assignment with Homogeneity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09480" y="3276720"/>
            <a:ext cx="8077320" cy="2361960"/>
            <a:chOff x="609480" y="3276720"/>
            <a:chExt cx="8077320" cy="2361960"/>
          </a:xfrm>
        </p:grpSpPr>
        <p:sp>
          <p:nvSpPr>
            <p:cNvPr id="290" name=""/>
            <p:cNvSpPr/>
            <p:nvPr/>
          </p:nvSpPr>
          <p:spPr>
            <a:xfrm>
              <a:off x="609480" y="3276720"/>
              <a:ext cx="3962520" cy="236196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24280" y="3581280"/>
              <a:ext cx="3962520" cy="129564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590920" y="3581280"/>
            <a:ext cx="3962160" cy="1752840"/>
          </a:xfrm>
          <a:prstGeom prst="rect">
            <a:avLst/>
          </a:prstGeom>
          <a:solidFill>
            <a:srgbClr val="ffff66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LIN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LANNING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352680" cy="609480"/>
          </a:xfrm>
          <a:prstGeom prst="rect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ight Schedu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352680"/>
            <a:ext cx="3352680" cy="60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48320"/>
            <a:ext cx="3352680" cy="609480"/>
          </a:xfrm>
          <a:prstGeom prst="rect">
            <a:avLst/>
          </a:prstGeom>
          <a:solidFill>
            <a:srgbClr val="dddddd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w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743200"/>
            <a:ext cx="0" cy="5335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038480"/>
            <a:ext cx="0" cy="5335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2057400"/>
            <a:ext cx="7848720" cy="3200400"/>
            <a:chOff x="685800" y="2057400"/>
            <a:chExt cx="7848720" cy="3200400"/>
          </a:xfrm>
        </p:grpSpPr>
        <p:sp>
          <p:nvSpPr>
            <p:cNvPr id="67" name=""/>
            <p:cNvSpPr/>
            <p:nvPr/>
          </p:nvSpPr>
          <p:spPr>
            <a:xfrm>
              <a:off x="4876920" y="2057400"/>
              <a:ext cx="3657600" cy="32004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EET ASSI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aircraft type --&gt; f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sequence of fligh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for each aircr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5800" y="2057400"/>
              <a:ext cx="4191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3962520"/>
              <a:ext cx="4191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038480" y="312372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38480" y="396252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C53-403B-4F4A-BDAC-DEE91DDAF6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LIN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LANNING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352680" cy="609480"/>
          </a:xfrm>
          <a:prstGeom prst="rect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ight Schedu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352680"/>
            <a:ext cx="3352680" cy="60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648320"/>
            <a:ext cx="3352680" cy="609480"/>
          </a:xfrm>
          <a:prstGeom prst="rect">
            <a:avLst/>
          </a:prstGeom>
          <a:solidFill>
            <a:srgbClr val="dddddd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w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2743200"/>
            <a:ext cx="0" cy="5335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038480"/>
            <a:ext cx="0" cy="5335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5800" y="2133360"/>
            <a:ext cx="7772400" cy="3124080"/>
            <a:chOff x="685800" y="2133360"/>
            <a:chExt cx="7772400" cy="3124080"/>
          </a:xfrm>
        </p:grpSpPr>
        <p:sp>
          <p:nvSpPr>
            <p:cNvPr id="79" name=""/>
            <p:cNvSpPr/>
            <p:nvPr/>
          </p:nvSpPr>
          <p:spPr>
            <a:xfrm>
              <a:off x="5105520" y="2133720"/>
              <a:ext cx="3352680" cy="281916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W PAI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base-to-base r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W ROST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monthly blo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85800" y="2133360"/>
              <a:ext cx="44197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85800" y="4952520"/>
              <a:ext cx="4419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038480" y="4038480"/>
              <a:ext cx="10670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038480" y="4952520"/>
              <a:ext cx="4419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E06-4CC2-4F99-AD84-5ABE65E730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676520" y="609480"/>
            <a:ext cx="5790600" cy="2133720"/>
            <a:chOff x="1676520" y="609480"/>
            <a:chExt cx="5790600" cy="2133720"/>
          </a:xfrm>
        </p:grpSpPr>
        <p:sp>
          <p:nvSpPr>
            <p:cNvPr id="85" name=""/>
            <p:cNvSpPr/>
            <p:nvPr/>
          </p:nvSpPr>
          <p:spPr>
            <a:xfrm>
              <a:off x="1676520" y="1472760"/>
              <a:ext cx="2473560" cy="4064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LEET 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676520" y="609480"/>
              <a:ext cx="5790600" cy="2133720"/>
              <a:chOff x="1676520" y="609480"/>
              <a:chExt cx="5790600" cy="2133720"/>
            </a:xfrm>
          </p:grpSpPr>
          <p:sp>
            <p:nvSpPr>
              <p:cNvPr id="87" name=""/>
              <p:cNvSpPr/>
              <p:nvPr/>
            </p:nvSpPr>
            <p:spPr>
              <a:xfrm>
                <a:off x="4768560" y="609480"/>
                <a:ext cx="2698560" cy="213372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LEET ASSIG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aircraft type --&gt; fligh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IRCRAFT ROU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sequence of fligh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for each aircraf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1676520" y="609480"/>
                <a:ext cx="309204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76520" y="1879560"/>
                <a:ext cx="309204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150080" y="1320120"/>
                <a:ext cx="618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50080" y="1879560"/>
                <a:ext cx="618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533520" y="3200400"/>
            <a:ext cx="3504960" cy="1905120"/>
          </a:xfrm>
          <a:prstGeom prst="rect">
            <a:avLst/>
          </a:prstGeom>
          <a:solidFill>
            <a:srgbClr val="dddddd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grated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Large Sc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ekl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343040" y="3886200"/>
            <a:ext cx="4419720" cy="1905120"/>
          </a:xfrm>
          <a:prstGeom prst="rect">
            <a:avLst/>
          </a:prstGeom>
          <a:solidFill>
            <a:srgbClr val="ffff66"/>
          </a:solidFill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ax  </a:t>
            </a:r>
            <a:r>
              <a:rPr b="1" i="1" lang="fr-FR" sz="2800" spc="-1" strike="noStrike">
                <a:solidFill>
                  <a:srgbClr val="336600"/>
                </a:solidFill>
                <a:latin typeface="Times New Roman"/>
              </a:rPr>
              <a:t>PROFIT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fr-FR" sz="2800" spc="-1" strike="noStrike">
                <a:solidFill>
                  <a:srgbClr val="3333cc"/>
                </a:solidFill>
                <a:latin typeface="Times New Roman"/>
              </a:rPr>
              <a:t>QU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light Cov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low Conserv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nection Tim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72F-7975-410A-A72B-65E2F31482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FIT  =  REVENUES - COS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219320"/>
            <a:ext cx="4343040" cy="1676160"/>
            <a:chOff x="533520" y="1219320"/>
            <a:chExt cx="4343040" cy="1676160"/>
          </a:xfrm>
        </p:grpSpPr>
        <p:sp>
          <p:nvSpPr>
            <p:cNvPr id="96" name=""/>
            <p:cNvSpPr/>
            <p:nvPr/>
          </p:nvSpPr>
          <p:spPr>
            <a:xfrm>
              <a:off x="533520" y="2209680"/>
              <a:ext cx="3657600" cy="68580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assenger Rout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00040" y="1219320"/>
              <a:ext cx="1676520" cy="838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67080" y="1219320"/>
            <a:ext cx="4419720" cy="3429000"/>
            <a:chOff x="4267080" y="1219320"/>
            <a:chExt cx="4419720" cy="3429000"/>
          </a:xfrm>
        </p:grpSpPr>
        <p:sp>
          <p:nvSpPr>
            <p:cNvPr id="99" name=""/>
            <p:cNvSpPr/>
            <p:nvPr/>
          </p:nvSpPr>
          <p:spPr>
            <a:xfrm>
              <a:off x="4267080" y="3429000"/>
              <a:ext cx="4419720" cy="121932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tochastic Variation of the Passenger Dem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219320"/>
              <a:ext cx="1447920" cy="19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61A-099A-431F-BABC-7752DA5105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FIT  =  REVENUES - COS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219320"/>
            <a:ext cx="4343040" cy="1676160"/>
            <a:chOff x="533520" y="1219320"/>
            <a:chExt cx="4343040" cy="1676160"/>
          </a:xfrm>
        </p:grpSpPr>
        <p:sp>
          <p:nvSpPr>
            <p:cNvPr id="103" name=""/>
            <p:cNvSpPr/>
            <p:nvPr/>
          </p:nvSpPr>
          <p:spPr>
            <a:xfrm>
              <a:off x="533520" y="2209680"/>
              <a:ext cx="3657600" cy="685800"/>
            </a:xfrm>
            <a:prstGeom prst="rect">
              <a:avLst/>
            </a:prstGeom>
            <a:solidFill>
              <a:srgbClr val="f8f8f8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assenger Rout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200040" y="1219320"/>
              <a:ext cx="1676520" cy="838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33520" y="3352680"/>
            <a:ext cx="8381880" cy="1067040"/>
          </a:xfrm>
          <a:prstGeom prst="rect">
            <a:avLst/>
          </a:prstGeom>
          <a:solidFill>
            <a:srgbClr val="ffff66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xed Rou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800600"/>
            <a:ext cx="8381880" cy="838080"/>
          </a:xfrm>
          <a:prstGeom prst="rect">
            <a:avLst/>
          </a:prstGeom>
          <a:solidFill>
            <a:srgbClr val="ccff66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Routing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ame Theor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79920" y="3352680"/>
                <a:ext cx="51354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venue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D1D-A8F1-4A04-80AC-C572AE01CA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FIT  =  REVENUES - COS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752480"/>
          <a:ext cx="4935600" cy="16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4935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4267080" y="1219320"/>
            <a:ext cx="4419720" cy="3429000"/>
            <a:chOff x="4267080" y="1219320"/>
            <a:chExt cx="4419720" cy="3429000"/>
          </a:xfrm>
        </p:grpSpPr>
        <p:sp>
          <p:nvSpPr>
            <p:cNvPr id="112" name=""/>
            <p:cNvSpPr/>
            <p:nvPr/>
          </p:nvSpPr>
          <p:spPr>
            <a:xfrm>
              <a:off x="5029200" y="1219320"/>
              <a:ext cx="1447920" cy="19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3429000"/>
              <a:ext cx="4419720" cy="121932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tochastic Variation of the Passenger Dem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85800" y="5029200"/>
            <a:ext cx="3352680" cy="609480"/>
          </a:xfrm>
          <a:prstGeom prst="rect">
            <a:avLst/>
          </a:prstGeom>
          <a:solidFill>
            <a:srgbClr val="eaeaea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ircraft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657600" y="3048120"/>
            <a:ext cx="0" cy="1904400"/>
            <a:chOff x="3657600" y="3048120"/>
            <a:chExt cx="0" cy="1904400"/>
          </a:xfrm>
        </p:grpSpPr>
        <p:sp>
          <p:nvSpPr>
            <p:cNvPr id="116" name=""/>
            <p:cNvSpPr/>
            <p:nvPr/>
          </p:nvSpPr>
          <p:spPr>
            <a:xfrm flipV="1">
              <a:off x="3657600" y="3504960"/>
              <a:ext cx="0" cy="14475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657600" y="3048120"/>
              <a:ext cx="0" cy="3045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rline Fleet Assignment with Homogene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B68-F82B-47D8-9A33-AB959C797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</cp:lastModifiedBy>
  <cp:lastPrinted>2000-08-08T14:27:21Z</cp:lastPrinted>
  <dcterms:modified xsi:type="dcterms:W3CDTF">2000-11-08T22:08:19Z</dcterms:modified>
  <cp:revision>100</cp:revision>
  <dc:subject/>
  <dc:title>Copenhagen August 2000</dc:title>
</cp:coreProperties>
</file>