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CBA0-5470-468E-BA7E-F30B07112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6C17-E4AC-441F-A58D-6DD0CFAC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A4BE-F5D6-472F-A2C7-27447167A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6499-1B03-47BF-8CA1-508BBA574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6324-59FA-4664-9D13-F4FF9A5A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13BE-8B4C-4C97-AC46-7825A208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BFA6-4F0E-4AD6-A5D4-6B364A1F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6D8C-1420-4A3B-8DAC-4284D55F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C15B-725A-4847-AE9C-A9963C4C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3B1D-CFD7-45CC-844F-A6B14B1A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843C-352F-422F-A335-3CE06800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DED6-8EAB-482F-98BD-FC001F48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8f8f8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ABDB-F1B7-4BBA-8F2F-687043FC3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HL2-Solution_Approaches.ppt" TargetMode="External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Figure_Aircraft_Routing.doc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1371600"/>
            <a:ext cx="5639040" cy="18288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OLUTION APPROACHES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905120" y="1676520"/>
            <a:ext cx="5333760" cy="4495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575080" y="2063880"/>
            <a:ext cx="0" cy="153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71600" y="3062160"/>
            <a:ext cx="171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55680" y="1792440"/>
            <a:ext cx="1579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87840" y="3100320"/>
            <a:ext cx="5731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73200" y="2447640"/>
            <a:ext cx="1013040" cy="46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50920" y="2743200"/>
            <a:ext cx="5256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272200" y="2447640"/>
            <a:ext cx="1012680" cy="46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778360" y="2447640"/>
            <a:ext cx="506520" cy="230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92760" y="2525760"/>
            <a:ext cx="6318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70600" y="3062160"/>
            <a:ext cx="1720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373720" y="2063880"/>
            <a:ext cx="0" cy="153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92760" y="2743200"/>
            <a:ext cx="5270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65840" y="1792440"/>
            <a:ext cx="22431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6480" y="3100320"/>
            <a:ext cx="7225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373720" y="2678040"/>
            <a:ext cx="404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608200" y="4061880"/>
            <a:ext cx="0" cy="1535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05080" y="5059440"/>
            <a:ext cx="171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90600" y="3790800"/>
            <a:ext cx="14385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20960" y="5099040"/>
            <a:ext cx="540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506680" y="4828680"/>
            <a:ext cx="1012680" cy="46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96920" y="5124600"/>
            <a:ext cx="68436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407200" y="4071960"/>
            <a:ext cx="0" cy="153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03720" y="5068800"/>
            <a:ext cx="1720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97520" y="3800520"/>
            <a:ext cx="16254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521400" y="5108400"/>
            <a:ext cx="68760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97520" y="4532400"/>
            <a:ext cx="5270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06840" y="4686480"/>
            <a:ext cx="911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457200"/>
            <a:ext cx="777240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000000"/>
                </a:solidFill>
                <a:latin typeface="Times New Roman"/>
              </a:rPr>
              <a:t>Various Extension Fun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905120" y="2438280"/>
            <a:ext cx="5410080" cy="3657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703600" y="1905120"/>
            <a:ext cx="4557240" cy="4052520"/>
            <a:chOff x="2703600" y="1905120"/>
            <a:chExt cx="4557240" cy="4052520"/>
          </a:xfrm>
        </p:grpSpPr>
        <p:sp>
          <p:nvSpPr>
            <p:cNvPr id="154" name=""/>
            <p:cNvSpPr/>
            <p:nvPr/>
          </p:nvSpPr>
          <p:spPr>
            <a:xfrm flipV="1">
              <a:off x="4200840" y="3660480"/>
              <a:ext cx="1069200" cy="61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03600" y="5304240"/>
              <a:ext cx="363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339720" y="2636280"/>
              <a:ext cx="1440" cy="280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96120" y="1905120"/>
              <a:ext cx="2109240" cy="74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401520" y="4913280"/>
              <a:ext cx="859320" cy="8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3344760" y="4277160"/>
              <a:ext cx="856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202280" y="4285080"/>
              <a:ext cx="0" cy="1062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250600" y="3706200"/>
              <a:ext cx="0" cy="16401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67920" y="5282280"/>
              <a:ext cx="703080" cy="67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05720" y="5282280"/>
              <a:ext cx="937440" cy="67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5205240" y="2805480"/>
              <a:ext cx="234360" cy="45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380880" y="457200"/>
            <a:ext cx="8458200" cy="16002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000000"/>
                </a:solidFill>
                <a:latin typeface="Times New Roman"/>
              </a:rPr>
              <a:t>The Cost Function as a Resource:</a:t>
            </a:r>
            <a:br>
              <a:rPr sz="4000"/>
            </a:br>
            <a:r>
              <a:rPr b="1" i="1" lang="fr-FR" sz="4000" spc="-1" strike="noStrike">
                <a:solidFill>
                  <a:srgbClr val="000000"/>
                </a:solidFill>
                <a:latin typeface="Times New Roman"/>
              </a:rPr>
              <a:t>an example of a dicontinuous fu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95280" y="456840"/>
            <a:ext cx="6477120" cy="11430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Integer Multi-Commodity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Network Flow Structure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494000" y="2209680"/>
                <a:ext cx="620208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K</m:t>
                        </m:r>
                      </m:sub>
                      <m:sup/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sub>
                          <m:sup/>
                          <m:e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r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R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bSup>
                                <m:sSub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r</m:t>
                                    </m:r>
                                  </m:sup>
                                </m:sSubSup>
                              </m:e>
                            </m:nary>
                          </m:e>
                        </m:nary>
                        <m:r>
                          <m:t xml:space="preserve">)</m:t>
                        </m:r>
                      </m:e>
                    </m:nary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501920" y="3471840"/>
                <a:ext cx="634680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r>
                              <m:t xml:space="preserve">K</m:t>
                            </m:r>
                          </m:sub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: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∈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p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bSup>
                              </m:e>
                            </m:nary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limLow>
                          <m:e>
                            <m:r>
                              <m:t xml:space="preserve">∪</m:t>
                            </m:r>
                          </m:e>
                          <m:lim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r>
                              <m:t xml:space="preserve">K</m:t>
                            </m:r>
                          </m:lim>
                        </m:limLow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 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r>
                              <m:t xml:space="preserve">K</m:t>
                            </m:r>
                          </m:sub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∈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p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bSup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bSup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∈</m:t>
                                </m:r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p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r</m:t>
                                    </m:r>
                                  </m:sup>
                                </m:sSubSup>
                              </m:e>
                            </m:nary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r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m</m:t>
                        </m:r>
                        <m:r>
                          <m:t xml:space="preserve">∈</m:t>
                        </m:r>
                        <m:r>
                          <m:t xml:space="preserve">M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870200" y="5670720"/>
                <a:ext cx="536868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∈</m:t>
                    </m:r>
                    <m:r>
                      <m:t xml:space="preserve">P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∀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K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1295280" y="2057400"/>
            <a:ext cx="6629400" cy="44197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5486400"/>
            <a:ext cx="647712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520" y="2971440"/>
            <a:ext cx="5790960" cy="1143000"/>
          </a:xfrm>
          <a:prstGeom prst="rect">
            <a:avLst/>
          </a:prstGeom>
          <a:solidFill>
            <a:srgbClr val="000000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Complements...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419360" y="2742840"/>
            <a:ext cx="4521240" cy="160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ranching   &amp;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tting Decis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2438280" y="457200"/>
            <a:ext cx="4267440" cy="99072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ranch-and-Cut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685800" y="2057400"/>
                <a:ext cx="3041640" cy="311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cx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 integer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4038480" y="4321080"/>
            <a:ext cx="4876920" cy="825480"/>
          </a:xfrm>
          <a:prstGeom prst="rect">
            <a:avLst/>
          </a:prstGeom>
          <a:solidFill>
            <a:srgbClr val="f8f8f8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Tahoma"/>
              </a:rPr>
              <a:t>Decomposition Process</a:t>
            </a:r>
            <a:r>
              <a:rPr b="1" lang="en-US" sz="2400" spc="-1" strike="noStrike">
                <a:solidFill>
                  <a:srgbClr val="0066ff"/>
                </a:solidFill>
                <a:latin typeface="Tahoma"/>
              </a:rPr>
              <a:t> applied at all decisio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419720" y="2666880"/>
            <a:ext cx="4647600" cy="1676520"/>
            <a:chOff x="4419720" y="2666880"/>
            <a:chExt cx="4647600" cy="1676520"/>
          </a:xfrm>
        </p:grpSpPr>
        <mc:AlternateContent>
          <mc:Choice xmlns:a14="http://schemas.microsoft.com/office/drawing/2010/main" Requires="a14">
            <p:sp>
              <p:nvSpPr>
                <p:cNvPr id="178" name=""/>
                <p:cNvSpPr txBox="1"/>
                <p:nvPr/>
              </p:nvSpPr>
              <p:spPr>
                <a:xfrm>
                  <a:off x="4419720" y="2666880"/>
                  <a:ext cx="829800" cy="167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9" name=""/>
                <p:cNvSpPr txBox="1"/>
                <p:nvPr/>
              </p:nvSpPr>
              <p:spPr>
                <a:xfrm>
                  <a:off x="8237160" y="2666880"/>
                  <a:ext cx="830160" cy="167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180" name=""/>
          <p:cNvGrpSpPr/>
          <p:nvPr/>
        </p:nvGrpSpPr>
        <p:grpSpPr>
          <a:xfrm>
            <a:off x="3081960" y="2835360"/>
            <a:ext cx="1764360" cy="1441440"/>
            <a:chOff x="3081960" y="2835360"/>
            <a:chExt cx="1764360" cy="1441440"/>
          </a:xfrm>
        </p:grpSpPr>
        <p:sp>
          <p:nvSpPr>
            <p:cNvPr id="181" name=""/>
            <p:cNvSpPr/>
            <p:nvPr/>
          </p:nvSpPr>
          <p:spPr>
            <a:xfrm rot="20905200">
              <a:off x="3125880" y="3504960"/>
              <a:ext cx="1676160" cy="609480"/>
            </a:xfrm>
            <a:prstGeom prst="leftArrow">
              <a:avLst>
                <a:gd name="adj1" fmla="val 50000"/>
                <a:gd name="adj2" fmla="val 68754"/>
              </a:avLst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447000">
              <a:off x="3123720" y="2941200"/>
              <a:ext cx="1676520" cy="609480"/>
            </a:xfrm>
            <a:prstGeom prst="leftArrow">
              <a:avLst>
                <a:gd name="adj1" fmla="val 50000"/>
                <a:gd name="adj2" fmla="val 68768"/>
              </a:avLst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676520" y="2971800"/>
            <a:ext cx="5790960" cy="1143000"/>
          </a:xfrm>
          <a:prstGeom prst="rect">
            <a:avLst/>
          </a:prstGeom>
          <a:solidFill>
            <a:srgbClr val="000000"/>
          </a:solid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Aircraft Rou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23888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OLUTION APPROACHES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367760" cy="4035600"/>
          </a:xfrm>
          <a:prstGeom prst="rect">
            <a:avLst/>
          </a:prstGeom>
          <a:solidFill>
            <a:srgbClr val="f8f8f8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Branching &amp; Cutting  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involving ..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grangean Relaxatio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ntzig-Wolfe Decomposi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ndle Metho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alytic Center Cutting Plane Metho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---&gt;  Column Gener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olumn Generation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4880" y="2052360"/>
            <a:ext cx="3525840" cy="1592280"/>
          </a:xfrm>
          <a:prstGeom prst="rect">
            <a:avLst/>
          </a:prstGeom>
          <a:solidFill>
            <a:srgbClr val="f8f8f8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ster Proble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asks Covering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Global Constraints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1619280" y="3924000"/>
            <a:ext cx="5905440" cy="1592280"/>
          </a:xfrm>
          <a:prstGeom prst="rect">
            <a:avLst/>
          </a:prstGeom>
          <a:solidFill>
            <a:srgbClr val="f8f8f8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-Problem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ath Structure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ocal Feasibility by Using Resource Variables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-228600" y="1422360"/>
          <a:ext cx="8915400" cy="574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1422360"/>
                    <a:ext cx="8915400" cy="57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523880" y="609480"/>
            <a:ext cx="609624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000000"/>
                </a:solidFill>
                <a:latin typeface="Times New Roman"/>
              </a:rPr>
              <a:t>Global Constrai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387440" y="2182680"/>
                <a:ext cx="5927760" cy="385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uject to :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b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d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teger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K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1447920" y="609480"/>
            <a:ext cx="624816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000000"/>
                </a:solidFill>
                <a:latin typeface="Times New Roman"/>
              </a:rPr>
              <a:t>The Master Prob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981080" y="2057400"/>
            <a:ext cx="6477120" cy="4267080"/>
          </a:xfrm>
          <a:prstGeom prst="rect">
            <a:avLst/>
          </a:prstGeom>
          <a:solidFill>
            <a:srgbClr val="ffff99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Resource Constrained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hortest Path Problem on G=(N,A)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057400" y="2013120"/>
                <a:ext cx="429912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∈</m:t>
                            </m:r>
                            <m:r>
                              <m:t xml:space="preserve">R</m:t>
                            </m:r>
                          </m:sub>
                          <m:sup/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λ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r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206800" y="3135240"/>
                <a:ext cx="60228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: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: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o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o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 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057400" y="3962520"/>
                <a:ext cx="61722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∈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∀</m:t>
                    </m:r>
                    <m:r>
                      <m:t xml:space="preserve">r</m:t>
                    </m:r>
                    <m:r>
                      <m:t xml:space="preserve">∈</m:t>
                    </m:r>
                    <m:r>
                      <m:t xml:space="preserve">R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057400" y="4724280"/>
                <a:ext cx="645624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: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r>
                              <m:t xml:space="preserve">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)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  <m:r>
                          <m:t xml:space="preserve">≤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  <m:r>
                          <m:t xml:space="preserve">≤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: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r>
                              <m:t xml:space="preserve">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)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r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binary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304920" y="20574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N, A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)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000000"/>
                </a:solidFill>
                <a:latin typeface="Times New Roman"/>
              </a:rPr>
              <a:t>Shortest Path with Time Windows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838080" y="1681200"/>
                <a:ext cx="7543800" cy="479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r>
                              <m:t xml:space="preserve">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ject to :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V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V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o</m:t>
                                </m:r>
                              </m:e>
                              <m:e/>
                            </m:d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∀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N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600200"/>
            <a:ext cx="8305560" cy="3962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57200" y="1600200"/>
            <a:ext cx="9144000" cy="4800240"/>
            <a:chOff x="457200" y="1600200"/>
            <a:chExt cx="9144000" cy="4800240"/>
          </a:xfrm>
        </p:grpSpPr>
        <p:grpSp>
          <p:nvGrpSpPr>
            <p:cNvPr id="63" name=""/>
            <p:cNvGrpSpPr/>
            <p:nvPr/>
          </p:nvGrpSpPr>
          <p:grpSpPr>
            <a:xfrm>
              <a:off x="457200" y="1600200"/>
              <a:ext cx="9143640" cy="3911040"/>
              <a:chOff x="457200" y="1600200"/>
              <a:chExt cx="9143640" cy="3911040"/>
            </a:xfrm>
          </p:grpSpPr>
          <p:grpSp>
            <p:nvGrpSpPr>
              <p:cNvPr id="64" name=""/>
              <p:cNvGrpSpPr/>
              <p:nvPr/>
            </p:nvGrpSpPr>
            <p:grpSpPr>
              <a:xfrm>
                <a:off x="457200" y="1600200"/>
                <a:ext cx="3944160" cy="3911040"/>
                <a:chOff x="457200" y="1600200"/>
                <a:chExt cx="3944160" cy="3911040"/>
              </a:xfrm>
            </p:grpSpPr>
            <p:grpSp>
              <p:nvGrpSpPr>
                <p:cNvPr id="65" name=""/>
                <p:cNvGrpSpPr/>
                <p:nvPr/>
              </p:nvGrpSpPr>
              <p:grpSpPr>
                <a:xfrm>
                  <a:off x="457200" y="1600200"/>
                  <a:ext cx="3944160" cy="3911040"/>
                  <a:chOff x="457200" y="1600200"/>
                  <a:chExt cx="3944160" cy="391104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1532880" y="1955520"/>
                    <a:ext cx="1434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1712160" y="1600200"/>
                    <a:ext cx="1075680" cy="533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CA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S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8" name=""/>
                  <p:cNvGrpSpPr/>
                  <p:nvPr/>
                </p:nvGrpSpPr>
                <p:grpSpPr>
                  <a:xfrm>
                    <a:off x="1174320" y="2489040"/>
                    <a:ext cx="2151360" cy="2488680"/>
                    <a:chOff x="1174320" y="2489040"/>
                    <a:chExt cx="2151360" cy="2488680"/>
                  </a:xfrm>
                </p:grpSpPr>
                <p:sp>
                  <p:nvSpPr>
                    <p:cNvPr id="69" name=""/>
                    <p:cNvSpPr/>
                    <p:nvPr/>
                  </p:nvSpPr>
                  <p:spPr>
                    <a:xfrm>
                      <a:off x="2250000" y="3022200"/>
                      <a:ext cx="717120" cy="1422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70" name=""/>
                    <p:cNvGrpSpPr/>
                    <p:nvPr/>
                  </p:nvGrpSpPr>
                  <p:grpSpPr>
                    <a:xfrm>
                      <a:off x="1174320" y="2489040"/>
                      <a:ext cx="2151360" cy="2488680"/>
                      <a:chOff x="1174320" y="2489040"/>
                      <a:chExt cx="2151360" cy="2488680"/>
                    </a:xfrm>
                  </p:grpSpPr>
                  <p:sp>
                    <p:nvSpPr>
                      <p:cNvPr id="71" name=""/>
                      <p:cNvSpPr/>
                      <p:nvPr/>
                    </p:nvSpPr>
                    <p:spPr>
                      <a:xfrm>
                        <a:off x="1174320" y="3200040"/>
                        <a:ext cx="537840" cy="5331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2" name=""/>
                      <p:cNvSpPr/>
                      <p:nvPr/>
                    </p:nvSpPr>
                    <p:spPr>
                      <a:xfrm>
                        <a:off x="1174320" y="4088880"/>
                        <a:ext cx="537840" cy="5331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" name=""/>
                      <p:cNvSpPr/>
                      <p:nvPr/>
                    </p:nvSpPr>
                    <p:spPr>
                      <a:xfrm>
                        <a:off x="2787840" y="2489040"/>
                        <a:ext cx="537840" cy="5331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" name=""/>
                      <p:cNvSpPr/>
                      <p:nvPr/>
                    </p:nvSpPr>
                    <p:spPr>
                      <a:xfrm>
                        <a:off x="1891440" y="2489040"/>
                        <a:ext cx="537840" cy="5331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" name=""/>
                      <p:cNvSpPr/>
                      <p:nvPr/>
                    </p:nvSpPr>
                    <p:spPr>
                      <a:xfrm>
                        <a:off x="2787840" y="4444560"/>
                        <a:ext cx="537840" cy="5331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6" name=""/>
                      <p:cNvSpPr/>
                      <p:nvPr/>
                    </p:nvSpPr>
                    <p:spPr>
                      <a:xfrm>
                        <a:off x="1712160" y="4444560"/>
                        <a:ext cx="1075680" cy="3553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" name=""/>
                      <p:cNvSpPr/>
                      <p:nvPr/>
                    </p:nvSpPr>
                    <p:spPr>
                      <a:xfrm>
                        <a:off x="1712160" y="3555720"/>
                        <a:ext cx="1075680" cy="1066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" name=""/>
                      <p:cNvSpPr/>
                      <p:nvPr/>
                    </p:nvSpPr>
                    <p:spPr>
                      <a:xfrm>
                        <a:off x="3146400" y="3022200"/>
                        <a:ext cx="0" cy="14220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79" name=""/>
                  <p:cNvGrpSpPr/>
                  <p:nvPr/>
                </p:nvGrpSpPr>
                <p:grpSpPr>
                  <a:xfrm>
                    <a:off x="457200" y="2489040"/>
                    <a:ext cx="3944160" cy="3022200"/>
                    <a:chOff x="457200" y="2489040"/>
                    <a:chExt cx="3944160" cy="3022200"/>
                  </a:xfrm>
                </p:grpSpPr>
                <p:grpSp>
                  <p:nvGrpSpPr>
                    <p:cNvPr id="80" name=""/>
                    <p:cNvGrpSpPr/>
                    <p:nvPr/>
                  </p:nvGrpSpPr>
                  <p:grpSpPr>
                    <a:xfrm>
                      <a:off x="457200" y="2489040"/>
                      <a:ext cx="3764880" cy="3022200"/>
                      <a:chOff x="457200" y="2489040"/>
                      <a:chExt cx="3764880" cy="3022200"/>
                    </a:xfrm>
                  </p:grpSpPr>
                  <p:sp>
                    <p:nvSpPr>
                      <p:cNvPr id="81" name=""/>
                      <p:cNvSpPr/>
                      <p:nvPr/>
                    </p:nvSpPr>
                    <p:spPr>
                      <a:xfrm>
                        <a:off x="457200" y="4085280"/>
                        <a:ext cx="896400" cy="533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CA" sz="9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              </a:t>
                        </a:r>
                        <a:r>
                          <a:rPr b="0" lang="fr-CA" sz="9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(40)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" name=""/>
                      <p:cNvSpPr/>
                      <p:nvPr/>
                    </p:nvSpPr>
                    <p:spPr>
                      <a:xfrm>
                        <a:off x="3146400" y="2489040"/>
                        <a:ext cx="1075680" cy="888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CA" sz="9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     </a:t>
                        </a:r>
                        <a:r>
                          <a:rPr b="0" lang="fr-CA" sz="9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(10)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" name=""/>
                      <p:cNvSpPr/>
                      <p:nvPr/>
                    </p:nvSpPr>
                    <p:spPr>
                      <a:xfrm>
                        <a:off x="1174320" y="2489040"/>
                        <a:ext cx="1075680" cy="888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CA" sz="9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             </a:t>
                        </a:r>
                        <a:r>
                          <a:rPr b="0" lang="fr-CA" sz="9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(20)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" name=""/>
                      <p:cNvSpPr/>
                      <p:nvPr/>
                    </p:nvSpPr>
                    <p:spPr>
                      <a:xfrm>
                        <a:off x="457200" y="3200040"/>
                        <a:ext cx="1075680" cy="888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CA" sz="9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                </a:t>
                        </a:r>
                        <a:r>
                          <a:rPr b="0" lang="fr-CA" sz="9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(30)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" name=""/>
                      <p:cNvSpPr/>
                      <p:nvPr/>
                    </p:nvSpPr>
                    <p:spPr>
                      <a:xfrm>
                        <a:off x="1891440" y="4622400"/>
                        <a:ext cx="1075680" cy="888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CA" sz="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8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" name=""/>
                      <p:cNvSpPr/>
                      <p:nvPr/>
                    </p:nvSpPr>
                    <p:spPr>
                      <a:xfrm>
                        <a:off x="1532880" y="3733200"/>
                        <a:ext cx="1075680" cy="888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CA" sz="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12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" name=""/>
                      <p:cNvSpPr/>
                      <p:nvPr/>
                    </p:nvSpPr>
                    <p:spPr>
                      <a:xfrm>
                        <a:off x="1891440" y="3022200"/>
                        <a:ext cx="1075680" cy="888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CA" sz="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24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8" name=""/>
                      <p:cNvSpPr/>
                      <p:nvPr/>
                    </p:nvSpPr>
                    <p:spPr>
                      <a:xfrm>
                        <a:off x="3146400" y="3022200"/>
                        <a:ext cx="1075680" cy="888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CA" sz="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27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9" name=""/>
                    <p:cNvSpPr/>
                    <p:nvPr/>
                  </p:nvSpPr>
                  <p:spPr>
                    <a:xfrm>
                      <a:off x="3325680" y="4088880"/>
                      <a:ext cx="1075680" cy="1422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fr-C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 48 )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fr-C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 44 )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fr-C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 42 )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fr-C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 37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90" name=""/>
                <p:cNvSpPr/>
                <p:nvPr/>
              </p:nvSpPr>
              <p:spPr>
                <a:xfrm>
                  <a:off x="636480" y="1600200"/>
                  <a:ext cx="1075680" cy="142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4760280" y="1600200"/>
                <a:ext cx="4840560" cy="3911040"/>
                <a:chOff x="4760280" y="1600200"/>
                <a:chExt cx="4840560" cy="3911040"/>
              </a:xfrm>
            </p:grpSpPr>
            <p:grpSp>
              <p:nvGrpSpPr>
                <p:cNvPr id="92" name=""/>
                <p:cNvGrpSpPr/>
                <p:nvPr/>
              </p:nvGrpSpPr>
              <p:grpSpPr>
                <a:xfrm>
                  <a:off x="4760280" y="1600200"/>
                  <a:ext cx="4840560" cy="3911040"/>
                  <a:chOff x="4760280" y="1600200"/>
                  <a:chExt cx="4840560" cy="3911040"/>
                </a:xfrm>
              </p:grpSpPr>
              <p:grpSp>
                <p:nvGrpSpPr>
                  <p:cNvPr id="93" name=""/>
                  <p:cNvGrpSpPr/>
                  <p:nvPr/>
                </p:nvGrpSpPr>
                <p:grpSpPr>
                  <a:xfrm>
                    <a:off x="5656680" y="2489040"/>
                    <a:ext cx="2151360" cy="2488680"/>
                    <a:chOff x="5656680" y="2489040"/>
                    <a:chExt cx="2151360" cy="2488680"/>
                  </a:xfrm>
                </p:grpSpPr>
                <p:sp>
                  <p:nvSpPr>
                    <p:cNvPr id="94" name=""/>
                    <p:cNvSpPr/>
                    <p:nvPr/>
                  </p:nvSpPr>
                  <p:spPr>
                    <a:xfrm>
                      <a:off x="6732360" y="3022200"/>
                      <a:ext cx="717120" cy="1422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95" name=""/>
                    <p:cNvGrpSpPr/>
                    <p:nvPr/>
                  </p:nvGrpSpPr>
                  <p:grpSpPr>
                    <a:xfrm>
                      <a:off x="5656680" y="2489040"/>
                      <a:ext cx="2151360" cy="2488680"/>
                      <a:chOff x="5656680" y="2489040"/>
                      <a:chExt cx="2151360" cy="2488680"/>
                    </a:xfrm>
                  </p:grpSpPr>
                  <p:sp>
                    <p:nvSpPr>
                      <p:cNvPr id="96" name=""/>
                      <p:cNvSpPr/>
                      <p:nvPr/>
                    </p:nvSpPr>
                    <p:spPr>
                      <a:xfrm>
                        <a:off x="5656680" y="3200040"/>
                        <a:ext cx="537840" cy="5331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" name=""/>
                      <p:cNvSpPr/>
                      <p:nvPr/>
                    </p:nvSpPr>
                    <p:spPr>
                      <a:xfrm>
                        <a:off x="5656680" y="4088880"/>
                        <a:ext cx="537840" cy="5331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" name=""/>
                      <p:cNvSpPr/>
                      <p:nvPr/>
                    </p:nvSpPr>
                    <p:spPr>
                      <a:xfrm>
                        <a:off x="7270200" y="2489040"/>
                        <a:ext cx="537840" cy="5331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" name=""/>
                      <p:cNvSpPr/>
                      <p:nvPr/>
                    </p:nvSpPr>
                    <p:spPr>
                      <a:xfrm>
                        <a:off x="6373800" y="2489040"/>
                        <a:ext cx="537840" cy="5331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" name=""/>
                      <p:cNvSpPr/>
                      <p:nvPr/>
                    </p:nvSpPr>
                    <p:spPr>
                      <a:xfrm>
                        <a:off x="7270200" y="4444560"/>
                        <a:ext cx="537840" cy="5331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" name=""/>
                      <p:cNvSpPr/>
                      <p:nvPr/>
                    </p:nvSpPr>
                    <p:spPr>
                      <a:xfrm>
                        <a:off x="6194520" y="4444560"/>
                        <a:ext cx="1075680" cy="3553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2" name=""/>
                      <p:cNvSpPr/>
                      <p:nvPr/>
                    </p:nvSpPr>
                    <p:spPr>
                      <a:xfrm>
                        <a:off x="6194520" y="3555720"/>
                        <a:ext cx="1075680" cy="1066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" name=""/>
                      <p:cNvSpPr/>
                      <p:nvPr/>
                    </p:nvSpPr>
                    <p:spPr>
                      <a:xfrm>
                        <a:off x="7628760" y="3022200"/>
                        <a:ext cx="0" cy="14220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04" name=""/>
                  <p:cNvGrpSpPr/>
                  <p:nvPr/>
                </p:nvGrpSpPr>
                <p:grpSpPr>
                  <a:xfrm>
                    <a:off x="4760280" y="1600200"/>
                    <a:ext cx="4840560" cy="3911040"/>
                    <a:chOff x="4760280" y="1600200"/>
                    <a:chExt cx="4840560" cy="3911040"/>
                  </a:xfrm>
                </p:grpSpPr>
                <p:grpSp>
                  <p:nvGrpSpPr>
                    <p:cNvPr id="105" name=""/>
                    <p:cNvGrpSpPr/>
                    <p:nvPr/>
                  </p:nvGrpSpPr>
                  <p:grpSpPr>
                    <a:xfrm>
                      <a:off x="5835960" y="1600200"/>
                      <a:ext cx="1972080" cy="533160"/>
                      <a:chOff x="5835960" y="1600200"/>
                      <a:chExt cx="1972080" cy="533160"/>
                    </a:xfrm>
                  </p:grpSpPr>
                  <p:sp>
                    <p:nvSpPr>
                      <p:cNvPr id="106" name=""/>
                      <p:cNvSpPr/>
                      <p:nvPr/>
                    </p:nvSpPr>
                    <p:spPr>
                      <a:xfrm>
                        <a:off x="6015240" y="1955520"/>
                        <a:ext cx="143424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7" name=""/>
                      <p:cNvSpPr/>
                      <p:nvPr/>
                    </p:nvSpPr>
                    <p:spPr>
                      <a:xfrm>
                        <a:off x="5835960" y="1600200"/>
                        <a:ext cx="1972080" cy="533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fr-CA" sz="9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       </a:t>
                        </a:r>
                        <a:r>
                          <a:rPr b="1" lang="fr-CA" sz="9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TIME,  COST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08" name=""/>
                    <p:cNvSpPr/>
                    <p:nvPr/>
                  </p:nvSpPr>
                  <p:spPr>
                    <a:xfrm>
                      <a:off x="5835960" y="3555720"/>
                      <a:ext cx="1075680" cy="888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0" lang="fr-CA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 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09" name=""/>
                    <p:cNvGrpSpPr/>
                    <p:nvPr/>
                  </p:nvGrpSpPr>
                  <p:grpSpPr>
                    <a:xfrm>
                      <a:off x="4760280" y="2489040"/>
                      <a:ext cx="3944160" cy="2844360"/>
                      <a:chOff x="4760280" y="2489040"/>
                      <a:chExt cx="3944160" cy="2844360"/>
                    </a:xfrm>
                  </p:grpSpPr>
                  <p:sp>
                    <p:nvSpPr>
                      <p:cNvPr id="110" name=""/>
                      <p:cNvSpPr/>
                      <p:nvPr/>
                    </p:nvSpPr>
                    <p:spPr>
                      <a:xfrm>
                        <a:off x="7628760" y="2489040"/>
                        <a:ext cx="1075680" cy="888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CA" sz="9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    </a:t>
                        </a:r>
                        <a:r>
                          <a:rPr b="0" lang="fr-CA" sz="9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(6, 10)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1" name=""/>
                      <p:cNvSpPr/>
                      <p:nvPr/>
                    </p:nvSpPr>
                    <p:spPr>
                      <a:xfrm>
                        <a:off x="5477400" y="2489040"/>
                        <a:ext cx="1075680" cy="888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CA" sz="9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                 </a:t>
                        </a:r>
                        <a:r>
                          <a:rPr b="0" lang="fr-CA" sz="9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(4, 20)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2" name=""/>
                      <p:cNvSpPr/>
                      <p:nvPr/>
                    </p:nvSpPr>
                    <p:spPr>
                      <a:xfrm>
                        <a:off x="4760280" y="3200040"/>
                        <a:ext cx="1075680" cy="888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CA" sz="9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                 </a:t>
                        </a:r>
                        <a:r>
                          <a:rPr b="0" lang="fr-CA" sz="9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(4, 30)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" name=""/>
                      <p:cNvSpPr/>
                      <p:nvPr/>
                    </p:nvSpPr>
                    <p:spPr>
                      <a:xfrm>
                        <a:off x="4760280" y="4088880"/>
                        <a:ext cx="1075680" cy="888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CA" sz="9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               </a:t>
                        </a:r>
                        <a:r>
                          <a:rPr b="0" lang="fr-CA" sz="9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(5, 40)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" name=""/>
                      <p:cNvSpPr/>
                      <p:nvPr/>
                    </p:nvSpPr>
                    <p:spPr>
                      <a:xfrm>
                        <a:off x="7628760" y="3022200"/>
                        <a:ext cx="1075680" cy="888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CA" sz="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5, 27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5" name=""/>
                      <p:cNvSpPr/>
                      <p:nvPr/>
                    </p:nvSpPr>
                    <p:spPr>
                      <a:xfrm>
                        <a:off x="6015240" y="4444560"/>
                        <a:ext cx="1075680" cy="888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CA" sz="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             </a:t>
                        </a:r>
                        <a:r>
                          <a:rPr b="0" lang="fr-CA" sz="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3, 8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" name=""/>
                      <p:cNvSpPr/>
                      <p:nvPr/>
                    </p:nvSpPr>
                    <p:spPr>
                      <a:xfrm>
                        <a:off x="6194520" y="3022200"/>
                        <a:ext cx="1075680" cy="888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CA" sz="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        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CA" sz="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            </a:t>
                        </a:r>
                        <a:r>
                          <a:rPr b="0" lang="fr-CA" sz="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2, 24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7808040" y="4089240"/>
                      <a:ext cx="1792800" cy="1422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fr-C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   6, 44 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fr-C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   8, 48 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fr-C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   9, 42 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fr-C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 11, 37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18" name=""/>
                <p:cNvSpPr/>
                <p:nvPr/>
              </p:nvSpPr>
              <p:spPr>
                <a:xfrm>
                  <a:off x="5118840" y="1600200"/>
                  <a:ext cx="1075680" cy="142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9" name=""/>
            <p:cNvSpPr/>
            <p:nvPr/>
          </p:nvSpPr>
          <p:spPr>
            <a:xfrm>
              <a:off x="457200" y="5511600"/>
              <a:ext cx="914400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1100"/>
                </a:spcBef>
                <a:spcAft>
                  <a:spcPts val="22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905120" y="457200"/>
            <a:ext cx="541008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000000"/>
                </a:solidFill>
                <a:latin typeface="Times New Roman"/>
              </a:rPr>
              <a:t>Vertex Lab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77800" y="2590920"/>
                <a:ext cx="82962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(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sSub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e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e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f   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e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≤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000000"/>
                </a:solidFill>
                <a:latin typeface="Times New Roman"/>
              </a:rPr>
              <a:t>Extension Function for Label  e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2:07:35Z</dcterms:created>
  <dc:creator>Jacques Desrosiers</dc:creator>
  <dc:description/>
  <dc:language>en-US</dc:language>
  <cp:lastModifiedBy>Jacques Desrosiers</cp:lastModifiedBy>
  <cp:lastPrinted>2000-05-04T10:40:17Z</cp:lastPrinted>
  <dcterms:modified xsi:type="dcterms:W3CDTF">2003-07-17T00:19:10Z</dcterms:modified>
  <cp:revision>55</cp:revision>
  <dc:subject/>
  <dc:title>CREW SCHEDULING : Past and Future</dc:title>
</cp:coreProperties>
</file>