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B3D-8112-4AFA-A9CE-DF0E7006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012-64F7-4D9C-AE8E-36C037A1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EE0-9572-4D1A-856B-847E3609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D52-0EFF-4F48-85A0-755455E3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931-0AB9-4A1E-9D64-167102F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421-E7C7-442C-9831-F867DD9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DB3-72E6-408B-9315-7E764FA6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EB4-7FE7-4ACD-BB71-900F15A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D89-DE3F-4C2C-9E93-10958914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B9E-28DF-4F18-8CBD-2086207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B61-079A-4072-A5BB-042B1AD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4E4-1EA7-4C10-9F14-6E37AF1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7C6-AD2E-444D-877F-D8B20C40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iro.ca/contact_us.htm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HL3-PBS-1.ppt" TargetMode="External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HL3-PBS-2.ppt" TargetMode="Externa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HL3-Fleet_Homogeneity.ppt" TargetMode="Externa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HL3-Aircraft_Routing.ppt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5639040" cy="18288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UCCESSFUL APPLICATION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he Family of Produc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12880" y="2755800"/>
            <a:ext cx="7732800" cy="2616480"/>
            <a:chOff x="812880" y="2755800"/>
            <a:chExt cx="7732800" cy="2616480"/>
          </a:xfrm>
        </p:grpSpPr>
        <p:sp>
          <p:nvSpPr>
            <p:cNvPr id="123" name=""/>
            <p:cNvSpPr/>
            <p:nvPr/>
          </p:nvSpPr>
          <p:spPr>
            <a:xfrm>
              <a:off x="838080" y="3657600"/>
              <a:ext cx="7707600" cy="571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229280"/>
              <a:ext cx="7707600" cy="5713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800600"/>
              <a:ext cx="7707600" cy="571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14680" y="3664080"/>
              <a:ext cx="1074600" cy="56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SCH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664080"/>
              <a:ext cx="878040" cy="56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2541600" y="3917880"/>
              <a:ext cx="1133280" cy="62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3164040" y="3917880"/>
              <a:ext cx="1133280" cy="6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ADAP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7646760" y="3918960"/>
              <a:ext cx="1133640" cy="6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R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745240" y="3924360"/>
              <a:ext cx="113328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CR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ROST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5123520" y="3915360"/>
              <a:ext cx="113328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CR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PAI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9880" y="4227480"/>
              <a:ext cx="1954080" cy="56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3800" y="4227480"/>
              <a:ext cx="1338480" cy="56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AIRCRA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0280" y="3660840"/>
              <a:ext cx="1338120" cy="56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21480" y="4227480"/>
              <a:ext cx="1279440" cy="56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Arial"/>
                </a:rPr>
                <a:t>DAYS-O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1480" y="3664080"/>
              <a:ext cx="127944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4680" y="2755800"/>
              <a:ext cx="124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00"/>
                  </a:solidFill>
                  <a:latin typeface="Tahoma"/>
                </a:rPr>
                <a:t>GI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3560" y="2755800"/>
              <a:ext cx="1697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00"/>
                  </a:solidFill>
                  <a:latin typeface="Tahoma"/>
                </a:rPr>
                <a:t>AD OP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1800" y="292752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12880" y="2927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17600" y="2927520"/>
              <a:ext cx="16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10600" y="292752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27280" y="4915080"/>
              <a:ext cx="5683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Arial"/>
                </a:rPr>
                <a:t>GEN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2554200" y="-639720"/>
            <a:ext cx="3047760" cy="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612360" y="-593640"/>
            <a:ext cx="208584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164772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747960" y="5734080"/>
            <a:ext cx="1648080" cy="25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6443640" y="3429000"/>
            <a:ext cx="1905120" cy="285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1847880" cy="295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56000" y="3429000"/>
            <a:ext cx="1647720" cy="20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6659640" y="4076640"/>
            <a:ext cx="164772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2556000" y="4076640"/>
            <a:ext cx="1647720" cy="314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4572000" y="4508640"/>
            <a:ext cx="1647720" cy="218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1187280" y="4724280"/>
            <a:ext cx="409680" cy="524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2484360" y="4941720"/>
            <a:ext cx="1648080" cy="371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4788000" y="3357720"/>
            <a:ext cx="1295280" cy="495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5"/>
          <a:stretch/>
        </p:blipFill>
        <p:spPr>
          <a:xfrm>
            <a:off x="539640" y="5661000"/>
            <a:ext cx="1428840" cy="52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6"/>
          <a:stretch/>
        </p:blipFill>
        <p:spPr>
          <a:xfrm>
            <a:off x="2484360" y="5734080"/>
            <a:ext cx="68580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7"/>
          <a:stretch/>
        </p:blipFill>
        <p:spPr>
          <a:xfrm>
            <a:off x="5796000" y="5084640"/>
            <a:ext cx="1247760" cy="69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8"/>
          <a:stretch/>
        </p:blipFill>
        <p:spPr>
          <a:xfrm>
            <a:off x="7380360" y="5877000"/>
            <a:ext cx="1000080" cy="42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3" name=""/>
          <p:cNvGrpSpPr/>
          <p:nvPr/>
        </p:nvGrpSpPr>
        <p:grpSpPr>
          <a:xfrm>
            <a:off x="2340000" y="620640"/>
            <a:ext cx="5714640" cy="2271960"/>
            <a:chOff x="2340000" y="620640"/>
            <a:chExt cx="5714640" cy="2271960"/>
          </a:xfrm>
        </p:grpSpPr>
        <p:pic>
          <p:nvPicPr>
            <p:cNvPr id="164" name="" descr=""/>
            <p:cNvPicPr/>
            <p:nvPr/>
          </p:nvPicPr>
          <p:blipFill>
            <a:blip r:embed="rId19"/>
            <a:stretch/>
          </p:blipFill>
          <p:spPr>
            <a:xfrm>
              <a:off x="2340000" y="620640"/>
              <a:ext cx="5165640" cy="22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6442920" y="2297160"/>
              <a:ext cx="1611720" cy="587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0" y="692280"/>
            <a:ext cx="22478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Times New Roman"/>
              </a:rPr>
              <a:t>HAS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30 c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HLOGO.JPG (7085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7960" y="388800"/>
            <a:ext cx="2587680" cy="167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33080" y="2852640"/>
            <a:ext cx="2806920" cy="30988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y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ulou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apo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celo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sink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53040" y="2852640"/>
            <a:ext cx="2803680" cy="309744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l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ckhol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en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sse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Computational Resul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36259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ew Pai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ew Roste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leet Assignment and Aircraft R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ircraft Routing and Flight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bway Driver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Locomotive R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Crew Pairing  </a:t>
            </a:r>
            <a:br>
              <a:rPr sz="4000"/>
            </a:br>
            <a:r>
              <a:rPr b="1" i="1" lang="fr-FR" sz="4000" spc="-1" strike="noStrike">
                <a:solidFill>
                  <a:srgbClr val="0000cc"/>
                </a:solidFill>
                <a:latin typeface="Times New Roman"/>
              </a:rPr>
              <a:t>Air Canad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FLIGHT ATTENDANTS        DC-9 + A 3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1360" y="2438280"/>
            <a:ext cx="7720920" cy="2286000"/>
            <a:chOff x="711360" y="2438280"/>
            <a:chExt cx="7720920" cy="2286000"/>
          </a:xfrm>
        </p:grpSpPr>
        <p:grpSp>
          <p:nvGrpSpPr>
            <p:cNvPr id="175" name=""/>
            <p:cNvGrpSpPr/>
            <p:nvPr/>
          </p:nvGrpSpPr>
          <p:grpSpPr>
            <a:xfrm>
              <a:off x="711360" y="2438280"/>
              <a:ext cx="7720920" cy="2286000"/>
              <a:chOff x="711360" y="2438280"/>
              <a:chExt cx="7720920" cy="2286000"/>
            </a:xfrm>
          </p:grpSpPr>
          <p:sp>
            <p:nvSpPr>
              <p:cNvPr id="176" name=""/>
              <p:cNvSpPr/>
              <p:nvPr/>
            </p:nvSpPr>
            <p:spPr>
              <a:xfrm>
                <a:off x="6197400" y="4152960"/>
                <a:ext cx="22345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cc"/>
                    </a:solidFill>
                    <a:latin typeface="Times New Roman"/>
                  </a:rPr>
                  <a:t>2.0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55720" y="4152960"/>
                <a:ext cx="26416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cc"/>
                    </a:solidFill>
                    <a:latin typeface="Times New Roman"/>
                  </a:rPr>
                  <a:t>119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360" y="4152960"/>
                <a:ext cx="28443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cc"/>
                    </a:solidFill>
                    <a:latin typeface="Times New Roman"/>
                  </a:rPr>
                  <a:t>MONTHL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97400" y="3581280"/>
                <a:ext cx="22345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1.3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55720" y="3581280"/>
                <a:ext cx="26416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242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1360" y="3581280"/>
                <a:ext cx="28443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WEEKL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97400" y="3009600"/>
                <a:ext cx="22345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0.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5720" y="3009600"/>
                <a:ext cx="26416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9044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cc0000"/>
                    </a:solidFill>
                    <a:latin typeface="Times New Roman"/>
                  </a:rPr>
                  <a:t>43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1360" y="3009600"/>
                <a:ext cx="28443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cc0000"/>
                    </a:solidFill>
                    <a:latin typeface="Times New Roman"/>
                  </a:rPr>
                  <a:t>DAIL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97400" y="2438280"/>
                <a:ext cx="22345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% </a:t>
                </a:r>
                <a:r>
                  <a:rPr b="1" i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F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55720" y="2438280"/>
                <a:ext cx="26416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FLIGHT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1360" y="2438280"/>
                <a:ext cx="28443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cc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360" y="2438280"/>
                <a:ext cx="28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1360" y="4724280"/>
                <a:ext cx="28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1360" y="243828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432280" y="243828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55720" y="2438280"/>
                <a:ext cx="26416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1360" y="300960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97400" y="2438280"/>
                <a:ext cx="2234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32280" y="300960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11360" y="358128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432280" y="358128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1360" y="415296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32280" y="4152960"/>
                <a:ext cx="0" cy="57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55720" y="4724280"/>
                <a:ext cx="26416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97400" y="4724280"/>
                <a:ext cx="2234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1360" y="3009600"/>
                <a:ext cx="7720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55720" y="24382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97400" y="24382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838080" y="25146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1" i="1" lang="fr-CA" sz="2400" spc="-1" strike="noStrike">
                  <a:solidFill>
                    <a:srgbClr val="000000"/>
                  </a:solidFill>
                  <a:latin typeface="Times New Roman"/>
                </a:rPr>
                <a:t>BASES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09480" y="4800600"/>
            <a:ext cx="79250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  vs  </a:t>
            </a:r>
            <a:r>
              <a:rPr b="1" lang="fr-CA" sz="2400" spc="-1" strike="noStrike">
                <a:solidFill>
                  <a:srgbClr val="0000cc"/>
                </a:solidFill>
                <a:latin typeface="Arial"/>
              </a:rPr>
              <a:t>Air Canada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 solution :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7.8 % </a:t>
            </a:r>
            <a:r>
              <a:rPr b="1" lang="fr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 2.0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562720"/>
            <a:ext cx="7925040" cy="3070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400" spc="-1" strike="noStrike">
                <a:solidFill>
                  <a:srgbClr val="000000"/>
                </a:solidFill>
                <a:latin typeface="Arial"/>
              </a:rPr>
              <a:t>TRANSAT, CAN. REGIONAL, NORTHWEST, U.P.S., DELTA, SABENA, SWISSAIR, FE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Crew Rostering  </a:t>
            </a:r>
            <a:br>
              <a:rPr sz="4000"/>
            </a:br>
            <a:r>
              <a:rPr b="1" i="1" lang="fr-FR" sz="4000" spc="-1" strike="noStrike">
                <a:solidFill>
                  <a:srgbClr val="0000cc"/>
                </a:solidFill>
                <a:latin typeface="Times New Roman"/>
              </a:rPr>
              <a:t>Air Franc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82440" y="1828800"/>
            <a:ext cx="3389400" cy="61920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light Attenda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2666880"/>
            <a:ext cx="6324480" cy="181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ORLY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 CD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IRING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54*7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000*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24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648320"/>
            <a:ext cx="63244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SAVINGS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7.4%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 7.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562720"/>
            <a:ext cx="7925040" cy="3070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400" spc="-1" strike="noStrike">
                <a:solidFill>
                  <a:srgbClr val="000000"/>
                </a:solidFill>
                <a:latin typeface="Arial"/>
              </a:rPr>
              <a:t>A. C., TRANSAT, CAN. REGIONAL, TWA, DELTA, SABENA, SWISSAIR, AMERICA 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Fleet Assignment &amp; Aircraft Routing </a:t>
            </a:r>
            <a:r>
              <a:rPr b="1" i="1" lang="fr-FR" sz="4000" spc="-1" strike="noStrike">
                <a:solidFill>
                  <a:srgbClr val="0000cc"/>
                </a:solidFill>
                <a:latin typeface="Times New Roman"/>
              </a:rPr>
              <a:t>Air Canad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91 AIRCRAFT, 9 TYPES, 33 S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FLEET REDUC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0000"/>
                </a:solidFill>
                <a:latin typeface="Times New Roman"/>
              </a:rPr>
              <a:t>WITH TIME WINDOWS ON FLIGHT SCHED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2971800"/>
            <a:ext cx="7772040" cy="1676160"/>
            <a:chOff x="457200" y="2971800"/>
            <a:chExt cx="7772040" cy="1676160"/>
          </a:xfrm>
        </p:grpSpPr>
        <p:sp>
          <p:nvSpPr>
            <p:cNvPr id="216" name=""/>
            <p:cNvSpPr/>
            <p:nvPr/>
          </p:nvSpPr>
          <p:spPr>
            <a:xfrm>
              <a:off x="6400800" y="2971800"/>
              <a:ext cx="1828440" cy="1676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13.9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Symbol" charset="2"/>
                <a:buChar char="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Symbol" charset="2"/>
                <a:buChar char="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3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2971800"/>
              <a:ext cx="1828800" cy="1676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8.9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Symbol" charset="2"/>
                <a:buChar char="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Symbol" charset="2"/>
                <a:buChar char="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2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29080" y="2971800"/>
              <a:ext cx="1942920" cy="1676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3.8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Symbol" charset="2"/>
                <a:buChar char="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" y="2971800"/>
              <a:ext cx="2171880" cy="1676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SAV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T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2971800"/>
              <a:ext cx="217188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647960"/>
              <a:ext cx="217188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2971800"/>
              <a:ext cx="0" cy="16761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9240" y="2971800"/>
              <a:ext cx="0" cy="16761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9080" y="2971800"/>
              <a:ext cx="194292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29080" y="4647960"/>
              <a:ext cx="194292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0" y="2971800"/>
              <a:ext cx="182880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0" y="4647960"/>
              <a:ext cx="182880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971800"/>
              <a:ext cx="182844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4647960"/>
              <a:ext cx="182844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9080" y="2971800"/>
              <a:ext cx="0" cy="1676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Aircraft Routing &amp; Scheduling </a:t>
            </a:r>
            <a:r>
              <a:rPr b="1" i="1" lang="fr-CA" sz="4000" spc="-1" strike="noStrike">
                <a:solidFill>
                  <a:srgbClr val="0000cc"/>
                </a:solidFill>
                <a:latin typeface="Times New Roman"/>
              </a:rPr>
              <a:t>Canadian Army (C-130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WEST CHALLENGE (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19 city-pai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750 soldiers and equi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MAX 65 soldiers per fligh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5800" y="3505320"/>
            <a:ext cx="7619760" cy="2590200"/>
            <a:chOff x="685800" y="3505320"/>
            <a:chExt cx="7619760" cy="2590200"/>
          </a:xfrm>
        </p:grpSpPr>
        <p:sp>
          <p:nvSpPr>
            <p:cNvPr id="234" name=""/>
            <p:cNvSpPr/>
            <p:nvPr/>
          </p:nvSpPr>
          <p:spPr>
            <a:xfrm>
              <a:off x="5765400" y="5508000"/>
              <a:ext cx="2540160" cy="587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cc"/>
                  </a:solidFill>
                  <a:latin typeface="Times New Roman"/>
                </a:rPr>
                <a:t>1   (33 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25960" y="5508000"/>
              <a:ext cx="2539440" cy="587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cc"/>
                  </a:solidFill>
                  <a:latin typeface="Times New Roman"/>
                </a:rPr>
                <a:t>20 HRS  (34 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5508000"/>
              <a:ext cx="2540160" cy="587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cc"/>
                  </a:solidFill>
                  <a:latin typeface="Times New Roman"/>
                </a:rPr>
                <a:t>SAV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65400" y="4960080"/>
              <a:ext cx="2540160" cy="5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25960" y="4960080"/>
              <a:ext cx="2539440" cy="5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39 H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4960080"/>
              <a:ext cx="2540160" cy="5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cc0000"/>
                  </a:solidFill>
                  <a:latin typeface="Times New Roman"/>
                </a:rPr>
                <a:t>GENCOL</a:t>
              </a:r>
              <a:r>
                <a:rPr b="1" i="1" lang="fr-C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Optimiz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65400" y="4413960"/>
              <a:ext cx="2540160" cy="54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25960" y="4413960"/>
              <a:ext cx="2539440" cy="54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59 H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" y="4413960"/>
              <a:ext cx="2540160" cy="54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Manual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5400" y="3505320"/>
              <a:ext cx="2540160" cy="90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OF AIRC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5960" y="3505320"/>
              <a:ext cx="2539440" cy="90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FL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3505320"/>
              <a:ext cx="2540160" cy="90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5800" y="3505320"/>
              <a:ext cx="254016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6095520"/>
              <a:ext cx="254016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3505320"/>
              <a:ext cx="0" cy="90864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05560" y="3505320"/>
              <a:ext cx="0" cy="90864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25960" y="3505320"/>
              <a:ext cx="253944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4413960"/>
              <a:ext cx="0" cy="5457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65400" y="3505320"/>
              <a:ext cx="254016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05560" y="4413960"/>
              <a:ext cx="0" cy="5457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4960080"/>
              <a:ext cx="0" cy="54792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5560" y="4960080"/>
              <a:ext cx="0" cy="54792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5508000"/>
              <a:ext cx="0" cy="5871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5560" y="5508000"/>
              <a:ext cx="0" cy="5871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25960" y="6095520"/>
              <a:ext cx="253944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5400" y="6095520"/>
              <a:ext cx="2540160" cy="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5960" y="3505320"/>
              <a:ext cx="0" cy="25902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65400" y="3505320"/>
              <a:ext cx="0" cy="25902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4413960"/>
              <a:ext cx="76197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800" y="4960080"/>
              <a:ext cx="76197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" y="5508000"/>
              <a:ext cx="76197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8120" y="3657600"/>
            <a:ext cx="304776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503360" y="1980720"/>
            <a:ext cx="6137280" cy="310068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2000 – 3000 bus seg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One- or two-day shif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Collective agreement rules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cc"/>
                </a:solidFill>
                <a:latin typeface="Times New Roman"/>
              </a:rPr>
              <a:t>SAVINGS </a:t>
            </a:r>
            <a:r>
              <a:rPr b="1" lang="fr-CA" sz="32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1" lang="fr-CA" sz="3200" spc="-1" strike="noStrike">
                <a:solidFill>
                  <a:srgbClr val="0000cc"/>
                </a:solidFill>
                <a:latin typeface="Times New Roman"/>
              </a:rPr>
              <a:t> 15 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cc"/>
                </a:solidFill>
                <a:latin typeface="Tahoma"/>
              </a:rPr>
              <a:t>GIRO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contract :  </a:t>
            </a:r>
            <a:r>
              <a:rPr b="1" lang="fr-CA" sz="3100" spc="-1" strike="noStrike">
                <a:solidFill>
                  <a:srgbClr val="000000"/>
                </a:solidFill>
                <a:latin typeface="Times New Roman"/>
              </a:rPr>
              <a:t>US $1,500,000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06080" y="533160"/>
            <a:ext cx="8280360" cy="11430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Subway Driver Scheduling</a:t>
            </a:r>
            <a:br>
              <a:rPr sz="4000"/>
            </a:br>
            <a:r>
              <a:rPr b="1" i="1" lang="fr-CA" sz="3600" spc="-1" strike="noStrike">
                <a:solidFill>
                  <a:srgbClr val="0000cc"/>
                </a:solidFill>
                <a:latin typeface="Times New Roman"/>
              </a:rPr>
              <a:t>Tokyo (1993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554800"/>
            <a:ext cx="754380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tockholm, Helsinky, Singapore, Barcelone, New York, Chicago… 35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3840" y="1981080"/>
            <a:ext cx="8008920" cy="3175200"/>
          </a:xfrm>
          <a:prstGeom prst="rect">
            <a:avLst/>
          </a:prstGeom>
          <a:solidFill>
            <a:srgbClr val="f8f8f8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Weekly probl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2000 Trains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26 Locomotive typ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Maintenance constrai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Minimal demand for each train : nb. of locos &amp;  h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SAVINGS : 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100 locos over 1090 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(9.17 %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Locomotive Routing  </a:t>
            </a:r>
            <a:br>
              <a:rPr sz="4000"/>
            </a:br>
            <a:r>
              <a:rPr b="1" i="1" lang="fr-FR" sz="4000" spc="-1" strike="noStrike">
                <a:solidFill>
                  <a:srgbClr val="0000cc"/>
                </a:solidFill>
                <a:latin typeface="Times New Roman"/>
              </a:rPr>
              <a:t>Canadian National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5638680"/>
            <a:ext cx="1981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+  Via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9907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UCCESSFUL APPLICATION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152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Times New Roman"/>
              </a:rPr>
              <a:t>Vehicle Routing with Time Window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al-a-Ride for Physically Disabled Pers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rban Transit Crew Schedul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ltiple Depot Vehicle Scheduling</a:t>
            </a:r>
            <a:r>
              <a:rPr b="1" lang="en-US" sz="2800" spc="-1" strike="noStrike">
                <a:solidFill>
                  <a:srgbClr val="40004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ircraft Routing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rew Pair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rew Rostering (Pilots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Flight Attendants)</a:t>
            </a:r>
            <a:r>
              <a:rPr b="1" lang="en-US" sz="2800" spc="-1" strike="noStrike">
                <a:solidFill>
                  <a:srgbClr val="40004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Locomotive and Car Assig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mmercial Benefits ...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3596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 Rounded MT Bold"/>
              </a:rPr>
              <a:t>Ad Opt Technolog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5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… </a:t>
            </a:r>
            <a:r>
              <a:rPr b="1" i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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  15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ly revenu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$ 300 K 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$ 5.7 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... </a:t>
            </a:r>
            <a:r>
              <a:rPr b="1" i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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 $ 19,6 M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ronto Stock Market (since June 17, 1999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520" y="297144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BS-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520" y="297144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BS-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7144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leet Homogeneity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520" y="297144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ircraft Routin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2895840"/>
          </a:xfrm>
          <a:prstGeom prst="rect">
            <a:avLst/>
          </a:prstGeom>
          <a:solidFill>
            <a:srgbClr val="eaeaea"/>
          </a:soli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0000"/>
                </a:solidFill>
                <a:latin typeface="Arial Rounded MT Bold"/>
              </a:rPr>
              <a:t>ALTITUDE</a:t>
            </a:r>
            <a:br>
              <a:rPr sz="700"/>
            </a:b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An Optimization System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for the Management of Operations   in Air Transpor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5562720" cy="17528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University-Industry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R&amp;D Projec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993 -1998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971800"/>
            <a:ext cx="3962160" cy="320040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Ph.D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M.Sc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990720"/>
          </a:xfrm>
          <a:prstGeom prst="rect">
            <a:avLst/>
          </a:prstGeom>
          <a:solidFill>
            <a:srgbClr val="eaeaea"/>
          </a:solidFill>
          <a:ln w="3816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0000"/>
                </a:solidFill>
                <a:latin typeface="Arial Rounded MT Bold"/>
              </a:rPr>
              <a:t>ALTITUDE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057400"/>
            <a:ext cx="7772400" cy="581400"/>
          </a:xfrm>
          <a:prstGeom prst="rect">
            <a:avLst/>
          </a:prstGeom>
          <a:solidFill>
            <a:srgbClr val="f8f8f8"/>
          </a:solidFill>
          <a:ln w="572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emic &amp; Scientific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4648320"/>
            <a:ext cx="3962160" cy="121896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priz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2971800"/>
            <a:ext cx="3962160" cy="32004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REW-O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US-O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ITUDE-Pairing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ITUDE-Rost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ITUDE-PB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AIL-WAY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990720"/>
          </a:xfrm>
          <a:prstGeom prst="rect">
            <a:avLst/>
          </a:prstGeom>
          <a:solidFill>
            <a:srgbClr val="eaeaea"/>
          </a:solidFill>
          <a:ln w="381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GENCOL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Optimizer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4695840"/>
            <a:ext cx="3200400" cy="106884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60 installatio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057400"/>
            <a:ext cx="7772400" cy="581400"/>
          </a:xfrm>
          <a:prstGeom prst="rect">
            <a:avLst/>
          </a:prstGeom>
          <a:solidFill>
            <a:srgbClr val="f8f8f8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Core of Various Softwar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100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Artistic Effec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43440" y="1828800"/>
          <a:ext cx="277668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3440" y="1828800"/>
                    <a:ext cx="277668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3880" y="1828800"/>
          <a:ext cx="276228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828800"/>
                    <a:ext cx="276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100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Industrial  Effec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35960" cy="411480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ff3300"/>
                </a:solidFill>
                <a:latin typeface="Arial Rounded MT Bold"/>
              </a:rPr>
              <a:t>Ad Opt Technologies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Nombre d’employé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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      55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CA" sz="2400" spc="-1" strike="noStrike">
                <a:solidFill>
                  <a:srgbClr val="cc0000"/>
                </a:solidFill>
                <a:latin typeface="Times New Roman"/>
              </a:rPr>
              <a:t>… </a:t>
            </a:r>
            <a:r>
              <a:rPr b="1" i="1" lang="fr-CA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</a:t>
            </a:r>
            <a:r>
              <a:rPr b="1" i="1" lang="fr-CA" sz="2800" spc="-1" strike="noStrike">
                <a:solidFill>
                  <a:srgbClr val="cc0000"/>
                </a:solidFill>
                <a:latin typeface="Times New Roman"/>
              </a:rPr>
              <a:t>   150</a:t>
            </a: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Annual Revenu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$ 300 K  </a:t>
            </a:r>
            <a:r>
              <a:rPr b="1" i="1" lang="fr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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  $ 5.7 M 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CA" sz="2800" spc="-1" strike="noStrike">
                <a:solidFill>
                  <a:srgbClr val="cc0000"/>
                </a:solidFill>
                <a:latin typeface="Times New Roman"/>
              </a:rPr>
              <a:t>... </a:t>
            </a:r>
            <a:r>
              <a:rPr b="1" i="1" lang="fr-CA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</a:t>
            </a:r>
            <a:r>
              <a:rPr b="1" i="1" lang="fr-CA" sz="2800" spc="-1" strike="noStrike">
                <a:solidFill>
                  <a:srgbClr val="cc0000"/>
                </a:solidFill>
                <a:latin typeface="Times New Roman"/>
              </a:rPr>
              <a:t>  $ 19.6 M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Toronto Stock Exchange (since June 17, 1999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000000"/>
                </a:solidFill>
                <a:latin typeface="Arial Rounded MT Bold"/>
              </a:rPr>
              <a:t>Ad Opt Technologies </a:t>
            </a:r>
            <a:r>
              <a:rPr b="1" lang="fr-CA" sz="44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fr-CA" sz="4400" spc="-1" strike="noStrike">
                <a:solidFill>
                  <a:srgbClr val="ff0000"/>
                </a:solidFill>
                <a:latin typeface="Arial Rounded MT Bold"/>
              </a:rPr>
              <a:t>M$</a:t>
            </a:r>
            <a:r>
              <a:rPr b="1" lang="fr-CA" sz="4400" spc="-1" strike="noStrike">
                <a:solidFill>
                  <a:srgbClr val="ff0000"/>
                </a:solidFill>
                <a:latin typeface="Arial Rounded MT Bold"/>
              </a:rPr>
              <a:t>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600200"/>
          <a:ext cx="84582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58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Product Archite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07960" y="1714680"/>
            <a:ext cx="7924320" cy="4560840"/>
            <a:chOff x="507960" y="1714680"/>
            <a:chExt cx="7924320" cy="4560840"/>
          </a:xfrm>
        </p:grpSpPr>
        <p:grpSp>
          <p:nvGrpSpPr>
            <p:cNvPr id="66" name=""/>
            <p:cNvGrpSpPr/>
            <p:nvPr/>
          </p:nvGrpSpPr>
          <p:grpSpPr>
            <a:xfrm>
              <a:off x="711360" y="1735200"/>
              <a:ext cx="7720920" cy="4540320"/>
              <a:chOff x="711360" y="1735200"/>
              <a:chExt cx="7720920" cy="4540320"/>
            </a:xfrm>
          </p:grpSpPr>
          <p:sp>
            <p:nvSpPr>
              <p:cNvPr id="67" name=""/>
              <p:cNvSpPr/>
              <p:nvPr/>
            </p:nvSpPr>
            <p:spPr>
              <a:xfrm>
                <a:off x="711360" y="5859720"/>
                <a:ext cx="7720920" cy="41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5000"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GENCOL OPTIMIZ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1640" y="544428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1360" y="544428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1640" y="502884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1360" y="502884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71640" y="461304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1360" y="4613040"/>
                <a:ext cx="386028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1360" y="4209480"/>
                <a:ext cx="7720920" cy="4035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MODELING MODU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1360" y="3792600"/>
                <a:ext cx="77209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1360" y="3377160"/>
                <a:ext cx="77209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11360" y="2961360"/>
                <a:ext cx="77209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1360" y="2545920"/>
                <a:ext cx="7720920" cy="41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5000"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800" spc="-1" strike="noStrike">
                    <a:solidFill>
                      <a:srgbClr val="000000"/>
                    </a:solidFill>
                    <a:latin typeface="Times New Roman"/>
                  </a:rPr>
                  <a:t>GRAPHICAL USER INTERFA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1360" y="2130480"/>
                <a:ext cx="77209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1360" y="1735200"/>
                <a:ext cx="7720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1360" y="1735200"/>
                <a:ext cx="77209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1360" y="627552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360" y="2545920"/>
                <a:ext cx="0" cy="41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11360" y="1735200"/>
                <a:ext cx="0" cy="395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432280" y="2545920"/>
                <a:ext cx="0" cy="41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32280" y="1735200"/>
                <a:ext cx="0" cy="395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1360" y="337716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432280" y="337716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1360" y="4209480"/>
                <a:ext cx="0" cy="403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32280" y="4209480"/>
                <a:ext cx="0" cy="403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1360" y="502884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432280" y="502884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1360" y="5859720"/>
                <a:ext cx="0" cy="41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32280" y="5859720"/>
                <a:ext cx="0" cy="41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1360" y="254592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1360" y="213048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1360" y="296136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32280" y="213048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432280" y="296136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1360" y="296136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360" y="420948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1360" y="3792600"/>
                <a:ext cx="0" cy="416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1360" y="461304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432280" y="3792600"/>
                <a:ext cx="0" cy="416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32280" y="461304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1360" y="461304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1360" y="5859720"/>
                <a:ext cx="772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1360" y="544428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32280" y="5444280"/>
                <a:ext cx="0" cy="41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505320" y="1714680"/>
              <a:ext cx="2133360" cy="39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7360" y="3371760"/>
              <a:ext cx="3149280" cy="400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Arial"/>
                </a:rPr>
                <a:t>DATA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7960" y="5029200"/>
              <a:ext cx="4267080" cy="51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cc"/>
                  </a:solidFill>
                  <a:latin typeface="Arial"/>
                </a:rPr>
                <a:t>TASKS</a:t>
              </a:r>
              <a:r>
                <a:rPr b="1" lang="fr-CA" sz="2400" spc="-1" strike="noStrike">
                  <a:solidFill>
                    <a:srgbClr val="000000"/>
                  </a:solidFill>
                  <a:latin typeface="Arial"/>
                </a:rPr>
                <a:t>, NET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3360" y="5086440"/>
              <a:ext cx="243828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cc0000"/>
                  </a:solidFill>
                  <a:latin typeface="Arial"/>
                </a:rPr>
                <a:t>PA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213048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1760" y="2955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35640" y="379260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3" idx="4"/>
              <a:endCxn id="68" idx="2"/>
            </p:cNvCxnSpPr>
            <p:nvPr/>
          </p:nvCxnSpPr>
          <p:spPr>
            <a:xfrm>
              <a:off x="6501960" y="542880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18" name=""/>
            <p:cNvCxnSpPr>
              <a:stCxn id="112" idx="4"/>
              <a:endCxn id="69" idx="2"/>
            </p:cNvCxnSpPr>
            <p:nvPr/>
          </p:nvCxnSpPr>
          <p:spPr>
            <a:xfrm>
              <a:off x="2641320" y="5543280"/>
              <a:ext cx="108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3" idx="0"/>
              <a:endCxn id="72" idx="0"/>
            </p:cNvCxnSpPr>
            <p:nvPr/>
          </p:nvCxnSpPr>
          <p:spPr>
            <a:xfrm flipV="1">
              <a:off x="6501960" y="4613040"/>
              <a:ext cx="1080" cy="47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73" idx="0"/>
              <a:endCxn id="112" idx="0"/>
            </p:cNvCxnSpPr>
            <p:nvPr/>
          </p:nvCxnSpPr>
          <p:spPr>
            <a:xfrm>
              <a:off x="2641320" y="4613040"/>
              <a:ext cx="108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 Desrosiers</cp:lastModifiedBy>
  <cp:lastPrinted>2000-05-04T10:40:17Z</cp:lastPrinted>
  <dcterms:modified xsi:type="dcterms:W3CDTF">2003-07-17T00:21:09Z</dcterms:modified>
  <cp:revision>59</cp:revision>
  <dc:subject/>
  <dc:title>CREW SCHEDULING : Past and Future</dc:title>
</cp:coreProperties>
</file>