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8967788" cy="7073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09F-143B-46C6-A34F-F371CEA1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A3CC-DBC5-47C5-8C42-95A71B32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C547-C4CD-4767-8E45-77F68F59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C0E-607F-4113-98B5-E080D41D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3F4-4A50-46B3-859A-53EA1DC8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987-CE9D-4F4B-887B-0EC4D2B1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999E-CD1E-4EE4-B8DC-E9A1CE1D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580-D547-4B5C-96F2-82EC1C9E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8A8-C6B2-4DC3-BCF9-D5A4CE40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828-55CA-4E01-B91C-02AB0AC3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7278-4B01-4987-BBC0-CF00FEB8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182-60C2-470E-A778-D54D7796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5ACD-F8A1-4C79-857A-E567DA5F5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533376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wo-Level Problem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6629400" cy="350532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nders Decomposition Algorith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Simultaneous Assignment of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uses and Driver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ircraft and Pilot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airings and Roster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Times New Roman"/>
              </a:rPr>
              <a:t>Locomotives and Car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477120" y="5562720"/>
            <a:ext cx="137160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723960" y="4800600"/>
                <a:ext cx="742932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πA</m:t>
                            </m:r>
                            <m:r>
                              <m:t xml:space="preserve">≤</m:t>
                            </m:r>
                            <m:r>
                              <m:t xml:space="preserve">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An Overview of Benders Decomposition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717480" y="2362320"/>
                <a:ext cx="7817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y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;</m:t>
                    </m:r>
                    <m:r>
                      <m:t xml:space="preserve">y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50880" y="3352680"/>
                <a:ext cx="7959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y</m:t>
                            </m:r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762120" y="1828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ssume feasible the following proble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952880" y="3809880"/>
            <a:ext cx="373392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61800" y="228600"/>
                <a:ext cx="84772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r</m:t>
                            </m:r>
                            <m:r>
                              <m:t xml:space="preserve">∈</m:t>
                            </m:r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06200" y="3133800"/>
                <a:ext cx="8732880" cy="13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  <m:r>
                              <m:t xml:space="preserve">)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r</m:t>
                            </m:r>
                            <m:r>
                              <m:t xml:space="preserve">∈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07960" y="1828800"/>
                <a:ext cx="80265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rPr>
                            <m:lit/>
                            <m:nor/>
                          </m:rPr>
                          <m:t xml:space="preserve"> for some extreme ray 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dual is unbounded hence the primal is infeasibl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165320" y="5037120"/>
                <a:ext cx="691992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P(X, Y)  for Two-Level Scheduling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153280" cy="29718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P(X, y) solved using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Benders Decomposi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ste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IP(X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mplex and B&amp;B(X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b-Proble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solved by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olumn Generatio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P(y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Set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P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Constrained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57400"/>
            <a:ext cx="8153280" cy="6426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B&amp;B(Y) with MIP(X, y) at each n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3733920"/>
            <a:ext cx="1067040" cy="3045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685800"/>
            <a:ext cx="5638680" cy="5105520"/>
          </a:xfrm>
          <a:prstGeom prst="rect">
            <a:avLst/>
          </a:prstGeom>
          <a:solidFill>
            <a:srgbClr val="eaeaea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1143000"/>
            <a:ext cx="289584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3429000"/>
            <a:ext cx="2819520" cy="1828800"/>
          </a:xfrm>
          <a:prstGeom prst="rect">
            <a:avLst/>
          </a:prstGeom>
          <a:solidFill>
            <a:srgbClr val="99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4495680"/>
            <a:ext cx="121896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3505320"/>
            <a:ext cx="121896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41911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4800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409720" y="3886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715000" y="38862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400800" y="16765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019920" y="1676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121932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nders 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380988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nders 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579132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380880"/>
            <a:ext cx="3124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6172200"/>
            <a:ext cx="3124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380880"/>
            <a:ext cx="0" cy="5791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380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6607440" y="3096720"/>
            <a:ext cx="1447560" cy="58140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B &amp; 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13716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3581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4572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36576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G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4572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G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2:07:35Z</dcterms:created>
  <dc:creator>Jacques Desrosiers</dc:creator>
  <dc:description/>
  <dc:language>en-US</dc:language>
  <cp:lastModifiedBy>jacques</cp:lastModifiedBy>
  <cp:lastPrinted>2001-03-22T01:45:53Z</cp:lastPrinted>
  <dcterms:modified xsi:type="dcterms:W3CDTF">2001-11-27T15:05:32Z</dcterms:modified>
  <cp:revision>54</cp:revision>
  <dc:subject/>
  <dc:title>CREW SCHEDULING : Past and Future</dc:title>
</cp:coreProperties>
</file>