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387-D8ED-4071-B436-C55F2089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4AA-D7FA-44A7-A741-905DBEC3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C7A-7EEC-48AC-B91D-1AA45B10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840-A93E-4A31-AD32-05BAAB95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7B2-5730-4D54-B050-C7AFABF1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C55-ABBB-4DF9-886B-D1216A8A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A5F-B4F0-4872-86DF-B4344B73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CDF-AE14-4E65-9C6A-D383D181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A99-0895-42D2-98CF-5F0FAB19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840-AB02-4BDA-9259-827A5A07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B0B2-5B08-4E5E-BDA1-1E658A19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DED-7E03-4DA1-B3EE-3FE58243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C280-E024-48AE-B492-7C2777036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ynamic aggregation of </a:t>
            </a:r>
            <a:br>
              <a:rPr sz="3600"/>
            </a:br>
            <a:r>
              <a:rPr b="1" lang="fr-CA" sz="3600" spc="-1" strike="noStrike">
                <a:solidFill>
                  <a:srgbClr val="333399"/>
                </a:solidFill>
                <a:latin typeface="Arial"/>
              </a:rPr>
              <a:t>set partitioning constraints in column gen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2781360"/>
            <a:ext cx="7201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hors:           Elhallaoui, Is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Villeneuve, Da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Soumis, Franç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Desaulniers, Gu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ffiliation: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cole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olytechnique and GER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3000 chemin de la cote–ste-cather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real, Canada H3T 2A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h, danielv, soumis, guyd@crt.umontreal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8c9ce"/>
                </a:solidFill>
                <a:latin typeface="Arial"/>
              </a:rPr>
              <a:t>Dual variables disaggreg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VRMP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al variables (aggrega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ggregate these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Strategy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into account  some incompatible columns wh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a disaggregated dual variables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linear system of equalities and inequalities between the aggregated dual variables vector and the disaggregated one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forming this linear system  into a networ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ing shortest paths in this network using Bellman algorith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8c9ce"/>
                </a:solidFill>
                <a:latin typeface="Arial"/>
              </a:rPr>
              <a:t>Partition adjustm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technique of partial pricing to decide if it is better to update the partition or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Partition disaggregation:</a:t>
            </a: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ber of a disjoint incompatible columns, called Gamma, are used to disaggregate the par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Partition aggregation:</a:t>
            </a:r>
            <a:r>
              <a:rPr b="1" lang="fr-CA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size of the par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riteria 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the non-zero basic columns is preser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partition is greater than a parameter De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space order is preserv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</a:rPr>
              <a:t>Converg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of objective value ensures the  converg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iteration, columns with negative reduced costs are added to CVR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update the partition, we make sure that the non-zero basic columns are still compatible with the new partition.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Hence, the objective value will not increase at the following it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</a:rPr>
              <a:t>Computational results</a:t>
            </a: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VCSP using CG + BB (GENCOL 4.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are restricted to node 0 of BB tree corresponding to the linear relaxation of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nstances are generated random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aggregation algorith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mpar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column gene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d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3399"/>
                </a:solidFill>
                <a:latin typeface="Arial"/>
              </a:rPr>
              <a:t>Computational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11280" y="620640"/>
          <a:ext cx="8281800" cy="5688000"/>
        </p:xfrm>
        <a:graphic>
          <a:graphicData uri="http://schemas.openxmlformats.org/drawingml/2006/table">
            <a:tbl>
              <a:tblPr/>
              <a:tblGrid>
                <a:gridCol w="2174760"/>
                <a:gridCol w="669960"/>
                <a:gridCol w="668160"/>
                <a:gridCol w="663840"/>
                <a:gridCol w="674640"/>
                <a:gridCol w="839880"/>
                <a:gridCol w="834840"/>
                <a:gridCol w="835200"/>
                <a:gridCol w="920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8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8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 it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(Me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al Var Disagg.(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. Adjust.(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nb const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 of part ch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0 basic v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 LP non z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blem (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ter problem(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3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time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905400" y="6308640"/>
            <a:ext cx="69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able 2: Results when varying the number of trips for 9 relief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ynamic aggregation is a new paradi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t redu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master problem time by up to 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total time by up to 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degen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umber of non-zero variables in the LP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CA" sz="2800" spc="-1" strike="noStrike">
                <a:solidFill>
                  <a:srgbClr val="88c9ce"/>
                </a:solidFill>
                <a:latin typeface="Arial"/>
              </a:rPr>
              <a:t>Dynamic aggregation ingredie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ood initial par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fficient adjustment of the par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oo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8c9ce"/>
                </a:solidFill>
                <a:latin typeface="Arial"/>
              </a:rPr>
              <a:t>Expectations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aggressively solution time for very large in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he number of BB n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8c9ce"/>
                </a:solidFill>
                <a:latin typeface="Arial"/>
              </a:rPr>
              <a:t>Extentions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ynamic aggregation mechanism to solve other problems namely crew pairing problem for regional air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</a:rPr>
              <a:t>Conte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67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Problem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Why dynamic aggregation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concepts of dynamic 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ynamic aggregation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ynamic aggregation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Computation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</a:rPr>
              <a:t>Problem description</a:t>
            </a:r>
            <a:br>
              <a:rPr sz="2800"/>
            </a:br>
            <a:r>
              <a:rPr b="1" lang="en-US" sz="2800" spc="-1" strike="noStrike">
                <a:solidFill>
                  <a:srgbClr val="88c9ce"/>
                </a:solidFill>
                <a:latin typeface="Arial"/>
              </a:rPr>
              <a:t>Simultaneous Vehicle and Crew Scheduling in </a:t>
            </a:r>
            <a:br>
              <a:rPr sz="2800"/>
            </a:br>
            <a:r>
              <a:rPr b="1" lang="fr-CA" sz="2800" spc="-1" strike="noStrike">
                <a:solidFill>
                  <a:srgbClr val="88c9ce"/>
                </a:solidFill>
                <a:latin typeface="Arial"/>
              </a:rPr>
              <a:t>Urban Mass Transit (VCS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ngle depot, homogeneous fl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termined set of bus lines, trips timetable, relief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ip is a sequence of consecutive segments called d-trips ( between 2 consecutive relief poi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ip must be covered by exactly one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-trip must be assigned to exactly one dr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ork rules must be satisfied (breaks, duty length, piece of work legth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 : minimize the total costs including bus and driver operational and fixed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Arial"/>
              </a:rPr>
              <a:t>Problem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CSP is</a:t>
            </a: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P-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CSP size grows significantly with the number of relief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generated especially for higher number of relief points</a:t>
            </a: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 can be found in :  `Simultaneous Vehicle and Crew Scheduling in Urban Mass Transit Systems`, K. Haase, G.  Desaulniers, J. Desrosiers October 99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y dynamic aggregation of constraints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1:  Linear relaxation of VCSP for 40 trips with stand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8c9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c9ce"/>
                </a:solidFill>
                <a:latin typeface="Arial"/>
              </a:rPr>
              <a:t>Motivation</a:t>
            </a:r>
            <a:r>
              <a:rPr b="0" lang="en-US" sz="2000" spc="-1" strike="noStrike">
                <a:solidFill>
                  <a:srgbClr val="88c9ce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duce the time consumed by the M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 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8c9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c9c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8c9ce"/>
                </a:solidFill>
                <a:latin typeface="Arial"/>
              </a:rPr>
              <a:t>In Real life problems we observe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ew exchanges of dri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timal solution deviates slightly from the exis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 case of reoptim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332000" y="1413000"/>
          <a:ext cx="6696000" cy="2190600"/>
        </p:xfrm>
        <a:graphic>
          <a:graphicData uri="http://schemas.openxmlformats.org/drawingml/2006/table">
            <a:tbl>
              <a:tblPr/>
              <a:tblGrid>
                <a:gridCol w="1898640"/>
                <a:gridCol w="779400"/>
                <a:gridCol w="1339920"/>
                <a:gridCol w="1338120"/>
                <a:gridCol w="133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e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constra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Basic concepts of  dynamic aggre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aggregation deals with set partitioning  constra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tasks is associated with an equivalence relation leading to a partition of these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quivalence class is represented by only one constraint in the Constraint and Variable Master problem (CVRM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VRMP, we keep only compatible columns with the par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lumn is said to be compatible with a partition if equivalent tasks are covered or not    covered (together) by this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</a:rPr>
              <a:t>Dynamic aggregation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88c9ce"/>
                </a:solidFill>
                <a:latin typeface="Arial"/>
              </a:rPr>
              <a:t>Step 1</a:t>
            </a:r>
            <a:r>
              <a:rPr b="0" lang="fr-CA" sz="2400" spc="-1" strike="noStrike">
                <a:solidFill>
                  <a:srgbClr val="88c9ce"/>
                </a:solidFill>
                <a:latin typeface="Arial"/>
              </a:rPr>
              <a:t>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iti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88c9ce"/>
                </a:solidFill>
                <a:latin typeface="Arial"/>
              </a:rPr>
              <a:t>Step 2</a:t>
            </a:r>
            <a:r>
              <a:rPr b="0" lang="fr-CA" sz="2400" spc="-1" strike="noStrike">
                <a:solidFill>
                  <a:srgbClr val="88c9ce"/>
                </a:solidFill>
                <a:latin typeface="Arial"/>
              </a:rPr>
              <a:t>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lve the  CVR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88c9ce"/>
                </a:solidFill>
                <a:latin typeface="Arial"/>
              </a:rPr>
              <a:t>Step 3</a:t>
            </a:r>
            <a:r>
              <a:rPr b="0" lang="fr-CA" sz="2400" spc="-1" strike="noStrike">
                <a:solidFill>
                  <a:srgbClr val="88c9ce"/>
                </a:solidFill>
                <a:latin typeface="Arial"/>
              </a:rPr>
              <a:t>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isaggregate du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8c9ce"/>
                </a:solidFill>
                <a:latin typeface="Arial"/>
              </a:rPr>
              <a:t>Step 4</a:t>
            </a:r>
            <a:r>
              <a:rPr b="0" lang="en-US" sz="2400" spc="-1" strike="noStrike">
                <a:solidFill>
                  <a:srgbClr val="88c9ce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e a s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olumns with negative reduced costs using an oracle. If empty then STOP (the solution is o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tim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8c9ce"/>
                </a:solidFill>
                <a:latin typeface="Arial"/>
              </a:rPr>
              <a:t>Step 5</a:t>
            </a:r>
            <a:r>
              <a:rPr b="0" lang="en-US" sz="2400" spc="-1" strike="noStrike">
                <a:solidFill>
                  <a:srgbClr val="88c9ce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some columns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ompatible with the partition and it is better to keep this partition then add them to CVRMP and go to step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8c9ce"/>
                </a:solidFill>
                <a:latin typeface="Arial"/>
              </a:rPr>
              <a:t>Step 6</a:t>
            </a:r>
            <a:r>
              <a:rPr b="0" lang="en-US" sz="2400" spc="-1" strike="noStrike">
                <a:solidFill>
                  <a:srgbClr val="88c9ce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oose a s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ome incompatible columns with negative reduced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88c9ce"/>
                </a:solidFill>
                <a:latin typeface="Arial"/>
              </a:rPr>
              <a:t>Step 7</a:t>
            </a:r>
            <a:r>
              <a:rPr b="0" lang="fr-CA" sz="2400" spc="-1" strike="noStrike">
                <a:solidFill>
                  <a:srgbClr val="88c9ce"/>
                </a:solidFill>
                <a:latin typeface="Arial"/>
              </a:rPr>
              <a:t>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pdate the partition according to 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nd add the compatible colums to CVRMP. Go to step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</a:rPr>
              <a:t>Dynamic aggregation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008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88c9ce"/>
                </a:solidFill>
                <a:latin typeface="Arial"/>
              </a:rPr>
              <a:t>Initial partition heuris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CA" sz="2800" spc="-1" strike="noStrike">
                <a:solidFill>
                  <a:srgbClr val="88c9ce"/>
                </a:solidFill>
                <a:latin typeface="Arial"/>
              </a:rPr>
              <a:t>CVRMP hand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CA" sz="2800" spc="-1" strike="noStrike">
                <a:solidFill>
                  <a:srgbClr val="88c9ce"/>
                </a:solidFill>
                <a:latin typeface="Arial"/>
              </a:rPr>
              <a:t>Dual variables disaggregation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8c9ce"/>
                </a:solidFill>
                <a:latin typeface="Arial"/>
              </a:rPr>
              <a:t>Partition adjustment : aggregation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8c9ce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88c9ce"/>
                </a:solidFill>
                <a:latin typeface="Arial"/>
              </a:rPr>
              <a:t>disaggregation. </a:t>
            </a:r>
            <a:r>
              <a:rPr b="1" lang="fr-FR" sz="2800" spc="-1" strike="noStrike">
                <a:solidFill>
                  <a:srgbClr val="88c9ce"/>
                </a:solidFill>
                <a:latin typeface="Arial"/>
              </a:rPr>
              <a:t>When/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8c9ce"/>
                </a:solidFill>
                <a:latin typeface="Arial"/>
              </a:rPr>
              <a:t>CVRMP handler</a:t>
            </a: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atible columns are removed from the master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atible columns are kept in a list for a possible further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ximum number of incompatible columns we keep, depends on the value of a parameter called Alp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artition changes, all compatible columns are added to the CVR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terface with CPLEX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15:47:49Z</dcterms:created>
  <dc:creator>ih</dc:creator>
  <dc:description/>
  <dc:language>en-US</dc:language>
  <cp:lastModifiedBy>ih</cp:lastModifiedBy>
  <dcterms:modified xsi:type="dcterms:W3CDTF">2003-05-05T14:28:15Z</dcterms:modified>
  <cp:revision>74</cp:revision>
  <dc:subject/>
  <dc:title>Title :  Dynamic aggregation of  constraints</dc:title>
</cp:coreProperties>
</file>