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548C-72B5-4572-B485-45CE3DA41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1A12-E074-4CC3-A166-A1CCF845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A22D-3321-4FAC-B367-73F528ED4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8DBB-01C0-4903-B719-16599D2E7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D684-1BFE-4DCB-86C9-61E97E43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802E-2A39-4251-96A7-800B7B7C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C5F9-8BC7-4112-9B84-7E89BD4E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02D6-E957-4EB0-94B9-7528CE86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329D-6D91-4789-B493-C12033AA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365F-6EC5-4DDA-9C69-AFEA9DBE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5467-7A1D-4BC6-8F36-7A65B4A2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412E-9313-4FEC-8F26-6CDB5EE9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7C98-3009-4B04-BC49-3FF874A2D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 Primal and Dual Pair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958680" y="2300400"/>
                <a:ext cx="3427560" cy="27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   Min  Z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4708440" y="2300400"/>
                <a:ext cx="3613320" cy="27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:   Max  W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28360" y="609120"/>
            <a:ext cx="7581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Finding a Lower Bound on Z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685800" y="2133720"/>
                <a:ext cx="3616200" cy="32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uppose  that: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is a lower  bound  on Z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762440" y="2133720"/>
                <a:ext cx="3962520" cy="32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lternatively  suppose  that: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≥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is a again lower bound  on Z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457200" y="2666880"/>
            <a:ext cx="8077320" cy="3581640"/>
            <a:chOff x="457200" y="2666880"/>
            <a:chExt cx="8077320" cy="3581640"/>
          </a:xfrm>
        </p:grpSpPr>
        <p:graphicFrame>
          <p:nvGraphicFramePr>
            <p:cNvPr id="48" name=""/>
            <p:cNvGraphicFramePr/>
            <p:nvPr/>
          </p:nvGraphicFramePr>
          <p:xfrm>
            <a:off x="4267080" y="5486400"/>
            <a:ext cx="1752840" cy="762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267080" y="5486400"/>
                      <a:ext cx="1752840" cy="7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" name=""/>
            <p:cNvGraphicFramePr/>
            <p:nvPr/>
          </p:nvGraphicFramePr>
          <p:xfrm>
            <a:off x="457200" y="2666880"/>
            <a:ext cx="8077320" cy="762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" y="2666880"/>
                      <a:ext cx="8077320" cy="7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525600" y="1525680"/>
                <a:ext cx="7953120" cy="472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w consider a non-negative combination of the constraints 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n this way, the constraint inequality signs are not changed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 by using multipliers</m:t>
                        </m:r>
                      </m:e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rPr>
                            <m:lit/>
                            <m:nor/>
                          </m:rPr>
                          <m:t xml:space="preserve">0, 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  such that 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≥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≥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≥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≥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π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≥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is a lower bound  on Z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The best lower bound is obtained with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             Max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ting the Best Lower Bound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3T20:08:02Z</dcterms:created>
  <dc:creator>Jacques Desrosiers</dc:creator>
  <dc:description/>
  <dc:language>en-US</dc:language>
  <cp:lastModifiedBy>Jacques Desrosiers</cp:lastModifiedBy>
  <dcterms:modified xsi:type="dcterms:W3CDTF">1999-01-23T21:39:51Z</dcterms:modified>
  <cp:revision>3</cp:revision>
  <dc:subject/>
  <dc:title>A Primal and Dual Pair</dc:title>
</cp:coreProperties>
</file>