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58D-9CCE-4B0C-B521-53CD2B6E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64B-2C82-45CE-A616-5527B0E7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35D-5C38-41AF-8264-D8885476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DED-473F-459D-8BB2-FFDDFE4B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01E-306E-45FA-BD98-93A19B49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ED6-794F-4C06-9118-4458DBFF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ACE-9D60-44F3-A4E9-500858EB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958-AF91-466C-83D1-CA7F6D61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AC3-B23F-4085-8A1C-DE40B82D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6AA-E756-48D1-88DC-CD703F7D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EAB-A461-425A-827F-814B7D7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7A5-07D3-468A-8E06-6775CE39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9A08-CDD0-4334-9357-2A972C3D1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238880" cy="16002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000000"/>
                </a:solidFill>
                <a:latin typeface="Times New Roman"/>
              </a:rPr>
              <a:t>The Preferential Bidding System</a:t>
            </a:r>
            <a:br>
              <a:rPr sz="4000"/>
            </a:br>
            <a:r>
              <a:rPr b="1" i="1" lang="fr-CA" sz="40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i="1" lang="fr-CA" sz="4000" spc="-1" strike="noStrike">
                <a:solidFill>
                  <a:srgbClr val="3333cc"/>
                </a:solidFill>
                <a:latin typeface="Times New Roman"/>
              </a:rPr>
              <a:t>Air Canada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638680"/>
            <a:ext cx="7391520" cy="52056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Transportation Scienc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2,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46-255 (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3962160" cy="76176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236232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thly assignment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airing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ilo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ximizing the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reference valu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(score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strict enforcement of </a:t>
            </a: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senior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419720"/>
            <a:ext cx="5790960" cy="175248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5 i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which each pil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igns his own set of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1960" y="457200"/>
            <a:ext cx="4343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Difficulti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335268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full computer memory word (32 bits) is required to display the preference value of a pilot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p to 2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 strict seniority, two words are necessary to display the combine value for two pilots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 to 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</a:rPr>
              <a:t>2*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eference value for a 100-pilot problem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6600"/>
                </a:solidFill>
                <a:latin typeface="Times New Roman"/>
              </a:rPr>
              <a:t>3200  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   …  a quite large number !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486400"/>
            <a:ext cx="7315200" cy="60948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eds for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equenti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2388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Sequential Solution Proces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662360"/>
            <a:ext cx="6095880" cy="1169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e optimization for pilot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uch that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666880"/>
            <a:ext cx="8380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666880"/>
            <a:ext cx="8380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666880"/>
            <a:ext cx="8384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2666880"/>
            <a:ext cx="8384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0120" y="2590920"/>
            <a:ext cx="609480" cy="126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0574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057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2057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2057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666880"/>
            <a:ext cx="8380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057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562720" y="2057400"/>
            <a:ext cx="838080" cy="1752480"/>
            <a:chOff x="5562720" y="2057400"/>
            <a:chExt cx="838080" cy="1752480"/>
          </a:xfrm>
        </p:grpSpPr>
        <p:sp>
          <p:nvSpPr>
            <p:cNvPr id="63" name=""/>
            <p:cNvSpPr/>
            <p:nvPr/>
          </p:nvSpPr>
          <p:spPr>
            <a:xfrm>
              <a:off x="5562720" y="2666880"/>
              <a:ext cx="8380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15000" y="2057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-457200" y="2057400"/>
          <a:ext cx="998208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057400"/>
                    <a:ext cx="99820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895480" y="533520"/>
            <a:ext cx="34290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Itera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457200"/>
            <a:ext cx="327672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teration  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4662360"/>
            <a:ext cx="5867280" cy="1169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e optimization for pilot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uch that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666880"/>
            <a:ext cx="7596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666880"/>
            <a:ext cx="8380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666880"/>
            <a:ext cx="8384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2666880"/>
            <a:ext cx="8384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2590920"/>
            <a:ext cx="609480" cy="126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0574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2057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2057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0574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2666880"/>
            <a:ext cx="8380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057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62720" y="2057400"/>
            <a:ext cx="838080" cy="1752480"/>
            <a:chOff x="5562720" y="2057400"/>
            <a:chExt cx="838080" cy="1752480"/>
          </a:xfrm>
        </p:grpSpPr>
        <p:sp>
          <p:nvSpPr>
            <p:cNvPr id="82" name=""/>
            <p:cNvSpPr/>
            <p:nvPr/>
          </p:nvSpPr>
          <p:spPr>
            <a:xfrm>
              <a:off x="5562720" y="2666880"/>
              <a:ext cx="8380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5000" y="2057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457200"/>
            <a:ext cx="327672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teration  k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662360"/>
            <a:ext cx="6019920" cy="1169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e optimization for pilot  #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uch that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666880"/>
            <a:ext cx="7596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666880"/>
            <a:ext cx="7596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666880"/>
            <a:ext cx="7632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666880"/>
            <a:ext cx="8384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2590920"/>
            <a:ext cx="609480" cy="126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0574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0574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2057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0574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666880"/>
            <a:ext cx="8380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0718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62720" y="2057400"/>
            <a:ext cx="838080" cy="1752480"/>
            <a:chOff x="5562720" y="2057400"/>
            <a:chExt cx="838080" cy="1752480"/>
          </a:xfrm>
        </p:grpSpPr>
        <p:sp>
          <p:nvSpPr>
            <p:cNvPr id="98" name=""/>
            <p:cNvSpPr/>
            <p:nvPr/>
          </p:nvSpPr>
          <p:spPr>
            <a:xfrm>
              <a:off x="5562720" y="2666880"/>
              <a:ext cx="8380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2057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480" y="457200"/>
            <a:ext cx="33530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t Iteration  k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14396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P Column Gene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ocess is used fo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o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t Partitioning Probl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505320"/>
            <a:ext cx="815328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e various schedule generator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e linear relaxation of the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&amp;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o close integrality gap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f up to 9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2:07:35Z</dcterms:created>
  <dc:creator>Jacques Desrosiers</dc:creator>
  <dc:description/>
  <dc:language>en-US</dc:language>
  <cp:lastModifiedBy>jacques</cp:lastModifiedBy>
  <cp:lastPrinted>2000-05-04T10:40:17Z</cp:lastPrinted>
  <dcterms:modified xsi:type="dcterms:W3CDTF">2002-12-02T02:40:00Z</dcterms:modified>
  <cp:revision>73</cp:revision>
  <dc:subject/>
  <dc:title>CREW SCHEDULING : Past and Future</dc:title>
</cp:coreProperties>
</file>