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073900" cy="896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599-4EB2-4E09-8598-B4892AF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A22-1B3D-4CC1-A8B0-A934EE5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1EF-F249-4CC8-9DE4-33350DC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E22-69F0-4F38-81D3-0EDF2649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EFF-3F42-43D3-9DC9-9B461900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C036-E988-42B0-8A9B-6DCE035B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71A6-0465-40E3-923F-C33A6928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248-8C82-4001-A585-72F28B6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3FAD-933A-4326-90DC-D3A740FB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D245-B5BE-4464-9CB6-A5C01F7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11AE-AB08-4BA2-BDEB-928F3CA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9AB-EED1-4171-9DB0-0A43A37A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A998-4747-4C48-983C-7BE91F0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B6BE-FDCE-44B7-9213-382A7CA7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BF2A-D660-4734-8CB9-93408D6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274A-5468-4530-8379-4BA6D159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F605-5CA0-46B6-A1EA-3C76D522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26B-E452-4544-BA07-1FF2335B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B9E-BD93-48BD-9410-139B6FD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66B-2EB8-4BFB-83CB-F3B33C9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FA8-038C-4D1C-9EF2-C74C3FE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B35-0D47-4470-B370-AA4120D9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793-C683-40B0-AD80-1BCF113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45D-2738-48C2-8567-F73840C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5e574e"/>
              </a:buClr>
              <a:buFont typeface="Monotype Sort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808000"/>
              </a:buClr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34120" y="6229440"/>
            <a:ext cx="330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LUMN GENERATION  </a:t>
            </a:r>
            <a:fld id="{3A1A22B5-58BB-44A4-8D68-C93302A7EDEA}" type="slidenum">
              <a:rPr b="1" lang="en-US" sz="18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E280-A60B-4664-8DBB-2C46171044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1" i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Column Generation</a:t>
            </a:r>
            <a:br>
              <a:rPr sz="4800"/>
            </a:b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with an eye on industrial applications</a:t>
            </a:r>
            <a:endParaRPr b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Jacques Desrosier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C Montre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&amp;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GERAD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elected Applications of Column Gener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4 Desrosiers, Soumis &amp; Desrocher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TSPTW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7 Crainic &amp; Rousseau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line crew pai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8 Lavoie, Minoux &amp; Odi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line crew pai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9 Agerwal, Mathur &amp; Salki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gle-depot VRP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9 Desrochers &amp; Soumi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rban transit crew schedu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9 Ribeiro, Minoux &amp;Penna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ellite communication system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1 Dumas, Desrosiers &amp; Soumi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PDPTW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2 Desroshers, Desrosiers &amp; Solomo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gle-depot VRPTW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3 Johnson, Mehrotra &amp; Nemhaus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inimum cut cluste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4 Ribeiro &amp; Soumi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ulti-depot vehicle shedu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4 Crama &amp; Oerleman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b grouping in flexible manufactu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4 Vanderbeck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ulti-item lot-siz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LSI compiler desig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tting stock and bin pack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4 Gamache &amp;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line crew roste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5 Desrosiers, Dumas, Solomon &amp; Soumi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constrained routing &amp; schedu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6 Mehrotra &amp; Trick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raph colo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6A9-7DFA-41FE-9741-823221975E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000"/>
                            </p:stCondLst>
                            <p:childTnLst>
                              <p:par>
                                <p:cTn id="5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500"/>
                            </p:stCondLst>
                            <p:childTnLst>
                              <p:par>
                                <p:cTn id="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elected Applications of Column Gener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381880" cy="42861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6 Barnhart &amp; Schneu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twork design for air shipm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7 Barnhart, Hane &amp; Vance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-D multi-commodity flow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7 Bourjolly, Laporte &amp; Mercure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ximum stable set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7 Desaulniers et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ily aircraft routing and schedu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7 Desaulniers et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line crew pai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7 Savelsberg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neralized assignment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8 Barnhart &amp;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leet assignment &amp; aircraft rout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8 Anbil, Forrest &amp; Pulleyblank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line crew pai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8 Hansen, Jaumard &amp; Poggi de Aragao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abilistic maximum satisfiabilit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8 Vance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tting stoc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88 Stojkovic, Soumis &amp; Desrosier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l time operations in airlin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9 Erdmann et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line schedule generatio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9 Ioachim et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craft schedule synchronizatio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9 Löbel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ulti-depot vehicle schedu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9 Kohl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et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RPTW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99 Ziarati et al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comotive assignm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00 Valério de Carvalho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in packing &amp; cutting stoc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333-B8AB-4518-822C-14EE1546B6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5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6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8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Growing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ignificance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14400" y="1857240"/>
          <a:ext cx="7391520" cy="41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57240"/>
                    <a:ext cx="7391520" cy="4130640"/>
                  </a:xfrm>
                  <a:prstGeom prst="rect">
                    <a:avLst/>
                  </a:prstGeom>
                  <a:ln w="38160">
                    <a:solidFill>
                      <a:srgbClr val="6600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671-EEEF-4ABC-B462-FEF2DCE3D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Historical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erspective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434340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B. Dantzig &amp; P. Wol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omposition principle for linear program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per. Res. 8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1-111 (196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885680"/>
            <a:ext cx="42670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Authors give credit to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.R. Ford  &amp;  D.R. Fulkers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uggested computation for multi-commodity flow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an. Sc. 5,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97-101 (195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14D-AD3F-4952-A9AE-7E0A85FDE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Historical Perspective :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a Dual Approach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209680"/>
            <a:ext cx="838440" cy="2133720"/>
          </a:xfrm>
          <a:prstGeom prst="upArrow">
            <a:avLst>
              <a:gd name="adj1" fmla="val 50000"/>
              <a:gd name="adj2" fmla="val 6362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209680"/>
            <a:ext cx="838080" cy="2133720"/>
          </a:xfrm>
          <a:prstGeom prst="downArrow">
            <a:avLst>
              <a:gd name="adj1" fmla="val 50000"/>
              <a:gd name="adj2" fmla="val 6364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581360"/>
            <a:ext cx="8001000" cy="13129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.E. Ke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utting plane method for solving convex programs.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IAM 8,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03-712. (1960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026560" cy="26863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AL MASTER 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Row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Dual Multipli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W GENERAT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Sub-problem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1D3-F215-4CED-AA9E-91A27F6FE8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Principle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7600" y="1731960"/>
                <a:ext cx="4621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" y="4191120"/>
                <a:ext cx="388296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define sets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xtreme points   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xtreme rays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84280" y="1687680"/>
                <a:ext cx="246384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72000" y="2743200"/>
                <a:ext cx="384984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rewritten as: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→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E54-D1FE-426D-8311-15B8C444E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a simple </a:t>
            </a: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substitution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962520" y="2265480"/>
                <a:ext cx="4572000" cy="39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09480" y="3211560"/>
                <a:ext cx="246384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87800" y="541008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Compact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4120" y="1752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xtensive Re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600-CBE5-4FFF-8502-C0FA27E1DA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562720" y="2438280"/>
            <a:ext cx="2895480" cy="1222200"/>
            <a:chOff x="5562720" y="2438280"/>
            <a:chExt cx="2895480" cy="1222200"/>
          </a:xfrm>
        </p:grpSpPr>
        <p:graphicFrame>
          <p:nvGraphicFramePr>
            <p:cNvPr id="160" name=""/>
            <p:cNvGraphicFramePr/>
            <p:nvPr/>
          </p:nvGraphicFramePr>
          <p:xfrm>
            <a:off x="6248520" y="2438280"/>
            <a:ext cx="457200" cy="3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2438280"/>
                      <a:ext cx="457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8001000" y="2441520"/>
            <a:ext cx="45720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1000" y="244152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5562720" y="3276360"/>
            <a:ext cx="457200" cy="3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3276360"/>
                      <a:ext cx="457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391520" y="3276360"/>
            <a:ext cx="457200" cy="384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520" y="3276360"/>
                      <a:ext cx="457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2286000"/>
                <a:ext cx="434340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The Master 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8600" y="2286000"/>
                <a:ext cx="419112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10552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he Maste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4AA-36DC-41DE-BB3B-C7C44454AC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276720" y="2438280"/>
            <a:ext cx="2895480" cy="1222200"/>
            <a:chOff x="3276720" y="2438280"/>
            <a:chExt cx="2895480" cy="1222200"/>
          </a:xfrm>
        </p:grpSpPr>
        <p:graphicFrame>
          <p:nvGraphicFramePr>
            <p:cNvPr id="173" name=""/>
            <p:cNvGraphicFramePr/>
            <p:nvPr/>
          </p:nvGraphicFramePr>
          <p:xfrm>
            <a:off x="3962520" y="2438280"/>
            <a:ext cx="457200" cy="3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2438280"/>
                      <a:ext cx="457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715000" y="2441520"/>
            <a:ext cx="45720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244152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3276720" y="3276360"/>
            <a:ext cx="457200" cy="3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3276360"/>
                      <a:ext cx="457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105520" y="3276360"/>
            <a:ext cx="457200" cy="384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276360"/>
                      <a:ext cx="457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The Master 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he Master Problem </a:t>
            </a: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4290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4343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9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pling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xity constr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22860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028000" y="3200400"/>
                <a:ext cx="88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032680" y="3930480"/>
                <a:ext cx="4255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7086600" y="4572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4191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718320" y="2390760"/>
                <a:ext cx="2273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π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62320" y="2390760"/>
                <a:ext cx="434340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72C-D839-42C0-941B-20882B4EEB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The Column Generator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44956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olve  </a:t>
            </a: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P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for a subset of column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n the current du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pliers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generate a new colum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with negative reduced co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otherwise  </a:t>
            </a: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 is optim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952880" y="2313000"/>
                <a:ext cx="3770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952880" y="3378240"/>
                <a:ext cx="388476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ptimality at an extreme ray if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∃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π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therwise for at extreme point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me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π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π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09680" y="3402000"/>
                <a:ext cx="2438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BA0-47AD-4404-9BF6-6064C7684B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ontent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886200" cy="4496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Cutting Stock Proble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sic Observation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lected Application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storical Perspecti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ntzig-Wolfe Decomposi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Simple Substit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Master Proble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Column Generat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ock Angular Structu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Lower Boun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grangian Relaxa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ternative Formulation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the Cutting Stock Proble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3040" y="1752120"/>
            <a:ext cx="4419720" cy="4496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 Column Genera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vexification &amp; Discretiza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rality Proper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anch-and- ???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hicle Routing &amp; Crew Schedulin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GENCOL Optimiz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utational Result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arch Trend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Acceleration Techniqu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turbation, Stabilization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al Cuts, Aggregation, etc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wo-level Problem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ration of Interior Point Metho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44C-513E-4614-B7FF-319D3F342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Geometry 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 rot="470400">
            <a:off x="1523520" y="2971800"/>
            <a:ext cx="4038840" cy="2438280"/>
          </a:xfrm>
          <a:prstGeom prst="hexagon">
            <a:avLst>
              <a:gd name="adj" fmla="val 28190"/>
              <a:gd name="vf" fmla="val 11547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470600">
            <a:off x="2971080" y="2209320"/>
            <a:ext cx="4267080" cy="2057400"/>
          </a:xfrm>
          <a:custGeom>
            <a:avLst/>
            <a:gdLst>
              <a:gd name="textAreaLeft" fmla="*/ 938160 w 4267080"/>
              <a:gd name="textAreaRight" fmla="*/ 3328920 w 4267080"/>
              <a:gd name="textAreaTop" fmla="*/ 452160 h 2057400"/>
              <a:gd name="textAreaBottom" fmla="*/ 16052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936240" y="2020680"/>
            <a:ext cx="4014720" cy="3350160"/>
            <a:chOff x="3936240" y="2020680"/>
            <a:chExt cx="4014720" cy="3350160"/>
          </a:xfrm>
        </p:grpSpPr>
        <p:sp>
          <p:nvSpPr>
            <p:cNvPr id="204" name=""/>
            <p:cNvSpPr/>
            <p:nvPr/>
          </p:nvSpPr>
          <p:spPr>
            <a:xfrm>
              <a:off x="3936240" y="2020680"/>
              <a:ext cx="4014720" cy="335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375320" y="4438080"/>
              <a:ext cx="315720" cy="42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05520" y="2133360"/>
            <a:ext cx="914400" cy="99036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2362320"/>
            <a:ext cx="1066680" cy="7617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124080" y="3200400"/>
            <a:ext cx="1905120" cy="12193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3200400"/>
            <a:ext cx="2133360" cy="8380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C60-4DD9-41A8-9AB0-45C1FCA8D6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Block Angular Structure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22760" y="1752120"/>
            <a:ext cx="4013280" cy="20574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its the structure of many sub-problem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ilar developmen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result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9480" y="1752480"/>
                <a:ext cx="3733920" cy="20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4038480"/>
            <a:ext cx="160020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648320"/>
            <a:ext cx="1600200" cy="3808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029200"/>
            <a:ext cx="1600200" cy="3808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410080"/>
            <a:ext cx="1600200" cy="38124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5791320"/>
            <a:ext cx="1600200" cy="3808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4008600"/>
            <a:ext cx="17524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up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4038480"/>
            <a:ext cx="160020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4038480"/>
            <a:ext cx="160020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4038480"/>
            <a:ext cx="160020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5014800"/>
            <a:ext cx="14479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90B-E219-4BAB-94F2-9498F35CE7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 Generic Algorith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514600"/>
            <a:ext cx="8534520" cy="24400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ovide a feasible basis for the restricted master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Tahoma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a column with negative reduced cost exists </a:t>
            </a:r>
            <a:r>
              <a:rPr b="1" lang="en-US" sz="2200" spc="-1" strike="noStrike">
                <a:solidFill>
                  <a:srgbClr val="0033cc"/>
                </a:solidFill>
                <a:latin typeface="Tahoma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oin this column to the restricted master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-optim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Tahoma"/>
              </a:rPr>
              <a:t>end w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1B6-45CF-40C1-ABCF-FB057505C0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553080" y="2057400"/>
            <a:ext cx="838440" cy="1905120"/>
          </a:xfrm>
          <a:prstGeom prst="downArrow">
            <a:avLst>
              <a:gd name="adj1" fmla="val 50000"/>
              <a:gd name="adj2" fmla="val 5680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 Algorith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2057400"/>
            <a:ext cx="838080" cy="1905120"/>
          </a:xfrm>
          <a:prstGeom prst="upArrow">
            <a:avLst>
              <a:gd name="adj1" fmla="val 50000"/>
              <a:gd name="adj2" fmla="val 568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648320"/>
            <a:ext cx="7924680" cy="11912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ality Cond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primal feasi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omplementary slack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dual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26863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 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olum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Dual Multipli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UMN GENERAT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Sub-problem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A26-7A58-4AB0-BD80-F4C6403DF6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3581280" cy="42292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n the current dual multipliers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coupl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traints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convexity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constraint)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lower bou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n be compu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t each iter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as follow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Decomposition :  a Lower Bound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419720" y="3386160"/>
                <a:ext cx="441936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π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343400" y="1905120"/>
            <a:ext cx="4495680" cy="11912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urrent solution val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minim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reduced cost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520" y="2651040"/>
                <a:ext cx="92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62120" y="3048120"/>
                <a:ext cx="520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C2E-5BE3-49F9-B461-98D4F7763E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914400" y="4876920"/>
          <a:ext cx="80010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876920"/>
                    <a:ext cx="8001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3520" y="1752480"/>
                <a:ext cx="8429400" cy="45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ides  a lower bound on </m:t>
                        </m:r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π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me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me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therwi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best lower bound is obtained  using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π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Lagrangian Relaxation Computes the  Same Lower Bound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33520" y="1752480"/>
                <a:ext cx="259056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rot="10698000">
            <a:off x="2673000" y="1752480"/>
            <a:ext cx="614520" cy="1216080"/>
          </a:xfrm>
          <a:custGeom>
            <a:avLst/>
            <a:gdLst>
              <a:gd name="textAreaLeft" fmla="*/ 82080 w 614520"/>
              <a:gd name="textAreaRight" fmla="*/ 532440 w 614520"/>
              <a:gd name="textAreaTop" fmla="*/ 215640 h 1216080"/>
              <a:gd name="textAreaBottom" fmla="*/ 87912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67" stAng="-5400000" swAng="-5400000"/>
                <a:lnTo>
                  <a:pt x="0" y="11780"/>
                </a:lnTo>
                <a:arcTo wR="21600" hR="7667" stAng="10800000" swAng="-1139341"/>
                <a:lnTo>
                  <a:pt x="6092" y="19270"/>
                </a:lnTo>
                <a:lnTo>
                  <a:pt x="21600" y="17390"/>
                </a:lnTo>
                <a:lnTo>
                  <a:pt x="6092" y="10849"/>
                </a:lnTo>
                <a:lnTo>
                  <a:pt x="6092" y="13003"/>
                </a:lnTo>
                <a:arcTo wR="21600" hR="7667" stAng="9660659" swAng="800687"/>
                <a:lnTo>
                  <a:pt x="792" y="9723"/>
                </a:lnTo>
                <a:arcTo wR="21600" hR="7667" stAng="-10461346" swAng="5061346"/>
                <a:close/>
              </a:path>
              <a:path fill="darkenLess" w="21600" h="21600">
                <a:moveTo>
                  <a:pt x="21600" y="0"/>
                </a:moveTo>
                <a:arcTo wR="21600" hR="7667" stAng="-5400000" swAng="-5400000"/>
                <a:lnTo>
                  <a:pt x="0" y="7667"/>
                </a:lnTo>
                <a:arcTo wR="21600" hR="7667" stAng="10800000" swAng="-338654"/>
                <a:lnTo>
                  <a:pt x="792" y="9723"/>
                </a:lnTo>
                <a:arcTo wR="21600" hR="7667" stAng="-10461346" swAng="5061346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324-2657-46CD-AEC0-929A4195A2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antzig-Wolfe    </a:t>
            </a: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vs</a:t>
            </a:r>
            <a:r>
              <a:rPr b="1" i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 Lagrangian Decomposition          Relax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tially utilized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Linear Progra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vely difficult to implem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ow converg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ly implemen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tially utiliz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Integer Progra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y to implement with subgradient adjustment for dual multipliers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stopping rule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ous OR pap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3A7-78A2-4674-BB30-132C797875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imilaritie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73392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ntzig-Wolfe  Decomposition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f both have the same sub-problems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upling constraint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o into 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43400" y="1885680"/>
            <a:ext cx="457200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DUAL MULTIPLIERS ADJUSTMENT PROBLEM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DW 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a LP Master Probl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Lagrangian Relaxation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876920" y="4808520"/>
                <a:ext cx="31082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π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000-6195-464F-9CB6-DB22BAF19E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imilaritie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66920"/>
            <a:ext cx="7848720" cy="35244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olumn Gener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rresponds to the solution process used in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antzig-Wolf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ecompos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approach can also be used directly by formulating a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Master Probl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sub-proble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ather than obtaining them by decomposing a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ompact formu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the problem.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ever 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2F2-E418-4AAD-9A63-07FC87D268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imilaritie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80060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an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olumn generation sche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there exists 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ahoma"/>
              </a:rPr>
              <a:t>compact formulatio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can be decomposed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using 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results in the sam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master and sub-proble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09720" y="2114640"/>
            <a:ext cx="3429000" cy="38289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efinition of th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ahoma"/>
              </a:rPr>
              <a:t>compact formu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not uni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nice exampl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utting Stock 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2C4-D4FE-45D5-BCF5-7736C80F26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A Classical Paper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11480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.C. Gilmore &amp; R.E. Gom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linear programming approach to the cutting stock problem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per. Res. 9,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49-859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96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4280" y="1885680"/>
            <a:ext cx="411480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t of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 item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mber of time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item </a:t>
            </a:r>
            <a:r>
              <a:rPr b="1" i="1" lang="en-US" sz="20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 request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ngth of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item </a:t>
            </a:r>
            <a:r>
              <a:rPr b="1" i="1" lang="en-US" sz="2000" spc="-1" strike="noStrike">
                <a:solidFill>
                  <a:srgbClr val="cc0000"/>
                </a:solidFill>
                <a:latin typeface="Tahom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ngth of a standard ro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J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t of cutting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patter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mber of times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item </a:t>
            </a:r>
            <a:r>
              <a:rPr b="1" i="1" lang="en-US" sz="20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 cut in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pattern</a:t>
            </a:r>
            <a:r>
              <a:rPr b="1" i="1" lang="en-US" sz="2000" spc="-1" strike="noStrike">
                <a:solidFill>
                  <a:srgbClr val="009900"/>
                </a:solidFill>
                <a:latin typeface="Tahoma"/>
              </a:rPr>
              <a:t> j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mber of tim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pattern </a:t>
            </a:r>
            <a:r>
              <a:rPr b="1" i="1" lang="en-US" sz="2000" spc="-1" strike="noStrike">
                <a:solidFill>
                  <a:srgbClr val="0099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is us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8B6-6733-4DA4-AB78-CC90EB62F6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4495680" y="3809880"/>
          <a:ext cx="41911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09880"/>
                    <a:ext cx="41911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56080" y="1905120"/>
                <a:ext cx="427356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 : Kantorovich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(1960/1939)</a:t>
            </a:r>
            <a:endParaRPr b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38098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 set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ailable rol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 binary variable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 if roll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is cut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 otherwi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 number of time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cu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roll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91960" y="1828800"/>
            <a:ext cx="723960" cy="3429000"/>
            <a:chOff x="291960" y="1828800"/>
            <a:chExt cx="723960" cy="342900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80880" y="1828800"/>
                  <a:ext cx="533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304920" y="2895480"/>
                  <a:ext cx="71100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291960" y="4603680"/>
                  <a:ext cx="62244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5EC-FBE8-4F78-9C30-948D7AF629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 : Kantorovich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ntorovich’s LP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wer bound is weak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ever, Dantzig-Wolfe decomposition provides the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ame bou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s the Gilmore-Gomory LP bound if sub-problems are solved as 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Knapsack Proble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provid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extreme poi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lum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gregation of identical columns in the Master Problem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 &amp; Bound performed o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11880" y="1905120"/>
                <a:ext cx="684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315200" y="5295960"/>
                <a:ext cx="915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16280" y="2706840"/>
                <a:ext cx="1869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8FF-AB48-44F9-9F56-C6D7DAC5AD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 : Valerio de Carvalhó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(1996)</a:t>
            </a:r>
            <a:endParaRPr b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3520" y="1752480"/>
            <a:ext cx="8229600" cy="1408320"/>
            <a:chOff x="533520" y="1752480"/>
            <a:chExt cx="8229600" cy="1408320"/>
          </a:xfrm>
        </p:grpSpPr>
        <p:sp>
          <p:nvSpPr>
            <p:cNvPr id="272" name=""/>
            <p:cNvSpPr/>
            <p:nvPr/>
          </p:nvSpPr>
          <p:spPr>
            <a:xfrm>
              <a:off x="685800" y="17524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etwork type formulation on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6413400" y="1787400"/>
                  <a:ext cx="9018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33520" y="2362320"/>
                  <a:ext cx="822960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L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L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: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u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v</m:t>
                              </m:r>
                              <m:r>
                                <m:t xml:space="preserve">≤</m:t>
                              </m:r>
                              <m:r>
                                <m:t xml:space="preserve">L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  <m:r>
                                <m:t xml:space="preserve"> </m:t>
                              </m:r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∈</m:t>
                              </m:r>
                              <m:r>
                                <m:t xml:space="preserve">I</m:t>
                              </m:r>
                            </m:e>
                          </m:d>
                          <m:r>
                            <m:t xml:space="preserve">∪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u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0,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609480" y="3200400"/>
            <a:ext cx="8305920" cy="2971800"/>
            <a:chOff x="609480" y="3200400"/>
            <a:chExt cx="8305920" cy="2971800"/>
          </a:xfrm>
        </p:grpSpPr>
        <p:graphicFrame>
          <p:nvGraphicFramePr>
            <p:cNvPr id="276" name=""/>
            <p:cNvGraphicFramePr/>
            <p:nvPr/>
          </p:nvGraphicFramePr>
          <p:xfrm>
            <a:off x="1219320" y="3200400"/>
            <a:ext cx="6697440" cy="239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3200400"/>
                      <a:ext cx="6697440" cy="23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609480" y="563868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xample with            , and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715000" y="5554800"/>
                  <a:ext cx="248904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809880" y="5638680"/>
                  <a:ext cx="9399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52280" y="4343400"/>
            <a:ext cx="8763120" cy="0"/>
            <a:chOff x="152280" y="4343400"/>
            <a:chExt cx="8763120" cy="0"/>
          </a:xfrm>
        </p:grpSpPr>
        <p:sp>
          <p:nvSpPr>
            <p:cNvPr id="282" name=""/>
            <p:cNvSpPr/>
            <p:nvPr/>
          </p:nvSpPr>
          <p:spPr>
            <a:xfrm>
              <a:off x="7924680" y="434340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2280" y="434340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B8C-FDA4-4633-B618-5B2773D4DF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295280" y="3166920"/>
          <a:ext cx="7086600" cy="30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66920"/>
                    <a:ext cx="70866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295280" y="1752480"/>
                <a:ext cx="7086600" cy="449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u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L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teger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 : Valerio de Carvalhó 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307-7483-4064-A932-C2D527589B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 : Valerio de Carvalhó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sub-probl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shortest path problem on a acyclic networ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lumn Generator only brings back </a:t>
            </a: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extreme ray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colum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single extreme point being the null vecto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Master Probl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ppears without the convexity constrain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orrespondence with Gilmore-Gomory formulation is obviou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 &amp; Bound performed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696080" y="5410080"/>
                <a:ext cx="914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F25-1891-45CD-A5F9-42707F1414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Problem :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H</a:t>
            </a:r>
            <a:r>
              <a:rPr b="1" i="1" lang="en-US" sz="4000" spc="-1" strike="noStrike">
                <a:solidFill>
                  <a:srgbClr val="660033"/>
                </a:solidFill>
                <a:latin typeface="Tahoma"/>
              </a:rPr>
              <a:t>. 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Ben Amor</a:t>
            </a:r>
            <a:r>
              <a:rPr b="1" lang="en-US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(1998)</a:t>
            </a:r>
            <a:endParaRPr b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42418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can also be viewed as a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Vehicle Routing Problem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 a acyclic network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multi-commodity flow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Vehicl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Rolls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ustomer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Item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emand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Columns correspond to paths visiting items    the requested number of 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 &amp; Bound performed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246720" y="5334120"/>
                <a:ext cx="9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94000" y="4648320"/>
                <a:ext cx="118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660760" y="5410080"/>
                <a:ext cx="387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BF3-E89A-40CC-8FE5-376CEE0301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146560" y="5029200"/>
            <a:ext cx="3311640" cy="1219320"/>
            <a:chOff x="5146560" y="5029200"/>
            <a:chExt cx="3311640" cy="1219320"/>
          </a:xfrm>
        </p:grpSpPr>
        <p:graphicFrame>
          <p:nvGraphicFramePr>
            <p:cNvPr id="299" name=""/>
            <p:cNvGraphicFramePr/>
            <p:nvPr/>
          </p:nvGraphicFramePr>
          <p:xfrm>
            <a:off x="5181480" y="5029200"/>
            <a:ext cx="3200400" cy="119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5029200"/>
                      <a:ext cx="3200400" cy="11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5146560" y="5029200"/>
              <a:ext cx="0" cy="121932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1480" y="5029200"/>
              <a:ext cx="327672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733920" y="1676520"/>
                <a:ext cx="46782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→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intege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990720" y="3809880"/>
          <a:ext cx="1600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09880"/>
                    <a:ext cx="1600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41480" y="3809880"/>
                <a:ext cx="1549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intege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48000"/>
                <a:ext cx="19814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olumn Gener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4572000"/>
            <a:ext cx="2666880" cy="16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ranch&amp;B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n the x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5029200"/>
            <a:ext cx="1600200" cy="60948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CDE-F242-4A6C-BE51-717FAA9C08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500"/>
                            </p:stCondLst>
                            <p:childTnLst>
                              <p:par>
                                <p:cTn id="1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Column Generation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Geometry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 rot="470400">
            <a:off x="1523520" y="2971800"/>
            <a:ext cx="4038840" cy="2438280"/>
          </a:xfrm>
          <a:prstGeom prst="hexagon">
            <a:avLst>
              <a:gd name="adj" fmla="val 28190"/>
              <a:gd name="vf" fmla="val 11547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0470600">
            <a:off x="2971080" y="2209320"/>
            <a:ext cx="4267080" cy="2057400"/>
          </a:xfrm>
          <a:custGeom>
            <a:avLst/>
            <a:gdLst>
              <a:gd name="textAreaLeft" fmla="*/ 938160 w 4267080"/>
              <a:gd name="textAreaRight" fmla="*/ 3328920 w 4267080"/>
              <a:gd name="textAreaTop" fmla="*/ 452160 h 2057400"/>
              <a:gd name="textAreaBottom" fmla="*/ 16052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69160" y="1464840"/>
            <a:ext cx="3977280" cy="3394800"/>
            <a:chOff x="3269160" y="1464840"/>
            <a:chExt cx="3977280" cy="3394800"/>
          </a:xfrm>
        </p:grpSpPr>
        <p:sp>
          <p:nvSpPr>
            <p:cNvPr id="315" name=""/>
            <p:cNvSpPr/>
            <p:nvPr/>
          </p:nvSpPr>
          <p:spPr>
            <a:xfrm>
              <a:off x="3269160" y="1464840"/>
              <a:ext cx="3977280" cy="339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676560" y="3924000"/>
              <a:ext cx="320400" cy="42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66680" y="1905120"/>
            <a:ext cx="6553440" cy="3886200"/>
            <a:chOff x="1066680" y="1905120"/>
            <a:chExt cx="6553440" cy="3886200"/>
          </a:xfrm>
        </p:grpSpPr>
        <p:grpSp>
          <p:nvGrpSpPr>
            <p:cNvPr id="318" name=""/>
            <p:cNvGrpSpPr/>
            <p:nvPr/>
          </p:nvGrpSpPr>
          <p:grpSpPr>
            <a:xfrm>
              <a:off x="1066680" y="2286000"/>
              <a:ext cx="6553440" cy="76320"/>
              <a:chOff x="1066680" y="2286000"/>
              <a:chExt cx="6553440" cy="76320"/>
            </a:xfrm>
          </p:grpSpPr>
          <p:sp>
            <p:nvSpPr>
              <p:cNvPr id="319" name=""/>
              <p:cNvSpPr/>
              <p:nvPr/>
            </p:nvSpPr>
            <p:spPr>
              <a:xfrm>
                <a:off x="106668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47920" y="2286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880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0968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590920" y="2286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7180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33920" y="2286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1480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9568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920" y="2286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5780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19920" y="2286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0080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8168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62920" y="2286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43800" y="2286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1066680" y="2666880"/>
              <a:ext cx="6553440" cy="76320"/>
              <a:chOff x="1066680" y="2666880"/>
              <a:chExt cx="6553440" cy="76320"/>
            </a:xfrm>
          </p:grpSpPr>
          <p:sp>
            <p:nvSpPr>
              <p:cNvPr id="338" name=""/>
              <p:cNvSpPr/>
              <p:nvPr/>
            </p:nvSpPr>
            <p:spPr>
              <a:xfrm>
                <a:off x="106668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47920" y="2666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2880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20968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90920" y="2666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7180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33920" y="2666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480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9568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76920" y="2666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25780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3868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2666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40080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8168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62920" y="2666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43800" y="2666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066680" y="3048120"/>
              <a:ext cx="6553440" cy="75960"/>
              <a:chOff x="1066680" y="3048120"/>
              <a:chExt cx="6553440" cy="75960"/>
            </a:xfrm>
          </p:grpSpPr>
          <p:sp>
            <p:nvSpPr>
              <p:cNvPr id="357" name=""/>
              <p:cNvSpPr/>
              <p:nvPr/>
            </p:nvSpPr>
            <p:spPr>
              <a:xfrm>
                <a:off x="106668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47920" y="3048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2880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0968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90920" y="3048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7180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5268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33920" y="3048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1480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9568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3048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5780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3868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19920" y="3048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0080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8168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62920" y="3048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543800" y="3048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066680" y="3429000"/>
              <a:ext cx="6553440" cy="76320"/>
              <a:chOff x="1066680" y="3429000"/>
              <a:chExt cx="6553440" cy="7632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668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47920" y="3429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2880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20968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90920" y="3429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7180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5268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33920" y="3429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1480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9568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6920" y="3429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5780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3868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19920" y="3429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0080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168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62920" y="3429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43800" y="3429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066680" y="3809880"/>
              <a:ext cx="6553440" cy="76320"/>
              <a:chOff x="1066680" y="3809880"/>
              <a:chExt cx="6553440" cy="76320"/>
            </a:xfrm>
          </p:grpSpPr>
          <p:sp>
            <p:nvSpPr>
              <p:cNvPr id="395" name=""/>
              <p:cNvSpPr/>
              <p:nvPr/>
            </p:nvSpPr>
            <p:spPr>
              <a:xfrm>
                <a:off x="106668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47920" y="3809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0968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590920" y="3809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7180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5268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33920" y="3809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1480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568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76920" y="3809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25780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3868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19920" y="3809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0080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8168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62920" y="3809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3800" y="3809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066680" y="1905120"/>
              <a:ext cx="6553440" cy="75960"/>
              <a:chOff x="1066680" y="1905120"/>
              <a:chExt cx="6553440" cy="75960"/>
            </a:xfrm>
          </p:grpSpPr>
          <p:sp>
            <p:nvSpPr>
              <p:cNvPr id="414" name=""/>
              <p:cNvSpPr/>
              <p:nvPr/>
            </p:nvSpPr>
            <p:spPr>
              <a:xfrm>
                <a:off x="106668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47920" y="1905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2880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90920" y="1905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7180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5268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33920" y="1905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1480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9568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76920" y="1905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5780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3868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19920" y="1905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080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8168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62920" y="1905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43800" y="1905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1066680" y="4191120"/>
              <a:ext cx="6553440" cy="75960"/>
              <a:chOff x="1066680" y="4191120"/>
              <a:chExt cx="6553440" cy="75960"/>
            </a:xfrm>
          </p:grpSpPr>
          <p:sp>
            <p:nvSpPr>
              <p:cNvPr id="433" name=""/>
              <p:cNvSpPr/>
              <p:nvPr/>
            </p:nvSpPr>
            <p:spPr>
              <a:xfrm>
                <a:off x="106668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47920" y="4191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2880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0968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90920" y="4191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7180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35268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3920" y="4191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11480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9568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76920" y="4191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5780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3868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19920" y="4191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40080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8168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62920" y="4191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43800" y="4191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066680" y="4572000"/>
              <a:ext cx="6553440" cy="76320"/>
              <a:chOff x="1066680" y="4572000"/>
              <a:chExt cx="6553440" cy="76320"/>
            </a:xfrm>
          </p:grpSpPr>
          <p:sp>
            <p:nvSpPr>
              <p:cNvPr id="452" name=""/>
              <p:cNvSpPr/>
              <p:nvPr/>
            </p:nvSpPr>
            <p:spPr>
              <a:xfrm>
                <a:off x="106668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47920" y="4572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82880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0968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90920" y="4572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97180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5268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33920" y="4572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1480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49568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4572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5780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63868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19920" y="4572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0080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8168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62920" y="4572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43800" y="4572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1066680" y="4952880"/>
              <a:ext cx="6553440" cy="76320"/>
              <a:chOff x="1066680" y="4952880"/>
              <a:chExt cx="6553440" cy="76320"/>
            </a:xfrm>
          </p:grpSpPr>
          <p:sp>
            <p:nvSpPr>
              <p:cNvPr id="471" name=""/>
              <p:cNvSpPr/>
              <p:nvPr/>
            </p:nvSpPr>
            <p:spPr>
              <a:xfrm>
                <a:off x="106668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47920" y="4952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2880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20968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90920" y="4952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7180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35268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33920" y="4952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1480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9568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76920" y="4952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5780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3868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19920" y="4952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0080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8168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162920" y="495288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543800" y="495288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1066680" y="5334120"/>
              <a:ext cx="6553440" cy="75960"/>
              <a:chOff x="1066680" y="5334120"/>
              <a:chExt cx="6553440" cy="75960"/>
            </a:xfrm>
          </p:grpSpPr>
          <p:sp>
            <p:nvSpPr>
              <p:cNvPr id="490" name=""/>
              <p:cNvSpPr/>
              <p:nvPr/>
            </p:nvSpPr>
            <p:spPr>
              <a:xfrm>
                <a:off x="106668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47920" y="5334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2880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968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90920" y="5334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7180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35268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33920" y="5334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1480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9568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76920" y="5334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5780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3868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9920" y="5334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0080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8168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162920" y="5334120"/>
                <a:ext cx="7596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43800" y="5334120"/>
                <a:ext cx="76320" cy="759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1066680" y="5715000"/>
              <a:ext cx="6553440" cy="76320"/>
              <a:chOff x="1066680" y="5715000"/>
              <a:chExt cx="6553440" cy="76320"/>
            </a:xfrm>
          </p:grpSpPr>
          <p:sp>
            <p:nvSpPr>
              <p:cNvPr id="509" name=""/>
              <p:cNvSpPr/>
              <p:nvPr/>
            </p:nvSpPr>
            <p:spPr>
              <a:xfrm>
                <a:off x="106668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47920" y="5715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2880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20968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90920" y="5715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7180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35268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33920" y="5715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1480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9568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6920" y="5715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5780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3868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715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62920" y="5715000"/>
                <a:ext cx="7596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543800" y="5715000"/>
                <a:ext cx="76320" cy="7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956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6000" y="31240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1240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57800" y="3809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495320" y="4572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53341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4952880"/>
            <a:ext cx="11430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1905120" y="457200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905120" y="35049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905120" y="3124080"/>
            <a:ext cx="38088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E88-A704-401D-98A2-C356D5C65F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500"/>
                            </p:stCondLst>
                            <p:childTnLst>
                              <p:par>
                                <p:cTn id="19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onvexification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&amp; Discretiz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04812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27432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19320" y="27432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27432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32004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19320" y="32004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32004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32004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32004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1148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1148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41148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0" y="41148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36576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19520" y="36576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838080" y="2590920"/>
            <a:ext cx="1524240" cy="76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62320" y="2590920"/>
            <a:ext cx="761760" cy="1218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3809880"/>
            <a:ext cx="38088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733920"/>
            <a:ext cx="1523880" cy="304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3352680"/>
            <a:ext cx="381240" cy="381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97560" y="1905120"/>
            <a:ext cx="4012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vex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27432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32004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2004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81680" y="32004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1500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48520" y="36576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1520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715000" y="27432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0" y="2743200"/>
            <a:ext cx="4921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3733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0" y="4800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91320" y="52578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24480" y="52578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0" y="52578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57150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57150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57150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91520" y="57150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97560" y="4114800"/>
            <a:ext cx="4012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iscre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914400" y="1828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Ζ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 flipV="1">
            <a:off x="5334120" y="2590920"/>
            <a:ext cx="1523880" cy="76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0" y="2590920"/>
            <a:ext cx="762120" cy="1218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238520" y="3809880"/>
            <a:ext cx="38124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3733920"/>
            <a:ext cx="1523880" cy="304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4120" y="3352680"/>
            <a:ext cx="380880" cy="381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73F-58A4-4C77-BBF9-229C004A3E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Discretization :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Assume S is bounded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048120" cy="26096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27432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19320" y="27432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52480" y="27432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32004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2004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32004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32004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9520" y="32004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62120" y="41148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19320" y="41148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41148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41148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657600"/>
            <a:ext cx="7596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19520" y="365760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838080" y="2590920"/>
            <a:ext cx="1524240" cy="76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2590920"/>
            <a:ext cx="761760" cy="1218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743200" y="3809880"/>
            <a:ext cx="38088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19320" y="3733920"/>
            <a:ext cx="1523880" cy="304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3352680"/>
            <a:ext cx="381240" cy="381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914400" y="1828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Ζ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35280" y="3657600"/>
                <a:ext cx="50738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nary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89360" y="1828800"/>
                <a:ext cx="48481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re exists a finite se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integer points    </m:t>
                        </m:r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⊂</m:t>
                        </m:r>
                        <m:r>
                          <m:t xml:space="preserve">S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 that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9A8-3CBD-40BA-9634-932D407F22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0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4114800"/>
            <a:ext cx="83808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191120"/>
            <a:ext cx="1676520" cy="144756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962520"/>
            <a:ext cx="304920" cy="144756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8400">
            <a:off x="4572000" y="1828440"/>
            <a:ext cx="373392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8400">
            <a:off x="2743200" y="1828440"/>
            <a:ext cx="373392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956400">
            <a:off x="838080" y="1828440"/>
            <a:ext cx="373392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114800"/>
            <a:ext cx="30492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267080"/>
            <a:ext cx="30456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419720"/>
            <a:ext cx="304920" cy="144756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267080"/>
            <a:ext cx="83844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419720"/>
            <a:ext cx="838080" cy="144756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343400"/>
            <a:ext cx="167652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4495680"/>
            <a:ext cx="1676160" cy="144792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4648320"/>
            <a:ext cx="1676520" cy="1447560"/>
          </a:xfrm>
          <a:prstGeom prst="flowChartMagneticDrum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5B6-5DEF-4950-8CE8-CBD1AF9715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09480" y="1981080"/>
                <a:ext cx="2286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Column Generation : Discretiz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670280" y="1752480"/>
                <a:ext cx="2632320" cy="28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qp</m:t>
                                </m:r>
                              </m:sub>
                            </m:sSub>
                          </m:e>
                        </m:nary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nar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457200" y="4648320"/>
            <a:ext cx="8153280" cy="11430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 more on 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discretiza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se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F. Vanderbeck &amp; L. Wols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. Barnhart, E. Johnson, G. Nemhauser, P. Vance, M. Savelsbergh, 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EA1-3D44-478D-BD04-C4FE0D42E2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1219320" y="3581280"/>
          <a:ext cx="1523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1523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09480" y="2359080"/>
                <a:ext cx="22860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on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intege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29" name=""/>
          <p:cNvGraphicFramePr/>
          <p:nvPr/>
        </p:nvGraphicFramePr>
        <p:xfrm>
          <a:off x="4876920" y="4869000"/>
          <a:ext cx="3047760" cy="9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869000"/>
                    <a:ext cx="304776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Column Generation : Convexification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33920" y="2124000"/>
                <a:ext cx="4267080" cy="37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Ζ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Ζ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→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intege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34880" y="4226040"/>
                <a:ext cx="28767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</m:t>
                        </m:r>
                        <m:r>
                          <m:rPr>
                            <m:lit/>
                            <m:nor/>
                          </m:rPr>
                          <m:t xml:space="preserve">con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set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xtreme point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→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xtreme r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F90-8359-4C41-A812-713948E10F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ntegrality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perty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2861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ahoma"/>
              </a:rPr>
              <a:t>If the integrality restrictions on the variables are relaxed,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nd the sub-problem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 an integer optimal solution for any choice of linear objective function,</a:t>
            </a:r>
            <a:r>
              <a:rPr b="1" lang="en-US" sz="2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n it satisfies the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Tahoma"/>
              </a:rPr>
              <a:t>Integrality Property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505320" cy="9907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is case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lower bound 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3241800"/>
                <a:ext cx="3367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π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952880" y="4191120"/>
            <a:ext cx="3276720" cy="14101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e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linear program;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9D0-CEA5-4227-B0D5-117F58470D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ntegrality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perty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733560" y="1828800"/>
            <a:ext cx="5105160" cy="42861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therwi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e., 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solution proces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tially explo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integrality gap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221000" y="2590920"/>
                <a:ext cx="4400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P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π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1752480" y="1676160"/>
            <a:ext cx="0" cy="4190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27432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828800" y="3276720"/>
            <a:ext cx="304920" cy="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52480" y="55627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33720" y="5291280"/>
                <a:ext cx="984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124000" y="2471760"/>
                <a:ext cx="924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2DD-2738-445D-973B-4CECEEC065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7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2" dur="500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7" dur="500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2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7" dur="500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ntegrality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perty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800080"/>
            <a:ext cx="5257800" cy="30668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most applications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Integrality Proper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undesirabl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y!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AD1-1DEA-4198-9846-563D2BBE96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9" dur="indefinite" restart="never" nodeType="tmRoot">
          <p:childTnLst>
            <p:seq>
              <p:cTn id="2550" dur="indefinite" nodeType="mainSeq">
                <p:childTnLst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Column Generation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Branch-and-???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4267080" cy="42098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-and-Bound 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ing decisio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n a combination of the original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fractiona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a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ompact Formu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n which Dantzig-Wolfe Decomposition is applied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76560" y="1905120"/>
            <a:ext cx="3886200" cy="41716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-and-Cut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tting planes defined on a combination of the original variables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Ma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, as coupling constraints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sub-proble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as local constraint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E8E-7C41-4F4F-9144-2CA64776144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3" dur="indefinite" restart="never" nodeType="tmRoot">
          <p:childTnLst>
            <p:seq>
              <p:cTn id="2594" dur="indefinite" nodeType="mainSeq">
                <p:childTnLst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Column Generation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Branch-and-???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22400" y="3123720"/>
            <a:ext cx="4521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anching   &amp;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tting decis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80880" y="2630520"/>
                <a:ext cx="3124440" cy="26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on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intege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4038480" y="4952880"/>
            <a:ext cx="4876920" cy="8254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Dantzig-Wolfe decomposition applied at all decisi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72000" y="2971800"/>
            <a:ext cx="4648320" cy="1676520"/>
            <a:chOff x="4572000" y="2971800"/>
            <a:chExt cx="4648320" cy="1676520"/>
          </a:xfrm>
        </p:grpSpPr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4572000" y="2971800"/>
                  <a:ext cx="83016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8389800" y="2971800"/>
                  <a:ext cx="8305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60" name=""/>
          <p:cNvGrpSpPr/>
          <p:nvPr/>
        </p:nvGrpSpPr>
        <p:grpSpPr>
          <a:xfrm>
            <a:off x="3458520" y="3195360"/>
            <a:ext cx="1391400" cy="1378080"/>
            <a:chOff x="3458520" y="3195360"/>
            <a:chExt cx="1391400" cy="1378080"/>
          </a:xfrm>
        </p:grpSpPr>
        <p:sp>
          <p:nvSpPr>
            <p:cNvPr id="661" name=""/>
            <p:cNvSpPr/>
            <p:nvPr/>
          </p:nvSpPr>
          <p:spPr>
            <a:xfrm rot="20905200">
              <a:off x="3506400" y="3839760"/>
              <a:ext cx="1295280" cy="609480"/>
            </a:xfrm>
            <a:prstGeom prst="leftArrow">
              <a:avLst>
                <a:gd name="adj1" fmla="val 50000"/>
                <a:gd name="adj2" fmla="val 53131"/>
              </a:avLst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447000">
              <a:off x="3505320" y="3276720"/>
              <a:ext cx="1295640" cy="609480"/>
            </a:xfrm>
            <a:prstGeom prst="leftArrow">
              <a:avLst>
                <a:gd name="adj1" fmla="val 50000"/>
                <a:gd name="adj2" fmla="val 53145"/>
              </a:avLst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D63-7D85-4F78-8BCB-54888C06DF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3" dur="indefinite" restart="never" nodeType="tmRoot">
          <p:childTnLst>
            <p:seq>
              <p:cTn id="2644" dur="indefinite" nodeType="mainSeq">
                <p:childTnLst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6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1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P Column Generation 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Branch-and-???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14600" y="2286000"/>
            <a:ext cx="4013280" cy="34480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Branch-and-Pr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nice nam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hide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ell know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ution process relatively easy to appl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4419720"/>
            <a:ext cx="1676520" cy="9903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B24-AE44-4DD3-A6A1-DC866F6619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ahoma"/>
              </a:rPr>
              <a:t>Application to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Vehicle Routing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and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Crew Scheduling Problems </a:t>
            </a:r>
            <a:r>
              <a:rPr b="1" lang="en-US" sz="1600" spc="-1" strike="noStrike">
                <a:solidFill>
                  <a:srgbClr val="660033"/>
                </a:solidFill>
                <a:latin typeface="Tahoma"/>
              </a:rPr>
              <a:t>(1981 - …)</a:t>
            </a:r>
            <a:endParaRPr b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74984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ompact Formu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inear Integer Multi-Commodity Fl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aster Probl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Covering &amp; Other Linking Constrai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Column Generat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Resource Constrained Shortest Path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254160" y="1886040"/>
            <a:ext cx="431784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. Desrosiers, Y. Dumas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F. Soumis  &amp;  M. Solo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ime Constraine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an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Handbooks in OR &amp; MS, 8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. Desaulniers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A Unified Framework for Deterministic Vehicle Routing and Crew Scheduling Problem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. Crainic &amp; G. Laporte (eds)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leet Management &amp; Logistic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19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4B0-288F-4E25-A321-B381525330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7" dur="indefinite" restart="never" nodeType="tmRoot">
          <p:childTnLst>
            <p:seq>
              <p:cTn id="2718" dur="indefinite" nodeType="mainSeq">
                <p:childTnLst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0" dur="5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503440" y="1724040"/>
                <a:ext cx="41623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Resource Constrained 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Shortest Path Problem on G=(N,A)</a:t>
            </a:r>
            <a:endParaRPr b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438280" y="1709640"/>
                <a:ext cx="2179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121200" y="2735280"/>
                <a:ext cx="40716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057400" y="4192560"/>
                <a:ext cx="6172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77920" y="4956120"/>
                <a:ext cx="64566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inar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304920" y="3062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N, A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FB8-4112-424D-975F-643F77DF2F8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500"/>
                            </p:stCondLst>
                            <p:childTnLst>
                              <p:par>
                                <p:cTn id="28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22760" y="1886040"/>
            <a:ext cx="4292640" cy="43624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number of patterns i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J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n be hug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d the solution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P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linear relaxation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,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by column generation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560" y="1905120"/>
                <a:ext cx="3703680" cy="31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3886200"/>
                <a:ext cx="396216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5800" y="5257800"/>
            <a:ext cx="3581280" cy="8254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Minimize the number of standard roll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74F-019E-4901-A9FA-CFEC2C5DA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nteger Multi-Commodity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Network Flow Structure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471680" y="1709640"/>
                <a:ext cx="6202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R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r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400040" y="2971800"/>
                <a:ext cx="63468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limLow>
                          <m:e>
                            <m:r>
                              <m:t xml:space="preserve">∪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lim>
                        </m:limLow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r</m:t>
                                    </m:r>
                                  </m:sup>
                                </m:sSubSup>
                              </m:e>
                            </m:nary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r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886040" y="5060880"/>
                <a:ext cx="5368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DBE-2DEB-4E1B-9988-22767D5C3C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9" dur="indefinite" restart="never" nodeType="tmRoot">
          <p:childTnLst>
            <p:seq>
              <p:cTn id="2840" dur="indefinite" nodeType="mainSeq">
                <p:childTnLst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649600" y="1947960"/>
            <a:ext cx="492120" cy="276120"/>
          </a:xfrm>
          <a:prstGeom prst="rect">
            <a:avLst/>
          </a:prstGeom>
          <a:solidFill>
            <a:srgbClr val="ff6600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323120" y="1947960"/>
            <a:ext cx="492120" cy="27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36720" y="251928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23840" y="1947960"/>
            <a:ext cx="492120" cy="276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48080" y="5605560"/>
            <a:ext cx="492120" cy="276120"/>
          </a:xfrm>
          <a:prstGeom prst="rect">
            <a:avLst/>
          </a:prstGeom>
          <a:solidFill>
            <a:srgbClr val="ff6600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1600" y="5605560"/>
            <a:ext cx="492120" cy="27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22320" y="5605560"/>
            <a:ext cx="492120" cy="276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75000" y="251928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57560" y="320508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97360" y="3090960"/>
            <a:ext cx="492480" cy="2761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21600" y="2576520"/>
            <a:ext cx="492120" cy="2761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35200" y="406224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13640" y="406224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62480" y="429084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48080" y="497664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08720" y="4805280"/>
            <a:ext cx="492120" cy="276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7000920" y="3087720"/>
          <a:ext cx="105552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3087720"/>
                    <a:ext cx="10555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"/>
          <p:cNvSpPr/>
          <p:nvPr/>
        </p:nvSpPr>
        <p:spPr>
          <a:xfrm flipH="1">
            <a:off x="1122480" y="3489480"/>
            <a:ext cx="2332080" cy="2111400"/>
          </a:xfrm>
          <a:prstGeom prst="line">
            <a:avLst/>
          </a:prstGeom>
          <a:ln w="25560">
            <a:solidFill>
              <a:srgbClr val="ad6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236680" y="3487680"/>
            <a:ext cx="1013040" cy="682560"/>
          </a:xfrm>
          <a:prstGeom prst="line">
            <a:avLst/>
          </a:prstGeom>
          <a:ln w="25560">
            <a:solidFill>
              <a:srgbClr val="ad6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31840" y="2803680"/>
            <a:ext cx="0" cy="1253880"/>
          </a:xfrm>
          <a:prstGeom prst="line">
            <a:avLst/>
          </a:prstGeom>
          <a:ln w="25560">
            <a:solidFill>
              <a:srgbClr val="ad6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51280" y="2232000"/>
            <a:ext cx="1417680" cy="339840"/>
          </a:xfrm>
          <a:prstGeom prst="line">
            <a:avLst/>
          </a:prstGeom>
          <a:ln w="255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763440" y="2803680"/>
            <a:ext cx="706680" cy="1482480"/>
          </a:xfrm>
          <a:prstGeom prst="line">
            <a:avLst/>
          </a:prstGeom>
          <a:ln w="255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849040" y="4575240"/>
            <a:ext cx="808200" cy="396720"/>
          </a:xfrm>
          <a:prstGeom prst="line">
            <a:avLst/>
          </a:prstGeom>
          <a:ln w="255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747520" y="5261040"/>
            <a:ext cx="96840" cy="339840"/>
          </a:xfrm>
          <a:prstGeom prst="line">
            <a:avLst/>
          </a:prstGeom>
          <a:ln w="255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4586400" y="3371760"/>
          <a:ext cx="60012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0" y="3371760"/>
                    <a:ext cx="6001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 flipH="1">
            <a:off x="7522920" y="2232000"/>
            <a:ext cx="9684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10400" y="5089680"/>
            <a:ext cx="80784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608520" y="4346640"/>
            <a:ext cx="299880" cy="45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99040" y="3375000"/>
            <a:ext cx="1011240" cy="68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00560" y="2860560"/>
            <a:ext cx="131580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24000" y="2232000"/>
            <a:ext cx="807840" cy="282600"/>
          </a:xfrm>
          <a:prstGeom prst="line">
            <a:avLst/>
          </a:prstGeom>
          <a:ln w="25560">
            <a:solidFill>
              <a:srgbClr val="ad6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441360" y="3657600"/>
          <a:ext cx="87624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60" y="3657600"/>
                    <a:ext cx="876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1146240" y="1428840"/>
          <a:ext cx="60012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6240" y="1428840"/>
                    <a:ext cx="6001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7262640" y="1143000"/>
          <a:ext cx="64620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62640" y="1143000"/>
                    <a:ext cx="646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2438280" y="1314360"/>
          <a:ext cx="15242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1314360"/>
                    <a:ext cx="1524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4267080" y="1314360"/>
          <a:ext cx="18288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131436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3" name=""/>
          <p:cNvGrpSpPr/>
          <p:nvPr/>
        </p:nvGrpSpPr>
        <p:grpSpPr>
          <a:xfrm>
            <a:off x="4165560" y="2000160"/>
            <a:ext cx="2437920" cy="171720"/>
            <a:chOff x="4165560" y="2000160"/>
            <a:chExt cx="2437920" cy="171720"/>
          </a:xfrm>
        </p:grpSpPr>
        <p:sp>
          <p:nvSpPr>
            <p:cNvPr id="724" name=""/>
            <p:cNvSpPr/>
            <p:nvPr/>
          </p:nvSpPr>
          <p:spPr>
            <a:xfrm>
              <a:off x="4165560" y="2000160"/>
              <a:ext cx="121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75040" y="2000160"/>
              <a:ext cx="121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84520" y="2000160"/>
              <a:ext cx="121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860640" y="5657760"/>
            <a:ext cx="2437920" cy="171720"/>
            <a:chOff x="3860640" y="5657760"/>
            <a:chExt cx="2437920" cy="171720"/>
          </a:xfrm>
        </p:grpSpPr>
        <p:sp>
          <p:nvSpPr>
            <p:cNvPr id="728" name=""/>
            <p:cNvSpPr/>
            <p:nvPr/>
          </p:nvSpPr>
          <p:spPr>
            <a:xfrm>
              <a:off x="3860640" y="5657760"/>
              <a:ext cx="121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70120" y="5657760"/>
              <a:ext cx="121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79600" y="5657760"/>
              <a:ext cx="121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804680" y="228600"/>
            <a:ext cx="67294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ime-Space Network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09F-2555-4290-9247-AFF35D925A64}" type="slidenum">
              <a:t>51</a:t>
            </a:fld>
          </a:p>
        </p:txBody>
      </p:sp>
    </p:spTree>
  </p:cSld>
  <p:transition spd="slow">
    <p:zoom dir="out"/>
  </p:transition>
  <p:timing>
    <p:tnLst>
      <p:par>
        <p:cTn id="2865" dur="indefinite" restart="never" nodeType="tmRoot">
          <p:childTnLst>
            <p:seq>
              <p:cTn id="2866" dur="indefinite" nodeType="mainSeq">
                <p:childTnLst>
                  <p:par>
                    <p:cTn id="2867" fill="hold">
                      <p:stCondLst>
                        <p:cond delay="0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5" fill="hold">
                            <p:stCondLst>
                              <p:cond delay="500"/>
                            </p:stCondLst>
                            <p:childTnLst>
                              <p:par>
                                <p:cTn id="28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5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9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1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1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2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4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6500"/>
                            </p:stCondLst>
                            <p:childTnLst>
                              <p:par>
                                <p:cTn id="29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0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1" dur="1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2" dur="4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4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9" dur="1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0" dur="4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4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fill="hold">
                            <p:stCondLst>
                              <p:cond delay="9500"/>
                            </p:stCondLst>
                            <p:childTnLst>
                              <p:par>
                                <p:cTn id="29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8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9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711360" y="5029200"/>
            <a:ext cx="2336760" cy="332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CAL - RESOUR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2880" y="1828800"/>
            <a:ext cx="3149640" cy="332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VERING OF THE 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9880" y="743040"/>
            <a:ext cx="3122640" cy="332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PARABLE COS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2880" y="2571840"/>
            <a:ext cx="3987720" cy="332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LOBAL OR  COUPL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07240" y="1143000"/>
            <a:ext cx="914400" cy="17136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20840" y="1143000"/>
            <a:ext cx="914400" cy="17136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46240" y="1143000"/>
            <a:ext cx="914400" cy="17136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165560" y="1143000"/>
            <a:ext cx="2437920" cy="171360"/>
            <a:chOff x="4165560" y="1143000"/>
            <a:chExt cx="2437920" cy="171360"/>
          </a:xfrm>
        </p:grpSpPr>
        <p:sp>
          <p:nvSpPr>
            <p:cNvPr id="740" name=""/>
            <p:cNvSpPr/>
            <p:nvPr/>
          </p:nvSpPr>
          <p:spPr>
            <a:xfrm>
              <a:off x="4165560" y="1143000"/>
              <a:ext cx="1218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75040" y="1143000"/>
              <a:ext cx="1218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84520" y="1143000"/>
              <a:ext cx="1218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6807240" y="2228760"/>
            <a:ext cx="914400" cy="171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20840" y="2228760"/>
            <a:ext cx="914400" cy="171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46240" y="2228760"/>
            <a:ext cx="914400" cy="171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65560" y="2228760"/>
            <a:ext cx="12193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75040" y="2228760"/>
            <a:ext cx="12193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84880" y="2228760"/>
            <a:ext cx="12189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75040" y="2971800"/>
            <a:ext cx="1219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ignet Roundhand A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ignet Roundhand AT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320840" y="2971800"/>
            <a:ext cx="6399720" cy="171360"/>
            <a:chOff x="1320840" y="2971800"/>
            <a:chExt cx="6399720" cy="171360"/>
          </a:xfrm>
        </p:grpSpPr>
        <p:sp>
          <p:nvSpPr>
            <p:cNvPr id="751" name=""/>
            <p:cNvSpPr/>
            <p:nvPr/>
          </p:nvSpPr>
          <p:spPr>
            <a:xfrm>
              <a:off x="1320840" y="2971800"/>
              <a:ext cx="914040" cy="171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945880" y="2971800"/>
              <a:ext cx="4774680" cy="171360"/>
              <a:chOff x="2945880" y="2971800"/>
              <a:chExt cx="4774680" cy="171360"/>
            </a:xfrm>
          </p:grpSpPr>
          <p:sp>
            <p:nvSpPr>
              <p:cNvPr id="753" name=""/>
              <p:cNvSpPr/>
              <p:nvPr/>
            </p:nvSpPr>
            <p:spPr>
              <a:xfrm>
                <a:off x="6806520" y="2971800"/>
                <a:ext cx="914040" cy="171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45880" y="2971800"/>
                <a:ext cx="914040" cy="171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164840" y="2971800"/>
                <a:ext cx="121896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Signet Roundhand ATT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Signet Roundhand ATT"/>
                  </a:rPr>
                  <a:t> 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83800" y="2971800"/>
                <a:ext cx="121896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Signet Roundhand ATT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Signet Roundhand ATT"/>
                  </a:rPr>
                  <a:t> 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1320840" y="4229280"/>
            <a:ext cx="914400" cy="17136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20840" y="3828960"/>
            <a:ext cx="914400" cy="343080"/>
          </a:xfrm>
          <a:prstGeom prst="rect">
            <a:avLst/>
          </a:pr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20840" y="3657600"/>
            <a:ext cx="914400" cy="114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49640" y="5029200"/>
            <a:ext cx="914400" cy="17136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49640" y="4629240"/>
            <a:ext cx="914400" cy="342720"/>
          </a:xfrm>
          <a:prstGeom prst="rect">
            <a:avLst/>
          </a:prstGeom>
          <a:solidFill>
            <a:srgbClr val="ff7c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9640" y="4457880"/>
            <a:ext cx="914400" cy="114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807240" y="5200560"/>
            <a:ext cx="914040" cy="742680"/>
            <a:chOff x="6807240" y="5200560"/>
            <a:chExt cx="914040" cy="742680"/>
          </a:xfrm>
        </p:grpSpPr>
        <p:sp>
          <p:nvSpPr>
            <p:cNvPr id="764" name=""/>
            <p:cNvSpPr/>
            <p:nvPr/>
          </p:nvSpPr>
          <p:spPr>
            <a:xfrm>
              <a:off x="6807240" y="5771880"/>
              <a:ext cx="914040" cy="1713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07240" y="5371920"/>
              <a:ext cx="914040" cy="34272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07240" y="5200560"/>
              <a:ext cx="914040" cy="1144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064040" y="5143680"/>
            <a:ext cx="2640960" cy="171360"/>
            <a:chOff x="4064040" y="5143680"/>
            <a:chExt cx="2640960" cy="171360"/>
          </a:xfrm>
        </p:grpSpPr>
        <p:sp>
          <p:nvSpPr>
            <p:cNvPr id="768" name=""/>
            <p:cNvSpPr/>
            <p:nvPr/>
          </p:nvSpPr>
          <p:spPr>
            <a:xfrm>
              <a:off x="4064040" y="5143680"/>
              <a:ext cx="1320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24280" y="5143680"/>
              <a:ext cx="1320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4520" y="5143680"/>
              <a:ext cx="1320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ignet Roundhand AT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ignet Roundhand ATT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 flipH="1">
            <a:off x="3453840" y="4114800"/>
            <a:ext cx="548604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87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8738"/>
              </a:path>
            </a:pathLst>
          </a:custGeom>
          <a:noFill/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49600" y="2617920"/>
            <a:ext cx="244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67080" y="3828960"/>
            <a:ext cx="2133720" cy="332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ATH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14520" y="4000680"/>
            <a:ext cx="925200" cy="114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59" y="19469"/>
                </a:moveTo>
                <a:arcTo wR="10800" hR="10800" stAng="7596898" swAng="10507942"/>
                <a:lnTo>
                  <a:pt x="10800" y="10800"/>
                </a:lnTo>
                <a:close/>
              </a:path>
              <a:path fill="none" w="21600" h="21600">
                <a:moveTo>
                  <a:pt x="4359" y="19469"/>
                </a:moveTo>
                <a:arcTo wR="10800" hR="10800" stAng="7596898" swAng="10507942"/>
              </a:path>
            </a:pathLst>
          </a:custGeom>
          <a:noFill/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29000" y="5799240"/>
            <a:ext cx="1854360" cy="332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CAL -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 rot="9450000">
            <a:off x="2727000" y="5826240"/>
            <a:ext cx="4471200" cy="22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70" y="263"/>
                </a:moveTo>
                <a:arcTo wR="10800" hR="10800" stAng="-4639462" swAng="3595901"/>
                <a:lnTo>
                  <a:pt x="10800" y="10800"/>
                </a:lnTo>
                <a:close/>
              </a:path>
              <a:path fill="none" w="21600" h="21600">
                <a:moveTo>
                  <a:pt x="13170" y="263"/>
                </a:moveTo>
                <a:arcTo wR="10800" hR="10800" stAng="-4639462" swAng="3595901"/>
              </a:path>
            </a:pathLst>
          </a:custGeom>
          <a:noFill/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950-B992-420C-AB37-CEE71407BAF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3" dur="indefinite" restart="never" nodeType="tmRoot">
          <p:childTnLst>
            <p:seq>
              <p:cTn id="3104" dur="indefinite" nodeType="mainSeq">
                <p:childTnLst>
                  <p:par>
                    <p:cTn id="3105" fill="hold">
                      <p:stCondLst>
                        <p:cond delay="0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500"/>
                            </p:stCondLst>
                            <p:childTnLst>
                              <p:par>
                                <p:cTn id="3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3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4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5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5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5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5" dur="5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3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4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2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1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1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3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7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15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15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7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5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57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4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682200" y="514440"/>
            <a:ext cx="2378880" cy="332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ff"/>
                </a:solidFill>
                <a:latin typeface="Tahoma"/>
              </a:rPr>
              <a:t>NETWORK GEN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47920" y="1123920"/>
            <a:ext cx="6324480" cy="4514760"/>
          </a:xfrm>
          <a:prstGeom prst="rect">
            <a:avLst/>
          </a:prstGeom>
          <a:solidFill>
            <a:srgbClr val="eaeaea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1143000"/>
            <a:ext cx="2819520" cy="332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400"/>
                </a:solidFill>
                <a:latin typeface="Tahoma"/>
              </a:rPr>
              <a:t>COLUMN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0160" y="1943280"/>
            <a:ext cx="4267080" cy="2514600"/>
          </a:xfrm>
          <a:prstGeom prst="rect">
            <a:avLst/>
          </a:prstGeom>
          <a:solidFill>
            <a:srgbClr val="ffff9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09400" y="2365200"/>
            <a:ext cx="1652040" cy="57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UBPROBL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770920" y="3456000"/>
            <a:ext cx="217620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ASTER PROBL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75040" y="2971800"/>
            <a:ext cx="0" cy="457200"/>
          </a:xfrm>
          <a:prstGeom prst="line">
            <a:avLst/>
          </a:prstGeom>
          <a:ln w="38160">
            <a:solidFill>
              <a:srgbClr val="00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75040" y="4000680"/>
            <a:ext cx="0" cy="114120"/>
          </a:xfrm>
          <a:prstGeom prst="line">
            <a:avLst/>
          </a:prstGeom>
          <a:ln w="38160">
            <a:solidFill>
              <a:srgbClr val="005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775040" y="4114800"/>
            <a:ext cx="1811520" cy="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603840" y="2114280"/>
            <a:ext cx="0" cy="188604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4774680" y="2114640"/>
            <a:ext cx="1846440" cy="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75040" y="2124000"/>
            <a:ext cx="0" cy="21924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00600" y="3081240"/>
            <a:ext cx="71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08560" y="3581280"/>
            <a:ext cx="1092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75040" y="4519440"/>
            <a:ext cx="0" cy="509760"/>
          </a:xfrm>
          <a:prstGeom prst="line">
            <a:avLst/>
          </a:prstGeom>
          <a:ln w="38160">
            <a:solidFill>
              <a:srgbClr val="00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50760" y="5056200"/>
            <a:ext cx="2238840" cy="302040"/>
          </a:xfrm>
          <a:prstGeom prst="rect">
            <a:avLst/>
          </a:prstGeom>
          <a:solidFill>
            <a:srgbClr val="ffff9f"/>
          </a:solidFill>
          <a:ln w="1260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-AND-CUT (B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98560" y="4595760"/>
            <a:ext cx="2260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PTIMAL LIN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LAXATION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727280" y="1657080"/>
            <a:ext cx="0" cy="3600360"/>
          </a:xfrm>
          <a:prstGeom prst="line">
            <a:avLst/>
          </a:prstGeom>
          <a:ln w="3816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727280" y="5257800"/>
            <a:ext cx="1008000" cy="0"/>
          </a:xfrm>
          <a:prstGeom prst="line">
            <a:avLst/>
          </a:prstGeom>
          <a:ln w="3816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617840" y="1657440"/>
            <a:ext cx="3157200" cy="0"/>
          </a:xfrm>
          <a:prstGeom prst="line">
            <a:avLst/>
          </a:prstGeom>
          <a:ln w="3816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75040" y="1657440"/>
            <a:ext cx="0" cy="228600"/>
          </a:xfrm>
          <a:prstGeom prst="line">
            <a:avLst/>
          </a:prstGeom>
          <a:ln w="38160">
            <a:solidFill>
              <a:srgbClr val="0054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28800" y="5824440"/>
            <a:ext cx="2743200" cy="576360"/>
          </a:xfrm>
          <a:prstGeom prst="rect">
            <a:avLst/>
          </a:prstGeom>
          <a:solidFill>
            <a:srgbClr val="ffff9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936-CE76-48CC-9550-55BC212A26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fill="hold">
                      <p:stCondLst>
                        <p:cond delay="indefinite"/>
                      </p:stCondLst>
                      <p:childTnLst>
                        <p:par>
                          <p:cTn id="3351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3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Vehicle Routing and Crew Scheduling Problems ...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06440" y="1828800"/>
            <a:ext cx="4013280" cy="24573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ub-Problem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trongly NP-h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does not posses th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ntegrality Proper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h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Extreme poi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1640" y="2266560"/>
            <a:ext cx="4165560" cy="13143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aster Probl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esults in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t Partitioning/Cover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ype Proble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2438280" y="4527720"/>
            <a:ext cx="6400800" cy="11912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ing and Cutting decisions are taken on the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original network flow, resource and supplement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33A-B232-480D-8B07-B0D7E4EFB10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9" dur="indefinite" restart="never" nodeType="tmRoot">
          <p:childTnLst>
            <p:seq>
              <p:cTn id="3380" dur="indefinite" nodeType="mainSeq">
                <p:childTnLst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7" fill="hold">
                      <p:stCondLst>
                        <p:cond delay="indefinite"/>
                      </p:stCondLst>
                      <p:childTnLst>
                        <p:par>
                          <p:cTn id="3388" fill="hold">
                            <p:stCondLst>
                              <p:cond delay="0"/>
                            </p:stCondLst>
                            <p:childTnLst>
                              <p:par>
                                <p:cTn id="3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Successful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Application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15200" cy="41148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Vehicle Routing with Time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Dial-a-Ride for Physically Disabled Person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Urban Transit Crew Scheduli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Multiple Depot Vehicle Scheduli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Aircraft Routing and Scheduling   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Airline Crew Pairi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Crew Rostering (Pilot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 Flight Attendants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40"/>
                </a:solidFill>
                <a:latin typeface="Tahoma"/>
              </a:rPr>
              <a:t>Locomotive and Car Assign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AD3-C736-48B9-BBC5-75A29D54BF06}" type="slidenum">
              <a:t>55</a:t>
            </a:fld>
          </a:p>
        </p:txBody>
      </p:sp>
    </p:spTree>
  </p:cSld>
  <p:timing>
    <p:tnLst>
      <p:par>
        <p:cTn id="3405" dur="indefinite" restart="never" nodeType="tmRoot">
          <p:childTnLst>
            <p:seq>
              <p:cTn id="3406" dur="indefinite" nodeType="mainSeq">
                <p:childTnLst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1" dur="5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7" dur="5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3" dur="500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9" dur="500" fill="hold"/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84120" y="228240"/>
            <a:ext cx="7097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Research Trends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in Accelerating Technique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105520" cy="35053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z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al Cu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aint Aggreg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-Problem Speed-u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wo-level Problems Solved                             with Benders Decom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er Column Generation                             with Interior Point Algorith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081-E7BD-453E-B04F-472756898F85}" type="slidenum">
              <a:t>56</a:t>
            </a:fld>
          </a:p>
        </p:txBody>
      </p:sp>
    </p:spTree>
  </p:cSld>
  <p:timing>
    <p:tnLst>
      <p:par>
        <p:cTn id="3461" dur="indefinite" restart="never" nodeType="tmRoot">
          <p:childTnLst>
            <p:seq>
              <p:cTn id="3462" dur="indefinite" nodeType="mainSeq">
                <p:childTnLst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fill="hold">
                      <p:stCondLst>
                        <p:cond delay="indefinite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Acceleration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echnique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560" y="2266560"/>
            <a:ext cx="4165560" cy="23814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Column Genera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aster 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ompact Formu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22760" y="2266560"/>
            <a:ext cx="4292640" cy="23814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fast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 Heuristic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Re-Optimiz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Pre-Process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66880" y="4876920"/>
            <a:ext cx="3810240" cy="10159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get 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Pr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u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98960" y="1690560"/>
            <a:ext cx="45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ahoma"/>
              </a:rPr>
              <a:t>Exploit all the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D4F-524E-46A8-802F-D30953E236C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5" dur="indefinite" restart="never" nodeType="tmRoot">
          <p:childTnLst>
            <p:seq>
              <p:cTn id="3506" dur="indefinite" nodeType="mainSeq">
                <p:childTnLst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2" dur="5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oncluding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Remark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338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Dantzig-Wolfe  Decompos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an intuitive framework that requires all tools discussed to become applic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easier” for 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y effectiv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several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14036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agine what could be done with theoretically better methods such a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Analytic Center Cutting Plane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hich exploits recent developments in </a:t>
            </a: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interior point methods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nd is also 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compatibl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ith  Column Generatio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5D1-F412-4E33-B4A9-334ED4C868A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0" dur="indefinite" restart="never" nodeType="tmRoot">
          <p:childTnLst>
            <p:seq>
              <p:cTn id="3561" dur="indefinite" nodeType="mainSeq">
                <p:childTnLst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8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fill="hold">
                      <p:stCondLst>
                        <p:cond delay="indefinite"/>
                      </p:stCondLst>
                      <p:childTnLst>
                        <p:par>
                          <p:cTn id="3611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ven a subse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the dual multiplie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reduced cost of any new  patterns must  satisfy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therwise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P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is optimal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8680" y="3394080"/>
                <a:ext cx="399420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rPr>
                            <m:lit/>
                            <m:nor/>
                          </m:rPr>
                          <m:t xml:space="preserve">: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4724280" y="1905120"/>
            <a:ext cx="3809880" cy="3632040"/>
            <a:chOff x="4724280" y="1905120"/>
            <a:chExt cx="3809880" cy="363204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7086600" y="1905120"/>
                  <a:ext cx="99036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'</m:t>
                      </m:r>
                      <m:r>
                        <m:t xml:space="preserve">⊂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728960" y="2798640"/>
                  <a:ext cx="357048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≡</m:t>
                      </m:r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∈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724280" y="4648320"/>
                  <a:ext cx="380988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j</m:t>
                          </m:r>
                          <m:r>
                            <m:t xml:space="preserve">∈</m:t>
                          </m:r>
                          <m:r>
                            <m:t xml:space="preserve">J</m:t>
                          </m:r>
                          <m:r>
                            <m:t xml:space="preserve">'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DA1-0FC4-4248-B2C1-B5CFC41E3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The Cutting Stock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Problem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3280" cy="44197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d costs for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e non negative, henc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0" y="1828440"/>
            <a:ext cx="4013280" cy="44197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decision variable: the number of times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item </a:t>
            </a:r>
            <a:r>
              <a:rPr b="1" i="1" lang="en-US" sz="2000" spc="-1" strike="noStrike">
                <a:solidFill>
                  <a:srgbClr val="cc0000"/>
                </a:solidFill>
                <a:latin typeface="Tahoma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is selected in a </a:t>
            </a: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new patter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Column Generator is a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Knapsack Problem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19520" y="1814400"/>
                <a:ext cx="9144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9880" y="2819520"/>
                <a:ext cx="3906720" cy="32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≡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integer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1752480"/>
                <a:ext cx="428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22920" y="4267080"/>
                <a:ext cx="361296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integer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D29-F99C-4C63-875B-9C1EFC5B92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Basic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Observations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29908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 the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higher leve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aster Problem</a:t>
            </a: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s the patterns or column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lower level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olumn Generat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 rather easy to solv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299088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Column Generat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is often separable in several independent sub-problem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e should use a specialized algorithm that exploits its particular structur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033-8658-4D89-944C-A59BADCDF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553080" y="2057400"/>
            <a:ext cx="838440" cy="1905120"/>
          </a:xfrm>
          <a:prstGeom prst="downArrow">
            <a:avLst>
              <a:gd name="adj1" fmla="val 50000"/>
              <a:gd name="adj2" fmla="val 5680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LP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Column Generation </a:t>
            </a:r>
            <a:endParaRPr b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057400"/>
            <a:ext cx="838080" cy="1905120"/>
          </a:xfrm>
          <a:prstGeom prst="upArrow">
            <a:avLst>
              <a:gd name="adj1" fmla="val 50000"/>
              <a:gd name="adj2" fmla="val 568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648320"/>
            <a:ext cx="7924680" cy="11912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ality Cond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primal feasi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omplementary slack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dual 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26863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 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olum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Dual Multipli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UMN GENERAT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Sub-problem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1D7-8DE9-46A8-9BFB-7D60DF3A9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01:39:36Z</dcterms:created>
  <dc:creator>Jacques Desrosiers</dc:creator>
  <dc:description/>
  <dc:language>en-US</dc:language>
  <cp:lastModifiedBy>Jacques Desrosiers</cp:lastModifiedBy>
  <cp:lastPrinted>2001-05-09T11:58:58Z</cp:lastPrinted>
  <dcterms:modified xsi:type="dcterms:W3CDTF">2003-07-16T23:50:09Z</dcterms:modified>
  <cp:revision>158</cp:revision>
  <dc:subject/>
  <dc:title>Column Generation</dc:title>
</cp:coreProperties>
</file>