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7315200" cy="9601200"/>
  <p:notesSz cx="7073900" cy="896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556-201A-444C-B621-F385872D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62200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560" y="5782320"/>
            <a:ext cx="62200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E1F-16ED-4843-8EAD-10548041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5000" y="277308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560" y="578232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5000" y="578232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C08-9E9E-4F3A-842C-D21A01A8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20026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0680" y="2773080"/>
            <a:ext cx="20026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800" y="2773080"/>
            <a:ext cx="20026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560" y="5782320"/>
            <a:ext cx="20026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0680" y="5782320"/>
            <a:ext cx="20026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800" y="5782320"/>
            <a:ext cx="20026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0DF-3B89-4B6D-A7D5-E03BABA6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560" y="2773080"/>
            <a:ext cx="622008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8A7-FBCF-4B04-817B-156C93D9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6220080" cy="5761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AA1-269F-4C0A-80C0-31CE098A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3035160" cy="5761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5000" y="2773080"/>
            <a:ext cx="3035160" cy="5761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5DD-A029-46F7-B5ED-BD94A902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81A-A1B6-46A6-8CB7-82594292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560" y="639720"/>
            <a:ext cx="622008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7B0-6C34-4C17-94B0-CDECC948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5000" y="2773080"/>
            <a:ext cx="3035160" cy="5761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560" y="578232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BEA-B168-441D-A0B2-CFC1D22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3035160" cy="5761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5000" y="277308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5000" y="578232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3F6-2E53-4F79-882F-F1C5AC2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5000" y="2773080"/>
            <a:ext cx="303516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560" y="5782320"/>
            <a:ext cx="6220080" cy="2747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858-B1B0-4679-9BEE-D6150F74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560" y="2773080"/>
            <a:ext cx="6220080" cy="57610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86760" rIns="86760" tIns="43200" bIns="4320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714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 indent="-2174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77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640" indent="-21744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2640" indent="-21744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2640" indent="-21744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8748360"/>
            <a:ext cx="1524240" cy="638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lstStyle>
            <a:lvl1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0200" y="8748360"/>
            <a:ext cx="2314800" cy="638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lstStyle>
            <a:lvl1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3400" y="8748360"/>
            <a:ext cx="1524240" cy="638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430B8491-4301-4A6A-B496-5B6E4A475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0400" y="800280"/>
            <a:ext cx="5418000" cy="17143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STABILIZED 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OLUMN GENERATION 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57240" y="3854520"/>
            <a:ext cx="3592800" cy="12366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cques Desros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EC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Times New Roman"/>
              </a:rPr>
              <a:t>GE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08080" y="5310360"/>
            <a:ext cx="3299040" cy="2157120"/>
          </a:xfrm>
          <a:prstGeom prst="rect">
            <a:avLst/>
          </a:prstGeom>
          <a:solidFill>
            <a:srgbClr val="f8f8f8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tem Ben Am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nçois Sou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iel Villeneu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Times New Roman"/>
              </a:rPr>
              <a:t>GE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639720"/>
            <a:ext cx="486252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ome References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6337440" cy="501012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86760" rIns="86760" tIns="43200" bIns="43200" anchor="t">
            <a:normAutofit/>
          </a:bodyPr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0 Gillmore &amp; Gomor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utting Stock Proble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9 Agarwal, Mathur &amp; Salki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VR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3 Marquard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ust regio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75 Marste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ox Step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00 Kallehaug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&amp; Madse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VRPTW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2 Vial &amp; Goffi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CCP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9 du Merle et al.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abilized CG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spcBef>
                <a:spcPts val="476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00 Valério de Carvalh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utting Stock Proble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39720"/>
            <a:ext cx="592920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Impact of Dual Bounds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on the Primal Formulation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77880" y="2773440"/>
                <a:ext cx="122868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83080" y="2909880"/>
                <a:ext cx="14731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bπ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πA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289400" y="5786280"/>
                <a:ext cx="187632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bπ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πA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π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944880" y="7491240"/>
            <a:ext cx="26528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2300" spc="-1" strike="noStrike">
                <a:solidFill>
                  <a:srgbClr val="0066ff"/>
                </a:solidFill>
                <a:latin typeface="Tahoma"/>
              </a:rPr>
              <a:t>Restricted </a:t>
            </a:r>
            <a:r>
              <a:rPr b="1" i="1" lang="en-US" sz="23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Du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(D</a:t>
            </a:r>
            <a:r>
              <a:rPr b="1" lang="en-US" sz="2300" spc="-1" strike="noStrike" baseline="30000">
                <a:solidFill>
                  <a:srgbClr val="cc0000"/>
                </a:solidFill>
                <a:latin typeface="Tahoma"/>
              </a:rPr>
              <a:t>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7880" y="5383080"/>
                <a:ext cx="2849400" cy="204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46200" y="7502400"/>
            <a:ext cx="27954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2300" spc="-1" strike="noStrike">
                <a:solidFill>
                  <a:srgbClr val="0066ff"/>
                </a:solidFill>
                <a:latin typeface="Tahoma"/>
              </a:rPr>
              <a:t>A Relaxe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  Prim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(P</a:t>
            </a:r>
            <a:r>
              <a:rPr b="1" lang="en-US" sz="2300" spc="-1" strike="noStrike" baseline="30000">
                <a:solidFill>
                  <a:srgbClr val="cc0000"/>
                </a:solidFill>
                <a:latin typeface="Tahoma"/>
              </a:rPr>
              <a:t>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)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3200400"/>
            <a:ext cx="12906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Prim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(P)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08600" y="3200400"/>
            <a:ext cx="11476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Du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(D)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40120" y="3417840"/>
            <a:ext cx="1506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07120" y="4146480"/>
            <a:ext cx="0" cy="1527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57240" y="6691320"/>
            <a:ext cx="501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39720"/>
            <a:ext cx="554832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Trust Regions / Box Step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32040" y="6037200"/>
            <a:ext cx="2152440" cy="203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79720" y="4290840"/>
            <a:ext cx="3012840" cy="240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03800" y="2763720"/>
            <a:ext cx="1935000" cy="269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19320" y="5236920"/>
            <a:ext cx="501480" cy="1963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720800" y="3490560"/>
            <a:ext cx="2295720" cy="174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016520" y="3273480"/>
            <a:ext cx="1863720" cy="21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0240" y="3273480"/>
            <a:ext cx="861840" cy="87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71960" y="5818320"/>
                <a:ext cx="528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,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430280" y="7054920"/>
                <a:ext cx="4539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,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359320" y="4203720"/>
                <a:ext cx="4874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,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011400" y="5891040"/>
            <a:ext cx="144720" cy="14616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92560" y="4218120"/>
            <a:ext cx="142920" cy="14580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60" y="5164920"/>
            <a:ext cx="3008880" cy="18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2240" y="6983280"/>
            <a:ext cx="144360" cy="14472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11040000">
            <a:off x="3066480" y="4399920"/>
            <a:ext cx="3175920" cy="26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41" y="74"/>
                </a:moveTo>
                <a:arcTo wR="10800" hR="10800" stAng="-5801762" swAng="6628980"/>
                <a:lnTo>
                  <a:pt x="10800" y="10800"/>
                </a:lnTo>
                <a:close/>
              </a:path>
              <a:path fill="none" w="21600" h="21600">
                <a:moveTo>
                  <a:pt x="9541" y="74"/>
                </a:moveTo>
                <a:arcTo wR="10800" hR="10800" stAng="-5801762" swAng="6628980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518080" y="3346560"/>
                <a:ext cx="528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,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 flipV="1" rot="19422000">
            <a:off x="4117680" y="3699000"/>
            <a:ext cx="1892160" cy="59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775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77596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3200400"/>
            <a:ext cx="144360" cy="14616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7480" y="3417840"/>
            <a:ext cx="860400" cy="365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47680" y="2982960"/>
            <a:ext cx="214560" cy="581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34960" y="3198960"/>
            <a:ext cx="414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4280" bIns="44280" anchor="ctr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Dual Cuts</a:t>
            </a:r>
            <a:br>
              <a:rPr sz="38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r the Cutting Stock proble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7560" y="2560680"/>
            <a:ext cx="6220080" cy="5759280"/>
          </a:xfrm>
          <a:prstGeom prst="rect">
            <a:avLst/>
          </a:prstGeom>
          <a:solidFill>
            <a:srgbClr val="f8f8f8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rmAutofit/>
          </a:bodyPr>
          <a:p>
            <a:pPr marL="307800" indent="-307800" algn="ctr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ério de Carvalho (2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 algn="ctr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sing extra 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dual cut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to accelerate column gene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all items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=1,…,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are ranke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itional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 algn="ctr">
              <a:spcBef>
                <a:spcPts val="6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Using a priori at most 2m dual constrai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 algn="ctr">
              <a:spcBef>
                <a:spcPts val="6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cc3300"/>
                </a:solidFill>
                <a:latin typeface="Times New Roman"/>
              </a:rPr>
              <a:t>or primal column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 algn="ctr">
              <a:spcBef>
                <a:spcPts val="6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60400" y="4000680"/>
            <a:ext cx="5827320" cy="1629720"/>
            <a:chOff x="860400" y="4000680"/>
            <a:chExt cx="5827320" cy="162972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860400" y="4000680"/>
                  <a:ext cx="2354400" cy="57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932040" y="5018400"/>
                  <a:ext cx="5449320" cy="61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210120" y="4000680"/>
                  <a:ext cx="34776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Dual Cuts / Primal Columns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lério de Carvalho (2000)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89120" y="2982960"/>
          <a:ext cx="580860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2982960"/>
                    <a:ext cx="5808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913320" y="2063880"/>
            <a:ext cx="5365080" cy="439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4280" bIns="44280" anchor="ctr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pplication to the Cutting Stock Probl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6240" y="7176240"/>
            <a:ext cx="52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duces the CPU time b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4480" y="639720"/>
            <a:ext cx="642276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Triplets  (501 items)</a:t>
            </a:r>
            <a:br>
              <a:rPr sz="3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ch roll of length 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cut into exactly three orders without any wast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4200" y="2697120"/>
                <a:ext cx="634536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andard Column Generation      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iterations</m:t>
                        </m:r>
                      </m:e>
                      <m:e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iterations</m:t>
                        </m:r>
                      </m:e>
                      <m:e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iteration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oth strategies                               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iterations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verage over 10 proble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39720"/>
            <a:ext cx="600552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Degeneracy &amp; Perturbation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77880" y="2617920"/>
                <a:ext cx="1354320" cy="16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50960" y="5237280"/>
                <a:ext cx="270180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789120" y="7502400"/>
            <a:ext cx="29397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2300" spc="-1" strike="noStrike">
                <a:solidFill>
                  <a:srgbClr val="0066ff"/>
                </a:solidFill>
                <a:latin typeface="Tahoma"/>
              </a:rPr>
              <a:t>Perturbed  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Prim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(P</a:t>
            </a:r>
            <a:r>
              <a:rPr b="1" lang="en-US" sz="2300" spc="-1" strike="noStrike" baseline="-25000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)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3200400"/>
            <a:ext cx="12906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Prim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(P)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3240" y="6835680"/>
            <a:ext cx="2559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4280" bIns="44280" anchor="ctr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 relaxed prim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7560" y="639360"/>
            <a:ext cx="6220080" cy="103356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tabilized Column Generation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22640" y="2036880"/>
                <a:ext cx="12189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787920" y="2182680"/>
                <a:ext cx="148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bπ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πA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73600" y="3637080"/>
                <a:ext cx="165420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bπ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πA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π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728880" y="5091120"/>
            <a:ext cx="25830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0066ff"/>
                </a:solidFill>
                <a:latin typeface="Tahoma"/>
              </a:rPr>
              <a:t>Restricte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 Du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17480" y="3633840"/>
                <a:ext cx="27241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4360" y="5310360"/>
            <a:ext cx="30445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0066ff"/>
                </a:solidFill>
                <a:latin typeface="Tahoma"/>
              </a:rPr>
              <a:t>Perturbe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 Primal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34960" y="5973840"/>
                <a:ext cx="3888000" cy="22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951200" y="8215200"/>
            <a:ext cx="36115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0066ff"/>
                </a:solidFill>
                <a:latin typeface="Tahoma"/>
              </a:rPr>
              <a:t>Stabilize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 Primal  (    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84840" y="8261280"/>
                <a:ext cx="449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tabilized  Primal &amp; Dual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30200" y="2289240"/>
                <a:ext cx="4272120" cy="28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362240" y="5237280"/>
            <a:ext cx="3743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0066ff"/>
                </a:solidFill>
                <a:latin typeface="Tahoma"/>
              </a:rPr>
              <a:t>Stabilize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  Primal ( 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41520" y="5997600"/>
                <a:ext cx="387504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b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πA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π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6153120" y="3198960"/>
            <a:ext cx="171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4280" bIns="44280" anchor="ctr">
            <a:sp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126040" y="2889360"/>
                <a:ext cx="173196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811160" y="8218440"/>
            <a:ext cx="3353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300" spc="-1" strike="noStrike">
                <a:solidFill>
                  <a:srgbClr val="0066ff"/>
                </a:solidFill>
                <a:latin typeface="Tahoma"/>
              </a:rPr>
              <a:t>Stabilized</a:t>
            </a:r>
            <a:r>
              <a:rPr b="1" lang="en-US" sz="2300" spc="-1" strike="noStrike">
                <a:solidFill>
                  <a:srgbClr val="cc0000"/>
                </a:solidFill>
                <a:latin typeface="Tahoma"/>
              </a:rPr>
              <a:t>  Dual ( 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51320" y="5257800"/>
                <a:ext cx="4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419720" y="8261280"/>
                <a:ext cx="476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668840" y="4116240"/>
                <a:ext cx="442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06640" y="4116240"/>
                <a:ext cx="4111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639720"/>
            <a:ext cx="432936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Dual Space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3120" y="3854520"/>
            <a:ext cx="631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0240" y="240048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80240" y="2763720"/>
            <a:ext cx="78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273400"/>
            <a:ext cx="1054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4280" bIns="4428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378480" y="3267000"/>
                <a:ext cx="5112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 flipV="1">
            <a:off x="573120" y="2400120"/>
            <a:ext cx="0" cy="429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932040" y="3854520"/>
            <a:ext cx="1218960" cy="2909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48200" y="3854520"/>
            <a:ext cx="1363680" cy="2909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83280" y="5600880"/>
                <a:ext cx="703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47920" y="5570640"/>
                <a:ext cx="379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355760" y="3095640"/>
                <a:ext cx="7747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019840" y="3127320"/>
                <a:ext cx="507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441600" y="3710160"/>
            <a:ext cx="21600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51000" y="2690640"/>
            <a:ext cx="0" cy="946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361880" y="3200400"/>
            <a:ext cx="78876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48200" y="2546280"/>
            <a:ext cx="0" cy="10908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948200" y="3200400"/>
            <a:ext cx="7891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66960" y="7035840"/>
                <a:ext cx="3727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π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>
            <a:off x="2133360" y="3886200"/>
            <a:ext cx="2819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87880" y="2971800"/>
                <a:ext cx="5983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39720"/>
            <a:ext cx="561024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Multiple Depot Vehicle Scheduling Problem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762200">
            <a:off x="1474920" y="3126960"/>
            <a:ext cx="358560" cy="509760"/>
          </a:xfrm>
          <a:custGeom>
            <a:avLst/>
            <a:gdLst>
              <a:gd name="textAreaLeft" fmla="*/ 98640 w 358560"/>
              <a:gd name="textAreaRight" fmla="*/ 259920 w 358560"/>
              <a:gd name="textAreaTop" fmla="*/ 140400 h 509760"/>
              <a:gd name="textAreaBottom" fmla="*/ 36936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0" y="21600"/>
                </a:lnTo>
                <a:lnTo>
                  <a:pt x="756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762200">
            <a:off x="2263320" y="6982560"/>
            <a:ext cx="358920" cy="507960"/>
          </a:xfrm>
          <a:custGeom>
            <a:avLst/>
            <a:gdLst>
              <a:gd name="textAreaLeft" fmla="*/ 98640 w 358920"/>
              <a:gd name="textAreaRight" fmla="*/ 260280 w 358920"/>
              <a:gd name="textAreaTop" fmla="*/ 139680 h 507960"/>
              <a:gd name="textAreaBottom" fmla="*/ 3682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0" y="21600"/>
                </a:lnTo>
                <a:lnTo>
                  <a:pt x="756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762200">
            <a:off x="4129200" y="5527080"/>
            <a:ext cx="358560" cy="509400"/>
          </a:xfrm>
          <a:custGeom>
            <a:avLst/>
            <a:gdLst>
              <a:gd name="textAreaLeft" fmla="*/ 98640 w 358560"/>
              <a:gd name="textAreaRight" fmla="*/ 259920 w 358560"/>
              <a:gd name="textAreaTop" fmla="*/ 140400 h 509400"/>
              <a:gd name="textAreaBottom" fmla="*/ 36900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0" y="21600"/>
                </a:lnTo>
                <a:lnTo>
                  <a:pt x="756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762200">
            <a:off x="5204880" y="3272760"/>
            <a:ext cx="358920" cy="509400"/>
          </a:xfrm>
          <a:custGeom>
            <a:avLst/>
            <a:gdLst>
              <a:gd name="textAreaLeft" fmla="*/ 98640 w 358920"/>
              <a:gd name="textAreaRight" fmla="*/ 260280 w 358920"/>
              <a:gd name="textAreaTop" fmla="*/ 140400 h 509400"/>
              <a:gd name="textAreaBottom" fmla="*/ 36900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0" y="21600"/>
                </a:lnTo>
                <a:lnTo>
                  <a:pt x="756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08400" y="3490920"/>
            <a:ext cx="14256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9080" y="2617920"/>
            <a:ext cx="142920" cy="21888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2800" y="2546280"/>
            <a:ext cx="14436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146480"/>
            <a:ext cx="14436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97160" y="7783560"/>
            <a:ext cx="14292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4920" y="7927920"/>
            <a:ext cx="14436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40080" y="3564000"/>
            <a:ext cx="142920" cy="21888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94360" y="4800600"/>
            <a:ext cx="14292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1160" y="4727520"/>
            <a:ext cx="14472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52800" y="6037200"/>
            <a:ext cx="14436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8200" y="4873680"/>
            <a:ext cx="14256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29200" y="4290840"/>
            <a:ext cx="14292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6691320"/>
            <a:ext cx="14436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1280" y="7201080"/>
            <a:ext cx="14472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0280" y="6691320"/>
            <a:ext cx="14292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5673600"/>
            <a:ext cx="14292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66000" y="2763720"/>
            <a:ext cx="14256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7760" y="7564320"/>
            <a:ext cx="14292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86280" y="3200400"/>
            <a:ext cx="142920" cy="2174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4160" y="5818320"/>
            <a:ext cx="142920" cy="21888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6880" y="6691320"/>
            <a:ext cx="142920" cy="21924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6000" y="3782880"/>
            <a:ext cx="142560" cy="217800"/>
          </a:xfrm>
          <a:prstGeom prst="ellipse">
            <a:avLst/>
          </a:prstGeom>
          <a:solidFill>
            <a:srgbClr val="cc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6480" y="5746680"/>
            <a:ext cx="1074600" cy="144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635800" y="5017680"/>
            <a:ext cx="358560" cy="80028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66000" y="4073400"/>
            <a:ext cx="71280" cy="7272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066000" y="3927600"/>
            <a:ext cx="142560" cy="32004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841920" y="6910560"/>
            <a:ext cx="2079360" cy="4363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41920" y="6110280"/>
            <a:ext cx="287280" cy="5810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639720"/>
            <a:ext cx="455760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Propositions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92080" y="2532240"/>
                <a:ext cx="550548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in a column generation scheme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problem 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is optimal w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for all columns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50760" y="4946760"/>
                <a:ext cx="54007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a relaxation of  </m:t>
                        </m:r>
                        <m:r>
                          <m:rPr>
                            <m:lit/>
                            <m:nor/>
                          </m:rPr>
                          <m:t xml:space="preserve">P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lower bound on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328760" y="6983280"/>
                <a:ext cx="48038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π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better lower bound on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639720"/>
            <a:ext cx="471024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Propositions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27040" y="2589120"/>
                <a:ext cx="63342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Problem </m:t>
                        </m:r>
                        <m:r>
                          <m:t xml:space="preserve">P</m:t>
                        </m:r>
                        <m:r>
                          <m:t xml:space="preserve">≡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,  or   </m:t>
                        </m:r>
                        <m:r>
                          <m:t xml:space="preserve">∃</m:t>
                        </m:r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↦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π*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31640" y="4803840"/>
                <a:ext cx="6429600" cy="34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Within a column generation scheme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oblem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is optimal while solving 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for all columns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Parameter Adjustment, 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by component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471920" y="3081240"/>
                <a:ext cx="3380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432160" y="3081240"/>
                <a:ext cx="3157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335240" y="2979720"/>
            <a:ext cx="48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241128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98920" y="2554200"/>
            <a:ext cx="605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0880" y="2273400"/>
            <a:ext cx="80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4280" bIns="442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780160" y="2749680"/>
                <a:ext cx="3920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flipV="1">
            <a:off x="1335240" y="2410920"/>
            <a:ext cx="0" cy="167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609200" y="2979720"/>
            <a:ext cx="93348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4680" y="2979720"/>
            <a:ext cx="104472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865760" y="3660840"/>
                <a:ext cx="5382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004840" y="3649680"/>
                <a:ext cx="2905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935000" y="2682720"/>
                <a:ext cx="5922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740120" y="2695680"/>
                <a:ext cx="38916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2543040" y="2525760"/>
            <a:ext cx="0" cy="368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939680" y="2724120"/>
            <a:ext cx="6030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4680" y="2468520"/>
            <a:ext cx="0" cy="4255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684680" y="2724120"/>
            <a:ext cx="604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413160" y="2635200"/>
                <a:ext cx="458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948120" y="777240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4600" y="58294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5909400"/>
            <a:ext cx="5486400" cy="10159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dual value is within the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-center and reduce th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6280" y="4609080"/>
            <a:ext cx="4630680" cy="1015920"/>
          </a:xfrm>
          <a:prstGeom prst="rect">
            <a:avLst/>
          </a:prstGeom>
          <a:solidFill>
            <a:srgbClr val="cc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ual value is too sm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-center and enlarge th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7265160"/>
            <a:ext cx="6248160" cy="1015920"/>
          </a:xfrm>
          <a:prstGeom prst="rect">
            <a:avLst/>
          </a:prstGeom>
          <a:solidFill>
            <a:srgbClr val="cc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ual value is too lar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-center and enlarge th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2971800"/>
            <a:ext cx="213336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971800"/>
            <a:ext cx="1143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1430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57200" y="612720"/>
          <a:ext cx="6172200" cy="32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12720"/>
                    <a:ext cx="61722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500720"/>
          <a:ext cx="6095880" cy="29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500720"/>
                    <a:ext cx="60958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579600" y="1219320"/>
          <a:ext cx="6202080" cy="70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219320"/>
                    <a:ext cx="620208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562720" y="3581280"/>
            <a:ext cx="106668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ta=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network 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3276720"/>
            <a:ext cx="1447920" cy="8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ta=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network p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network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4600" y="6400800"/>
            <a:ext cx="30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ncreasing lower bound  pi*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285640" y="6553080"/>
            <a:ext cx="1143000" cy="76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438280" y="5790960"/>
            <a:ext cx="106704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2590920" y="5029200"/>
            <a:ext cx="914400" cy="1371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666880" y="4495680"/>
            <a:ext cx="990720" cy="1905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2971440" y="4343040"/>
            <a:ext cx="685800" cy="1981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828720" y="609480"/>
          <a:ext cx="565776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09480"/>
                    <a:ext cx="5657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380880" y="5967360"/>
          <a:ext cx="6629400" cy="2109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967360"/>
                    <a:ext cx="66294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666880" y="2057400"/>
            <a:ext cx="190512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 linear  pie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 network  p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 network 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 direction  of  “b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828720" y="609480"/>
          <a:ext cx="565776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09480"/>
                    <a:ext cx="5657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78000" y="5965920"/>
          <a:ext cx="6618240" cy="214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" y="5965920"/>
                    <a:ext cx="661824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2666880" y="2057400"/>
            <a:ext cx="190512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 linear  pie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 network  p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 network 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 direction  of  “b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3643200" cy="9604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MDVSP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14520" y="1890720"/>
                <a:ext cx="6002280" cy="661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set of depots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set of scheduled task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 time window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time at which service must start for task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service duration for task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time to go from node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to node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∪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set of arcs;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∪</m:t>
                        </m:r>
                        <m:r>
                          <m:t xml:space="preserve">K</m:t>
                        </m:r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set of paths from and to depot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st of path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path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overs task 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 otherwise</m:t>
                        </m:r>
                      </m:e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available number of vehicles at depot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binary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639720"/>
            <a:ext cx="4786560" cy="7430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2347920"/>
          <a:ext cx="5967360" cy="143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47920"/>
                    <a:ext cx="596736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85800" y="4073400"/>
          <a:ext cx="5983200" cy="4145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73400"/>
                    <a:ext cx="598320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719520" y="747720"/>
          <a:ext cx="3048120" cy="357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9520" y="747720"/>
                    <a:ext cx="30481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728880" y="4586400"/>
          <a:ext cx="3048120" cy="3632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8880" y="4586400"/>
                    <a:ext cx="304812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47560" y="4581360"/>
          <a:ext cx="3048120" cy="3637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560" y="4581360"/>
                    <a:ext cx="30481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73120" y="727200"/>
          <a:ext cx="3071880" cy="3520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120" y="727200"/>
                    <a:ext cx="3071880" cy="35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Using Optimal Dual Values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3120" y="2109960"/>
          <a:ext cx="6240600" cy="401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109960"/>
                    <a:ext cx="624060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73120" y="6164280"/>
          <a:ext cx="6348240" cy="2273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120" y="6164280"/>
                    <a:ext cx="63482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885000" y="3346560"/>
            <a:ext cx="430200" cy="0"/>
          </a:xfrm>
          <a:prstGeom prst="line">
            <a:avLst/>
          </a:prstGeom>
          <a:ln w="7632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85000" y="3637080"/>
            <a:ext cx="43020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7560" y="639720"/>
            <a:ext cx="622008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Optimal Dual Values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7560" y="2773080"/>
            <a:ext cx="6220080" cy="34750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86760" rIns="86760" tIns="43200" bIns="432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ful in the context of Lagrangian Relaxation to recover primal feasibility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ful to perform crossover from an interior point solution to an extreme point solu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7560" y="639360"/>
            <a:ext cx="6220080" cy="15685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Crossover:                         CPLEX vs STABILIZATION (cpu times in seconds)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7560" y="2773440"/>
          <a:ext cx="6220080" cy="6189480"/>
        </p:xfrm>
        <a:graphic>
          <a:graphicData uri="http://schemas.openxmlformats.org/drawingml/2006/table">
            <a:tbl>
              <a:tblPr/>
              <a:tblGrid>
                <a:gridCol w="1656000"/>
                <a:gridCol w="912600"/>
                <a:gridCol w="912960"/>
                <a:gridCol w="912600"/>
                <a:gridCol w="912960"/>
                <a:gridCol w="91296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lem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lem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lem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lem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lem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4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,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,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,6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,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LEX Primo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&gt; 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&gt; 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&gt; 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&gt; 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&gt; 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LEX Baro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OSS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LEX Promo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&gt; 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LEX Dualo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ilazation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ilazation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ilazation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ilazation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r">
                        <a:lnSpc>
                          <a:spcPct val="100000"/>
                        </a:lnSpc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2452320"/>
            <a:ext cx="6338880" cy="31482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86760" rIns="86760" tIns="43200" bIns="43200" anchor="t">
            <a:normAutofit fontScale="97000"/>
          </a:bodyPr>
          <a:p>
            <a:pPr marL="315360" indent="0" algn="ctr">
              <a:spcBef>
                <a:spcPts val="675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STER PROBLEM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75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75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en-US" sz="2700" spc="-1" strike="noStrike">
                <a:solidFill>
                  <a:srgbClr val="cc0000"/>
                </a:solidFill>
                <a:latin typeface="Times New Roman"/>
              </a:rPr>
              <a:t>Column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700" spc="-1" strike="noStrike">
                <a:solidFill>
                  <a:srgbClr val="0066ff"/>
                </a:solidFill>
                <a:latin typeface="Times New Roman"/>
              </a:rPr>
              <a:t>Dual Multipliers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75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75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LUMN GENERATOR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hortest Path Problems on Acyclic Graph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0" y="3054240"/>
            <a:ext cx="322200" cy="1401840"/>
          </a:xfrm>
          <a:prstGeom prst="upArrow">
            <a:avLst>
              <a:gd name="adj1" fmla="val 50000"/>
              <a:gd name="adj2" fmla="val 108771"/>
            </a:avLst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4880" y="3054240"/>
            <a:ext cx="279360" cy="1474920"/>
          </a:xfrm>
          <a:prstGeom prst="downArrow">
            <a:avLst>
              <a:gd name="adj1" fmla="val 50000"/>
              <a:gd name="adj2" fmla="val 131991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774360" y="639720"/>
            <a:ext cx="5992920" cy="127944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LP  Column Generation 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891040"/>
            <a:ext cx="6338880" cy="20217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ahoma"/>
              </a:rPr>
              <a:t>Optimality Conditions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Tahoma"/>
              </a:rPr>
              <a:t>primal feasi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700" spc="-1" strike="noStrike">
                <a:solidFill>
                  <a:srgbClr val="0066ff"/>
                </a:solidFill>
                <a:latin typeface="Tahoma"/>
              </a:rPr>
              <a:t>dual feasi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Tahoma"/>
              </a:rPr>
              <a:t>complementary slack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 Desrosiers</cp:lastModifiedBy>
  <cp:lastPrinted>2001-06-11T01:50:30Z</cp:lastPrinted>
  <dcterms:modified xsi:type="dcterms:W3CDTF">2003-07-16T22:58:20Z</dcterms:modified>
  <cp:revision>162</cp:revision>
  <dc:subject/>
  <dc:title>Copenhagen August 2000</dc:title>
</cp:coreProperties>
</file>