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7102475" cy="8593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CCF7-B3D2-4D3D-A130-EBF92C37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53AF-67E3-4A01-BDF5-ED268872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3968-9027-492D-ABDA-5C524843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CCC2-793E-419C-BF45-3C56023D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0DE7-9717-4B5F-A876-0433C3ED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57E7-084E-49BB-A7AF-A5B526EC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EEF5-9DC6-4015-97DF-D62FF4B8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4AA8-3557-4EB1-8F96-D2B6C188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E62-0534-4D41-A5C5-DC05962A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B0EA-8980-4AE6-9434-A7CDB3C9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438-C2E1-4189-82DA-2AFF720E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5006-DCF4-4767-8107-A17D52A6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4263-0C0A-4078-B174-72A5D73C2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6705720"/>
            <a:ext cx="1752480" cy="69876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OCAL - RESOUR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438280"/>
            <a:ext cx="3581640" cy="39384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VERING OF THE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5840" y="990720"/>
            <a:ext cx="3758400" cy="39384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EPARABLE COST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3429000"/>
            <a:ext cx="4953240" cy="39384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LOBAL OR  COUPLING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1523880"/>
            <a:ext cx="685800" cy="228600"/>
          </a:xfrm>
          <a:prstGeom prst="rect">
            <a:avLst/>
          </a:prstGeom>
          <a:solidFill>
            <a:srgbClr val="33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1523880"/>
            <a:ext cx="685800" cy="228600"/>
          </a:xfrm>
          <a:prstGeom prst="rect">
            <a:avLst/>
          </a:prstGeom>
          <a:solidFill>
            <a:srgbClr val="33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1523880"/>
            <a:ext cx="685800" cy="228600"/>
          </a:xfrm>
          <a:prstGeom prst="rect">
            <a:avLst/>
          </a:prstGeom>
          <a:solidFill>
            <a:srgbClr val="33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124080" y="1523880"/>
            <a:ext cx="1828800" cy="228600"/>
            <a:chOff x="3124080" y="1523880"/>
            <a:chExt cx="1828800" cy="228600"/>
          </a:xfrm>
        </p:grpSpPr>
        <p:sp>
          <p:nvSpPr>
            <p:cNvPr id="49" name=""/>
            <p:cNvSpPr/>
            <p:nvPr/>
          </p:nvSpPr>
          <p:spPr>
            <a:xfrm>
              <a:off x="3124080" y="152388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Signet Roundhand AT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Signet Roundhand ATT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81280" y="152388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Signet Roundhand AT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Signet Roundhand ATT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38480" y="152388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Signet Roundhand AT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Signet Roundhand ATT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105520" y="2971800"/>
            <a:ext cx="685800" cy="2286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2971800"/>
            <a:ext cx="685800" cy="2286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2971800"/>
            <a:ext cx="685800" cy="2286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297180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Signet Roundhand A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ignet Roundhand AT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297180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Signet Roundhand A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ignet Roundhand AT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297180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Signet Roundhand A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ignet Roundhand AT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39625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Signet Roundhand A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ignet Roundhand AT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90720" y="3962520"/>
            <a:ext cx="4800600" cy="228600"/>
            <a:chOff x="990720" y="3962520"/>
            <a:chExt cx="4800600" cy="228600"/>
          </a:xfrm>
        </p:grpSpPr>
        <p:sp>
          <p:nvSpPr>
            <p:cNvPr id="60" name=""/>
            <p:cNvSpPr/>
            <p:nvPr/>
          </p:nvSpPr>
          <p:spPr>
            <a:xfrm>
              <a:off x="990720" y="3962520"/>
              <a:ext cx="685800" cy="2286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2209680" y="3962520"/>
              <a:ext cx="3581640" cy="228600"/>
              <a:chOff x="2209680" y="3962520"/>
              <a:chExt cx="3581640" cy="228600"/>
            </a:xfrm>
          </p:grpSpPr>
          <p:sp>
            <p:nvSpPr>
              <p:cNvPr id="62" name=""/>
              <p:cNvSpPr/>
              <p:nvPr/>
            </p:nvSpPr>
            <p:spPr>
              <a:xfrm>
                <a:off x="5105520" y="3962520"/>
                <a:ext cx="685800" cy="228600"/>
              </a:xfrm>
              <a:prstGeom prst="rect">
                <a:avLst/>
              </a:prstGeom>
              <a:solidFill>
                <a:srgbClr val="99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09680" y="3962520"/>
                <a:ext cx="685800" cy="228600"/>
              </a:xfrm>
              <a:prstGeom prst="rect">
                <a:avLst/>
              </a:prstGeom>
              <a:solidFill>
                <a:srgbClr val="99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124080" y="396252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Signet Roundhand ATT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Signet Roundhand ATT"/>
                  </a:rPr>
                  <a:t> 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038480" y="396252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Signet Roundhand ATT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Signet Roundhand ATT"/>
                  </a:rPr>
                  <a:t> 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990720" y="5638680"/>
            <a:ext cx="685800" cy="22860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5105520"/>
            <a:ext cx="685800" cy="457200"/>
          </a:xfrm>
          <a:prstGeom prst="rect">
            <a:avLst/>
          </a:prstGeom>
          <a:solidFill>
            <a:srgbClr val="ff7c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4876920"/>
            <a:ext cx="685800" cy="152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6705720"/>
            <a:ext cx="685800" cy="22860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6172200"/>
            <a:ext cx="685800" cy="457200"/>
          </a:xfrm>
          <a:prstGeom prst="rect">
            <a:avLst/>
          </a:prstGeom>
          <a:solidFill>
            <a:srgbClr val="ff7c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5943600"/>
            <a:ext cx="685800" cy="152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105520" y="6934320"/>
            <a:ext cx="685800" cy="990000"/>
            <a:chOff x="5105520" y="6934320"/>
            <a:chExt cx="685800" cy="990000"/>
          </a:xfrm>
        </p:grpSpPr>
        <p:sp>
          <p:nvSpPr>
            <p:cNvPr id="73" name=""/>
            <p:cNvSpPr/>
            <p:nvPr/>
          </p:nvSpPr>
          <p:spPr>
            <a:xfrm>
              <a:off x="5105520" y="7696080"/>
              <a:ext cx="685800" cy="22824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05520" y="7162560"/>
              <a:ext cx="685800" cy="456840"/>
            </a:xfrm>
            <a:prstGeom prst="rect">
              <a:avLst/>
            </a:prstGeom>
            <a:solidFill>
              <a:srgbClr val="ff7c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05520" y="6934320"/>
              <a:ext cx="685800" cy="1522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048120" y="6858000"/>
            <a:ext cx="1980720" cy="228600"/>
            <a:chOff x="3048120" y="6858000"/>
            <a:chExt cx="1980720" cy="228600"/>
          </a:xfrm>
        </p:grpSpPr>
        <p:sp>
          <p:nvSpPr>
            <p:cNvPr id="77" name=""/>
            <p:cNvSpPr/>
            <p:nvPr/>
          </p:nvSpPr>
          <p:spPr>
            <a:xfrm>
              <a:off x="3048120" y="6858000"/>
              <a:ext cx="990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Signet Roundhand AT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Signet Roundhand ATT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43120" y="6858000"/>
              <a:ext cx="990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Signet Roundhand AT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Signet Roundhand ATT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38480" y="6858000"/>
              <a:ext cx="990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Signet Roundhand AT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Signet Roundhand ATT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 flipH="1" rot="1583400">
            <a:off x="1440360" y="5614560"/>
            <a:ext cx="5228280" cy="91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38" y="1144"/>
                </a:moveTo>
                <a:arcTo wR="10800" hR="10800" stAng="-3803200" swAng="3791938"/>
                <a:lnTo>
                  <a:pt x="10800" y="10800"/>
                </a:lnTo>
                <a:close/>
              </a:path>
              <a:path fill="none" w="21600" h="21600">
                <a:moveTo>
                  <a:pt x="15638" y="1144"/>
                </a:moveTo>
                <a:arcTo wR="10800" hR="10800" stAng="-3803200" swAng="3791938"/>
              </a:path>
            </a:pathLst>
          </a:custGeom>
          <a:noFill/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36840" y="34909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5105520"/>
            <a:ext cx="2590920" cy="39384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ATH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160" y="6229440"/>
            <a:ext cx="17557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359" y="19469"/>
                </a:moveTo>
                <a:arcTo wR="10800" hR="10800" stAng="7596898" swAng="12329839"/>
                <a:lnTo>
                  <a:pt x="10800" y="10800"/>
                </a:lnTo>
                <a:close/>
              </a:path>
              <a:path fill="none" w="21600" h="21600">
                <a:moveTo>
                  <a:pt x="4359" y="19469"/>
                </a:moveTo>
                <a:arcTo wR="10800" hR="10800" stAng="7596898" swAng="12329839"/>
              </a:path>
            </a:pathLst>
          </a:custGeom>
          <a:noFill/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7731000"/>
            <a:ext cx="1295640" cy="69876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OCAL -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 rot="8682000">
            <a:off x="2393280" y="7607880"/>
            <a:ext cx="3353040" cy="296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70" y="263"/>
                </a:moveTo>
                <a:arcTo wR="10800" hR="10800" stAng="-4639462" swAng="3595901"/>
                <a:lnTo>
                  <a:pt x="10800" y="10800"/>
                </a:lnTo>
                <a:close/>
              </a:path>
              <a:path fill="none" w="21600" h="21600">
                <a:moveTo>
                  <a:pt x="13170" y="263"/>
                </a:moveTo>
                <a:arcTo wR="10800" hR="10800" stAng="-4639462" swAng="3595901"/>
              </a:path>
            </a:pathLst>
          </a:custGeom>
          <a:noFill/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19160" y="685800"/>
            <a:ext cx="3121200" cy="3938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ETWORK GENER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47920"/>
            <a:ext cx="5867280" cy="6019560"/>
          </a:xfrm>
          <a:prstGeom prst="rect">
            <a:avLst/>
          </a:prstGeom>
          <a:solidFill>
            <a:srgbClr val="eaeaea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4680" y="1625760"/>
            <a:ext cx="4289400" cy="3938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lumn Generation  OPTIM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2590920"/>
            <a:ext cx="3200400" cy="3352680"/>
          </a:xfrm>
          <a:prstGeom prst="rect">
            <a:avLst/>
          </a:prstGeom>
          <a:solidFill>
            <a:srgbClr val="ffff9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160" y="3152880"/>
            <a:ext cx="1839600" cy="637560"/>
          </a:xfrm>
          <a:prstGeom prst="rect">
            <a:avLst/>
          </a:prstGeom>
          <a:solidFill>
            <a:srgbClr val="ffffff"/>
          </a:solidFill>
          <a:ln w="1908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UBPROBL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(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86800" y="4606920"/>
            <a:ext cx="2430720" cy="63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ASTER PROBL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(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962520"/>
            <a:ext cx="0" cy="609480"/>
          </a:xfrm>
          <a:prstGeom prst="line">
            <a:avLst/>
          </a:prstGeom>
          <a:ln w="38160">
            <a:solidFill>
              <a:srgbClr val="005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5334120"/>
            <a:ext cx="0" cy="152280"/>
          </a:xfrm>
          <a:prstGeom prst="line">
            <a:avLst/>
          </a:prstGeom>
          <a:ln w="38160">
            <a:solidFill>
              <a:srgbClr val="0054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5486400"/>
            <a:ext cx="1359000" cy="0"/>
          </a:xfrm>
          <a:prstGeom prst="line">
            <a:avLst/>
          </a:prstGeom>
          <a:ln w="38160">
            <a:solidFill>
              <a:srgbClr val="005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52880" y="2819160"/>
            <a:ext cx="0" cy="2514600"/>
          </a:xfrm>
          <a:prstGeom prst="line">
            <a:avLst/>
          </a:prstGeom>
          <a:ln w="38160">
            <a:solidFill>
              <a:srgbClr val="005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581280" y="2819520"/>
            <a:ext cx="1384560" cy="0"/>
          </a:xfrm>
          <a:prstGeom prst="line">
            <a:avLst/>
          </a:prstGeom>
          <a:ln w="38160">
            <a:solidFill>
              <a:srgbClr val="005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2832120"/>
            <a:ext cx="0" cy="291960"/>
          </a:xfrm>
          <a:prstGeom prst="line">
            <a:avLst/>
          </a:prstGeom>
          <a:ln w="38160">
            <a:solidFill>
              <a:srgbClr val="0054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3857760"/>
            <a:ext cx="101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5289480"/>
            <a:ext cx="16002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6026040"/>
            <a:ext cx="0" cy="679680"/>
          </a:xfrm>
          <a:prstGeom prst="line">
            <a:avLst/>
          </a:prstGeom>
          <a:ln w="38160">
            <a:solidFill>
              <a:srgbClr val="005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64600" y="6740640"/>
            <a:ext cx="2526840" cy="332280"/>
          </a:xfrm>
          <a:prstGeom prst="rect">
            <a:avLst/>
          </a:prstGeom>
          <a:solidFill>
            <a:srgbClr val="ffff9f"/>
          </a:solidFill>
          <a:ln w="1260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RANCH-AND-CUT (B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21240" y="6127920"/>
            <a:ext cx="25527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OPTIMAL LIN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ELAXATION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295280" y="2209320"/>
            <a:ext cx="0" cy="4800600"/>
          </a:xfrm>
          <a:prstGeom prst="line">
            <a:avLst/>
          </a:prstGeom>
          <a:ln w="38160">
            <a:solidFill>
              <a:srgbClr val="005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7010280"/>
            <a:ext cx="755640" cy="0"/>
          </a:xfrm>
          <a:prstGeom prst="line">
            <a:avLst/>
          </a:prstGeom>
          <a:ln w="38160">
            <a:solidFill>
              <a:srgbClr val="005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12480" y="2209680"/>
            <a:ext cx="2368440" cy="0"/>
          </a:xfrm>
          <a:prstGeom prst="line">
            <a:avLst/>
          </a:prstGeom>
          <a:ln w="38160">
            <a:solidFill>
              <a:srgbClr val="005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2209680"/>
            <a:ext cx="0" cy="304920"/>
          </a:xfrm>
          <a:prstGeom prst="line">
            <a:avLst/>
          </a:prstGeom>
          <a:ln w="38160">
            <a:solidFill>
              <a:srgbClr val="0054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7765920"/>
            <a:ext cx="2209680" cy="1073160"/>
          </a:xfrm>
          <a:prstGeom prst="rect">
            <a:avLst/>
          </a:prstGeom>
          <a:solidFill>
            <a:srgbClr val="ffff9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45000" y="7520040"/>
            <a:ext cx="0" cy="2919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0280" y="1111320"/>
            <a:ext cx="0" cy="2919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1T12:52:40Z</dcterms:created>
  <dc:creator>Jacques Desrosiers</dc:creator>
  <dc:description/>
  <dc:language>en-US</dc:language>
  <cp:lastModifiedBy>jacques</cp:lastModifiedBy>
  <cp:lastPrinted>1999-12-11T20:43:47Z</cp:lastPrinted>
  <dcterms:modified xsi:type="dcterms:W3CDTF">2002-12-02T02:18:06Z</dcterms:modified>
  <cp:revision>5</cp:revision>
  <dc:subject/>
  <dc:title>No Slide Title</dc:title>
</cp:coreProperties>
</file>