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D06-9A89-42C4-903F-9F294BE9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081-AE79-4D80-9CA9-694250C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2F7-682C-4D4B-9029-EA8657F4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64A-1E57-4BE2-AC2D-6BC240AC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4E9-E64D-4135-B8CA-F6F69D33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02E-CE4B-41EB-BD3C-34F081E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AC5-25F8-4344-8A79-E80C837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FB39-AEBC-41FB-AABB-97B8D02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BF6-02FC-41A8-A06A-ED8079AB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BEF7-1380-4D5A-B5B4-8CEADF0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2E4E-9CE2-4CA1-9C63-58DAF55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067-A8CB-469C-8B1A-D2CE76A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E925-DAEB-4A75-85A8-46F6CEB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4DE-7142-4B16-8B99-76F840C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E52F-D651-4140-92EE-C020EA84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38E-189D-46EE-B3C4-681E3EFB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D0A3-16A2-40B4-B087-08374367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C9B-8647-4775-A420-F44402D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1B8-05A1-4E97-9129-DB31850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DC5-57F6-4D9D-8A59-25981655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9FC-0992-4531-B5DF-B1AA60F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082-9E3C-4CE7-8EA6-B4FA618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73D-FDA2-40BB-8362-2A78610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512-8EDC-40EC-BF95-5945557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6F2A-A073-4185-999B-ECBD2AE3FE6F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B8DB-F5E5-4309-921B-9FEDD525B7FF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74160" y="1025640"/>
            <a:ext cx="43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A New Cut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Solving the PBS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4320" y="2854440"/>
            <a:ext cx="35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ACHOUR, Heyk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GAMACHE, Mich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SOUMIS, Franço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0400" y="4911840"/>
            <a:ext cx="782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GERAD and École Polytechnique de Montré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42D-8554-4A2B-BF4C-CB744291F2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77840" y="1197000"/>
            <a:ext cx="2629080" cy="48096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91440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09520" y="111600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55bad"/>
                </a:solidFill>
                <a:latin typeface="Times New Roman"/>
              </a:rPr>
              <a:t>Subproble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1880" y="1687680"/>
            <a:ext cx="76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1.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The network contains all the pairings (tasks) and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some other constraints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52640" y="258444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Rest ar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48680" y="30081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Medical restri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51920" y="343224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Pre-assigned ta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3320" y="4125960"/>
            <a:ext cx="76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2.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Supplementary constraints are considered during the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solution of the sub-problems by using </a:t>
            </a:r>
            <a:r>
              <a:rPr b="1" lang="en-CA" sz="2400" spc="-1" strike="noStrike">
                <a:solidFill>
                  <a:srgbClr val="3399ff"/>
                </a:solidFill>
                <a:latin typeface="Times New Roman"/>
              </a:rPr>
              <a:t>resources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77120" y="50641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Limit on the flight cred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800" y="548784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Number of rest perio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77120" y="59119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Maximal duration between rest perio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4880" y="20628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959-DCB0-4A96-B7FB-835AC1B593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9160" y="12762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ff33"/>
                </a:solidFill>
                <a:latin typeface="Times New Roman"/>
              </a:rPr>
              <a:t>At each iteration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4920" y="2023920"/>
            <a:ext cx="70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Monotype Sorts"/>
                <a:ea typeface="Monotype Sorts"/>
              </a:rPr>
              <a:t>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Assign the maximum score schedule to employe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29680" y="2637000"/>
            <a:ext cx="77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Monotype Sorts"/>
                <a:ea typeface="Monotype Sorts"/>
              </a:rPr>
              <a:t>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Ensure a integer feasible solution for employe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k+1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98360" y="3905280"/>
            <a:ext cx="577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Solv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L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, i.e. the linear relaxation of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I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1680" y="4475160"/>
            <a:ext cx="596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I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found using branch-and-</a:t>
            </a:r>
            <a:r>
              <a:rPr b="0" lang="en-CA" sz="2400" spc="-1" strike="noStrike">
                <a:solidFill>
                  <a:srgbClr val="3399ff"/>
                </a:solidFill>
                <a:latin typeface="Times New Roman"/>
              </a:rPr>
              <a:t>bound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search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4880" y="3286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ff33"/>
                </a:solidFill>
                <a:latin typeface="Times New Roman"/>
              </a:rPr>
              <a:t>A possible solution approach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5200" y="514836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Monotype Sorts"/>
                <a:ea typeface="Monotype Sorts"/>
              </a:rPr>
              <a:t>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en-CA" sz="2400" spc="-1" strike="noStrike">
                <a:solidFill>
                  <a:srgbClr val="3399ff"/>
                </a:solidFill>
                <a:latin typeface="Times New Roman"/>
              </a:rPr>
              <a:t>Very long proced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537160"/>
            <a:ext cx="76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Monotype Sorts"/>
                <a:ea typeface="Monotype Sorts"/>
              </a:rPr>
              <a:t>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The integer solution : only to ensure that the maximum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score schedule found for “k” is a feasible schedu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91440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84880" y="20628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FC2-2D90-494E-8083-BFF226AA6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9400" y="1154160"/>
            <a:ext cx="3257640" cy="53820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50840" y="236232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ccff33"/>
                </a:solidFill>
                <a:latin typeface="Times New Roman"/>
              </a:rPr>
              <a:t>Two types of branch-and-bound tree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3425760"/>
            <a:ext cx="6834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CA" sz="2800" spc="-1" strike="noStrike">
                <a:solidFill>
                  <a:srgbClr val="ccff33"/>
                </a:solidFill>
                <a:latin typeface="Monotype Sorts"/>
                <a:ea typeface="Monotype Sorts"/>
              </a:rPr>
              <a:t>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Internal : solve </a:t>
            </a:r>
            <a:r>
              <a:rPr b="0" i="1" lang="en-CA" sz="2800" spc="-1" strike="noStrike">
                <a:solidFill>
                  <a:srgbClr val="ccff33"/>
                </a:solidFill>
                <a:latin typeface="Times New Roman"/>
              </a:rPr>
              <a:t>MIP</a:t>
            </a:r>
            <a:r>
              <a:rPr b="0" i="1" lang="en-CA" sz="2800" spc="-1" strike="noStrike" baseline="-25000">
                <a:solidFill>
                  <a:srgbClr val="ccff33"/>
                </a:solidFill>
                <a:latin typeface="Times New Roman"/>
              </a:rPr>
              <a:t>k   </a:t>
            </a:r>
            <a:r>
              <a:rPr b="0" i="1" lang="en-CA" sz="2400" spc="-1" strike="noStrike">
                <a:solidFill>
                  <a:srgbClr val="ccff33"/>
                </a:solidFill>
                <a:latin typeface="Arial Narrow"/>
              </a:rPr>
              <a:t>(</a:t>
            </a:r>
            <a:r>
              <a:rPr b="0" i="1" lang="en-CA" sz="2400" spc="-1" strike="noStrike">
                <a:solidFill>
                  <a:srgbClr val="3399ff"/>
                </a:solidFill>
                <a:latin typeface="Arial Narrow"/>
              </a:rPr>
              <a:t>mixed integer program</a:t>
            </a:r>
            <a:r>
              <a:rPr b="0" i="1" lang="en-CA" sz="2400" spc="-1" strike="noStrike">
                <a:solidFill>
                  <a:srgbClr val="ccff33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2240" y="4505400"/>
            <a:ext cx="660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CA" sz="2800" spc="-1" strike="noStrike">
                <a:solidFill>
                  <a:srgbClr val="ccff33"/>
                </a:solidFill>
                <a:latin typeface="Monotype Sorts"/>
                <a:ea typeface="Monotype Sorts"/>
              </a:rPr>
              <a:t>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External : links between all </a:t>
            </a:r>
            <a:r>
              <a:rPr b="0" i="1" lang="en-CA" sz="2800" spc="-1" strike="noStrike">
                <a:solidFill>
                  <a:srgbClr val="ccff33"/>
                </a:solidFill>
                <a:latin typeface="Times New Roman"/>
              </a:rPr>
              <a:t>IP</a:t>
            </a:r>
            <a:r>
              <a:rPr b="0" i="1" lang="en-CA" sz="2800" spc="-1" strike="noStrike" baseline="-25000">
                <a:solidFill>
                  <a:srgbClr val="ccff33"/>
                </a:solidFill>
                <a:latin typeface="Times New Roman"/>
              </a:rPr>
              <a:t>k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91440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9520" y="1116000"/>
            <a:ext cx="35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55bad"/>
                </a:solidFill>
                <a:latin typeface="Times New Roman"/>
              </a:rPr>
              <a:t>Solution Strateg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84880" y="20628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F6D-4A3E-4A01-A2A2-FF2079993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883400" y="5894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Infeasible 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92320" y="1184400"/>
            <a:ext cx="1211400" cy="1047600"/>
          </a:xfrm>
          <a:prstGeom prst="ellipse">
            <a:avLst/>
          </a:prstGeom>
          <a:noFill/>
          <a:ln w="2844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98240" y="1442880"/>
            <a:ext cx="8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cab40"/>
                </a:solidFill>
                <a:latin typeface="Times New Roman"/>
              </a:rPr>
              <a:t>MIP</a:t>
            </a:r>
            <a:r>
              <a:rPr b="0" i="1" lang="en-CA" sz="2400" spc="-1" strike="noStrike" baseline="-25000">
                <a:solidFill>
                  <a:srgbClr val="fcab4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992320" y="5267160"/>
            <a:ext cx="1211400" cy="1403640"/>
            <a:chOff x="2992320" y="5267160"/>
            <a:chExt cx="1211400" cy="1403640"/>
          </a:xfrm>
        </p:grpSpPr>
        <p:sp>
          <p:nvSpPr>
            <p:cNvPr id="247" name=""/>
            <p:cNvSpPr/>
            <p:nvPr/>
          </p:nvSpPr>
          <p:spPr>
            <a:xfrm>
              <a:off x="2992320" y="5622840"/>
              <a:ext cx="1211400" cy="1047960"/>
            </a:xfrm>
            <a:prstGeom prst="ellipse">
              <a:avLst/>
            </a:prstGeom>
            <a:noFill/>
            <a:ln w="28440">
              <a:solidFill>
                <a:srgbClr val="fca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94560" y="5881680"/>
              <a:ext cx="100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MIP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k+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6320" y="5267160"/>
              <a:ext cx="0" cy="3668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161360" y="142092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Employee k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81080" y="2246400"/>
            <a:ext cx="3122640" cy="1608120"/>
            <a:chOff x="1081080" y="2246400"/>
            <a:chExt cx="3122640" cy="1608120"/>
          </a:xfrm>
        </p:grpSpPr>
        <p:sp>
          <p:nvSpPr>
            <p:cNvPr id="252" name=""/>
            <p:cNvSpPr/>
            <p:nvPr/>
          </p:nvSpPr>
          <p:spPr>
            <a:xfrm>
              <a:off x="2992320" y="2806560"/>
              <a:ext cx="1211400" cy="1047960"/>
            </a:xfrm>
            <a:prstGeom prst="ellipse">
              <a:avLst/>
            </a:prstGeom>
            <a:noFill/>
            <a:ln w="28440">
              <a:solidFill>
                <a:srgbClr val="fca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94560" y="3065400"/>
              <a:ext cx="100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MIP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6320" y="2246400"/>
              <a:ext cx="0" cy="571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1080" y="2948040"/>
              <a:ext cx="184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Employee k+1’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hedu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9920" y="3852720"/>
            <a:ext cx="3133800" cy="1430640"/>
            <a:chOff x="1069920" y="3852720"/>
            <a:chExt cx="3133800" cy="1430640"/>
          </a:xfrm>
        </p:grpSpPr>
        <p:sp>
          <p:nvSpPr>
            <p:cNvPr id="257" name=""/>
            <p:cNvSpPr/>
            <p:nvPr/>
          </p:nvSpPr>
          <p:spPr>
            <a:xfrm>
              <a:off x="2992320" y="4235400"/>
              <a:ext cx="1211400" cy="1047960"/>
            </a:xfrm>
            <a:prstGeom prst="ellipse">
              <a:avLst/>
            </a:prstGeom>
            <a:noFill/>
            <a:ln w="28440">
              <a:solidFill>
                <a:srgbClr val="fca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94560" y="4508640"/>
              <a:ext cx="100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MIP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k+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920" y="3852720"/>
              <a:ext cx="0" cy="3668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9920" y="4367160"/>
              <a:ext cx="184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Employee k+2’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hedu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606400" y="75564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Internal Tr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564240" y="2836800"/>
            <a:ext cx="2623680" cy="1409760"/>
            <a:chOff x="6564240" y="2836800"/>
            <a:chExt cx="2623680" cy="1409760"/>
          </a:xfrm>
        </p:grpSpPr>
        <p:sp>
          <p:nvSpPr>
            <p:cNvPr id="263" name=""/>
            <p:cNvSpPr/>
            <p:nvPr/>
          </p:nvSpPr>
          <p:spPr>
            <a:xfrm>
              <a:off x="6564240" y="2836800"/>
              <a:ext cx="1211400" cy="104796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92120" y="3095640"/>
              <a:ext cx="75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bd189"/>
                  </a:solidFill>
                  <a:latin typeface="Times New Roman"/>
                </a:rPr>
                <a:t>IP</a:t>
              </a:r>
              <a:r>
                <a:rPr b="0" i="1" lang="en-CA" sz="2400" spc="-1" strike="noStrike" baseline="-25000">
                  <a:solidFill>
                    <a:srgbClr val="ebd189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60320" y="31464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000" spc="-1" strike="noStrike">
                  <a:solidFill>
                    <a:srgbClr val="ff3300"/>
                  </a:solidFill>
                  <a:latin typeface="Times New Roman"/>
                </a:rPr>
                <a:t>Infeasib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176960" y="3865680"/>
              <a:ext cx="0" cy="380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184280" y="1214280"/>
            <a:ext cx="3591360" cy="2079720"/>
            <a:chOff x="4184280" y="1214280"/>
            <a:chExt cx="3591360" cy="2079720"/>
          </a:xfrm>
        </p:grpSpPr>
        <p:sp>
          <p:nvSpPr>
            <p:cNvPr id="268" name=""/>
            <p:cNvSpPr/>
            <p:nvPr/>
          </p:nvSpPr>
          <p:spPr>
            <a:xfrm flipV="1">
              <a:off x="7209000" y="2260440"/>
              <a:ext cx="0" cy="571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64240" y="1214280"/>
              <a:ext cx="1211400" cy="104796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95800" y="1473120"/>
              <a:ext cx="54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bd189"/>
                  </a:solidFill>
                  <a:latin typeface="Times New Roman"/>
                </a:rPr>
                <a:t>IP</a:t>
              </a:r>
              <a:r>
                <a:rPr b="0" i="1" lang="en-CA" sz="2400" spc="-1" strike="noStrike" baseline="-25000">
                  <a:solidFill>
                    <a:srgbClr val="ebd189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84280" y="1743120"/>
              <a:ext cx="2381400" cy="1550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289560" y="684360"/>
            <a:ext cx="2898360" cy="5276520"/>
            <a:chOff x="6289560" y="684360"/>
            <a:chExt cx="2898360" cy="5276520"/>
          </a:xfrm>
        </p:grpSpPr>
        <p:sp>
          <p:nvSpPr>
            <p:cNvPr id="273" name=""/>
            <p:cNvSpPr/>
            <p:nvPr/>
          </p:nvSpPr>
          <p:spPr>
            <a:xfrm>
              <a:off x="6608880" y="4265640"/>
              <a:ext cx="1211040" cy="104760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38200" y="4538520"/>
              <a:ext cx="75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bd189"/>
                  </a:solidFill>
                  <a:latin typeface="Times New Roman"/>
                </a:rPr>
                <a:t>IP</a:t>
              </a:r>
              <a:r>
                <a:rPr b="0" i="1" lang="en-CA" sz="2400" spc="-1" strike="noStrike" baseline="-25000">
                  <a:solidFill>
                    <a:srgbClr val="ebd189"/>
                  </a:solidFill>
                  <a:latin typeface="Times New Roman"/>
                </a:rPr>
                <a:t>k+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896160" y="5293800"/>
              <a:ext cx="326880" cy="667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60320" y="45594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000" spc="-1" strike="noStrike">
                  <a:solidFill>
                    <a:srgbClr val="ff3300"/>
                  </a:solidFill>
                  <a:latin typeface="Times New Roman"/>
                </a:rPr>
                <a:t>Infeasib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9560" y="684360"/>
              <a:ext cx="200196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3300"/>
                  </a:solidFill>
                  <a:latin typeface="Times New Roman"/>
                </a:rPr>
                <a:t>External Tre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28880" y="64296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99280" y="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309-79D7-448F-870E-4327A52D6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92520" y="887400"/>
            <a:ext cx="1211040" cy="1047600"/>
          </a:xfrm>
          <a:prstGeom prst="ellipse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98440" y="1146240"/>
            <a:ext cx="8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cab40"/>
                </a:solidFill>
                <a:latin typeface="Times New Roman"/>
              </a:rPr>
              <a:t>MIP</a:t>
            </a:r>
            <a:r>
              <a:rPr b="0" i="1" lang="en-CA" sz="2400" spc="-1" strike="noStrike" baseline="-25000">
                <a:solidFill>
                  <a:srgbClr val="fcab4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86160" y="1949400"/>
            <a:ext cx="0" cy="571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61200" y="112392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fcab40"/>
                </a:solidFill>
                <a:latin typeface="Times New Roman"/>
              </a:rPr>
              <a:t>Employee k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fcab4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27680" y="1038240"/>
            <a:ext cx="32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Solution of this problem is very l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359080"/>
            <a:ext cx="64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Integrality Ga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L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solution is a convex combination of schedules with different scor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100520" y="4019400"/>
            <a:ext cx="7908480" cy="2183040"/>
            <a:chOff x="1100520" y="4019400"/>
            <a:chExt cx="7908480" cy="2183040"/>
          </a:xfrm>
        </p:grpSpPr>
        <p:sp>
          <p:nvSpPr>
            <p:cNvPr id="287" name=""/>
            <p:cNvSpPr/>
            <p:nvPr/>
          </p:nvSpPr>
          <p:spPr>
            <a:xfrm>
              <a:off x="1166760" y="5106960"/>
              <a:ext cx="7620120" cy="2034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66760" y="5214960"/>
              <a:ext cx="7620120" cy="14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57200" y="5119560"/>
              <a:ext cx="176400" cy="177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17600" y="5121360"/>
              <a:ext cx="176400" cy="177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1600" y="5122800"/>
              <a:ext cx="176400" cy="1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03720" y="5122800"/>
              <a:ext cx="176040" cy="1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48240" y="5122800"/>
              <a:ext cx="176040" cy="1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0240" y="5124600"/>
              <a:ext cx="176040" cy="1774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34000" y="5124600"/>
              <a:ext cx="176400" cy="1774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01120" y="5122800"/>
              <a:ext cx="176040" cy="1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88360" y="5127480"/>
              <a:ext cx="176040" cy="1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00520" y="401940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ccff33"/>
                  </a:solidFill>
                  <a:uFillTx/>
                  <a:latin typeface="Times New Roman"/>
                </a:rPr>
                <a:t>For example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3640" y="4767120"/>
              <a:ext cx="0" cy="857520"/>
            </a:xfrm>
            <a:prstGeom prst="line">
              <a:avLst/>
            </a:prstGeom>
            <a:ln w="936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356880" y="5584680"/>
              <a:ext cx="557280" cy="617760"/>
              <a:chOff x="6356880" y="5584680"/>
              <a:chExt cx="557280" cy="617760"/>
            </a:xfrm>
          </p:grpSpPr>
          <p:sp>
            <p:nvSpPr>
              <p:cNvPr id="301" name=""/>
              <p:cNvSpPr/>
              <p:nvPr/>
            </p:nvSpPr>
            <p:spPr>
              <a:xfrm>
                <a:off x="6356880" y="56923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ccff33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57760" y="5584680"/>
                <a:ext cx="35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303" name=""/>
            <p:cNvCxnSpPr>
              <a:stCxn id="301" idx="1"/>
            </p:cNvCxnSpPr>
            <p:nvPr/>
          </p:nvCxnSpPr>
          <p:spPr>
            <a:xfrm rot="10800000">
              <a:off x="6172920" y="5691960"/>
              <a:ext cx="167040" cy="229320"/>
            </a:xfrm>
            <a:prstGeom prst="bentConnector2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</p:cxnSp>
        <p:sp>
          <p:nvSpPr>
            <p:cNvPr id="304" name=""/>
            <p:cNvSpPr/>
            <p:nvPr/>
          </p:nvSpPr>
          <p:spPr>
            <a:xfrm>
              <a:off x="7808760" y="5386320"/>
              <a:ext cx="12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ax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60280" y="538956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in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019160" y="6080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84880" y="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048-2B3B-42A0-A40F-EEAFC6C46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129360" y="4886280"/>
            <a:ext cx="2585880" cy="2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30400" y="73008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6120" y="752400"/>
            <a:ext cx="78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Solution : </a:t>
            </a: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A very deep cut in the sub-problem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085760" y="4290840"/>
            <a:ext cx="7848720" cy="1803960"/>
            <a:chOff x="1085760" y="4290840"/>
            <a:chExt cx="7848720" cy="1803960"/>
          </a:xfrm>
        </p:grpSpPr>
        <p:grpSp>
          <p:nvGrpSpPr>
            <p:cNvPr id="312" name=""/>
            <p:cNvGrpSpPr/>
            <p:nvPr/>
          </p:nvGrpSpPr>
          <p:grpSpPr>
            <a:xfrm>
              <a:off x="6282000" y="5477040"/>
              <a:ext cx="573840" cy="617760"/>
              <a:chOff x="6282000" y="5477040"/>
              <a:chExt cx="573840" cy="617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282000" y="5584680"/>
                <a:ext cx="57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24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83240" y="5477040"/>
                <a:ext cx="35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315" name=""/>
            <p:cNvCxnSpPr/>
            <p:nvPr/>
          </p:nvCxnSpPr>
          <p:spPr>
            <a:xfrm rot="10800000">
              <a:off x="6098400" y="5583960"/>
              <a:ext cx="167040" cy="229320"/>
            </a:xfrm>
            <a:prstGeom prst="bentConnector2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316" name=""/>
            <p:cNvSpPr/>
            <p:nvPr/>
          </p:nvSpPr>
          <p:spPr>
            <a:xfrm>
              <a:off x="1092240" y="4889520"/>
              <a:ext cx="7620120" cy="2030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92240" y="4997520"/>
              <a:ext cx="7620120" cy="144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2680" y="4902120"/>
              <a:ext cx="176400" cy="177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43080" y="4903920"/>
              <a:ext cx="176400" cy="177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67080" y="4905360"/>
              <a:ext cx="176400" cy="1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200" y="4905360"/>
              <a:ext cx="176040" cy="1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73720" y="4905360"/>
              <a:ext cx="176040" cy="1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35720" y="4906800"/>
              <a:ext cx="176040" cy="177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59480" y="4906800"/>
              <a:ext cx="176400" cy="177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26600" y="4905360"/>
              <a:ext cx="176040" cy="177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13480" y="4896000"/>
              <a:ext cx="176400" cy="1774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9120" y="4290840"/>
              <a:ext cx="0" cy="130680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34240" y="5168880"/>
              <a:ext cx="12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ax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5760" y="517212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in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70040" y="2243160"/>
            <a:ext cx="825480" cy="629280"/>
            <a:chOff x="770040" y="2243160"/>
            <a:chExt cx="825480" cy="629280"/>
          </a:xfrm>
        </p:grpSpPr>
        <p:sp>
          <p:nvSpPr>
            <p:cNvPr id="331" name=""/>
            <p:cNvSpPr/>
            <p:nvPr/>
          </p:nvSpPr>
          <p:spPr>
            <a:xfrm>
              <a:off x="770040" y="2362320"/>
              <a:ext cx="82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</a:t>
              </a:r>
              <a:r>
                <a:rPr b="0" i="1" lang="en-CA" sz="2400" spc="-1" strike="noStrike">
                  <a:solidFill>
                    <a:srgbClr val="eaeaea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LP</a:t>
              </a:r>
              <a:r>
                <a:rPr b="0" lang="en-CA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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82520" y="224316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613160" y="1670040"/>
            <a:ext cx="75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: Optimal value of the objective function of th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L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prob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38800" y="1539720"/>
            <a:ext cx="557280" cy="617760"/>
            <a:chOff x="838800" y="1539720"/>
            <a:chExt cx="557280" cy="617760"/>
          </a:xfrm>
        </p:grpSpPr>
        <p:sp>
          <p:nvSpPr>
            <p:cNvPr id="335" name=""/>
            <p:cNvSpPr/>
            <p:nvPr/>
          </p:nvSpPr>
          <p:spPr>
            <a:xfrm>
              <a:off x="838800" y="16473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aeaea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39680" y="153972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12800" y="234000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: Upper bound on the score of employee </a:t>
            </a: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’s schedu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76520" y="3300480"/>
            <a:ext cx="4343040" cy="1032120"/>
            <a:chOff x="2576520" y="3300480"/>
            <a:chExt cx="4343040" cy="1032120"/>
          </a:xfrm>
        </p:grpSpPr>
        <p:sp>
          <p:nvSpPr>
            <p:cNvPr id="339" name=""/>
            <p:cNvSpPr/>
            <p:nvPr/>
          </p:nvSpPr>
          <p:spPr>
            <a:xfrm>
              <a:off x="2916360" y="3340080"/>
              <a:ext cx="3071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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  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 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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2576520" y="3695760"/>
              <a:ext cx="1417680" cy="636840"/>
              <a:chOff x="2576520" y="3695760"/>
              <a:chExt cx="1417680" cy="636840"/>
            </a:xfrm>
          </p:grpSpPr>
          <p:sp>
            <p:nvSpPr>
              <p:cNvPr id="341" name=""/>
              <p:cNvSpPr/>
              <p:nvPr/>
            </p:nvSpPr>
            <p:spPr>
              <a:xfrm>
                <a:off x="2576520" y="3822480"/>
                <a:ext cx="128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eaeaea"/>
                    </a:solidFill>
                    <a:latin typeface="Times New Roman"/>
                  </a:rPr>
                  <a:t>(i,j)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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67160" y="3695760"/>
                <a:ext cx="52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972040" y="3300480"/>
              <a:ext cx="947520" cy="628920"/>
              <a:chOff x="5972040" y="3300480"/>
              <a:chExt cx="947520" cy="628920"/>
            </a:xfrm>
          </p:grpSpPr>
          <p:sp>
            <p:nvSpPr>
              <p:cNvPr id="344" name=""/>
              <p:cNvSpPr/>
              <p:nvPr/>
            </p:nvSpPr>
            <p:spPr>
              <a:xfrm>
                <a:off x="5972040" y="3419280"/>
                <a:ext cx="94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</a:t>
                </a:r>
                <a:r>
                  <a:rPr b="1" i="1" lang="en-CA" sz="24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P</a:t>
                </a: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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30600" y="3300480"/>
                <a:ext cx="408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1013400" y="18432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4535640"/>
            <a:ext cx="462240" cy="803160"/>
          </a:xfrm>
          <a:custGeom>
            <a:avLst/>
            <a:gdLst/>
            <a:ahLst/>
            <a:rect l="l" t="t" r="r" b="b"/>
            <a:pathLst>
              <a:path w="291" h="506">
                <a:moveTo>
                  <a:pt x="0" y="0"/>
                </a:moveTo>
                <a:lnTo>
                  <a:pt x="291" y="0"/>
                </a:lnTo>
                <a:lnTo>
                  <a:pt x="291" y="506"/>
                </a:lnTo>
                <a:lnTo>
                  <a:pt x="26" y="506"/>
                </a:lnTo>
              </a:path>
            </a:pathLst>
          </a:custGeom>
          <a:noFill/>
          <a:ln w="38160">
            <a:solidFill>
              <a:srgbClr val="ccff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F20-6246-4837-8680-77466DF21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000840" y="2314440"/>
            <a:ext cx="2614680" cy="2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3600" y="2319480"/>
            <a:ext cx="7620120" cy="2030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3600" y="2427120"/>
            <a:ext cx="762012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4400" y="2332080"/>
            <a:ext cx="176040" cy="177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44800" y="2333520"/>
            <a:ext cx="1760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68800" y="2335320"/>
            <a:ext cx="176040" cy="1778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0560" y="2335320"/>
            <a:ext cx="17640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75080" y="2335320"/>
            <a:ext cx="176400" cy="177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37080" y="2336760"/>
            <a:ext cx="176400" cy="1778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61200" y="2336760"/>
            <a:ext cx="17604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27960" y="233532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5200" y="2325600"/>
            <a:ext cx="17604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83720" y="2797200"/>
            <a:ext cx="573840" cy="617760"/>
            <a:chOff x="6183720" y="2797200"/>
            <a:chExt cx="573840" cy="617760"/>
          </a:xfrm>
        </p:grpSpPr>
        <p:sp>
          <p:nvSpPr>
            <p:cNvPr id="361" name=""/>
            <p:cNvSpPr/>
            <p:nvPr/>
          </p:nvSpPr>
          <p:spPr>
            <a:xfrm>
              <a:off x="6183720" y="2904840"/>
              <a:ext cx="57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400" spc="-1" strike="noStrike">
                  <a:solidFill>
                    <a:srgbClr val="ccff33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84960" y="279720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>
            <a:stCxn id="361" idx="1"/>
          </p:cNvCxnSpPr>
          <p:nvPr/>
        </p:nvCxnSpPr>
        <p:spPr>
          <a:xfrm rot="10800000">
            <a:off x="6000120" y="2904480"/>
            <a:ext cx="167040" cy="229320"/>
          </a:xfrm>
          <a:prstGeom prst="bentConnector2">
            <a:avLst/>
          </a:prstGeom>
          <a:ln w="9360">
            <a:solidFill>
              <a:srgbClr val="ccff33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7635960" y="25988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87480" y="260208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in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20960" y="887400"/>
            <a:ext cx="63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Principle of the cut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3200" spc="-1" strike="noStrike">
                <a:solidFill>
                  <a:srgbClr val="3399ff"/>
                </a:solidFill>
                <a:latin typeface="Times New Roman"/>
              </a:rPr>
              <a:t>in a sub-problem</a:t>
            </a:r>
            <a:r>
              <a:rPr b="0" lang="en-CA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24560" y="2004840"/>
            <a:ext cx="461880" cy="803520"/>
          </a:xfrm>
          <a:custGeom>
            <a:avLst/>
            <a:gdLst/>
            <a:ahLst/>
            <a:rect l="l" t="t" r="r" b="b"/>
            <a:pathLst>
              <a:path w="291" h="506">
                <a:moveTo>
                  <a:pt x="0" y="0"/>
                </a:moveTo>
                <a:lnTo>
                  <a:pt x="291" y="0"/>
                </a:lnTo>
                <a:lnTo>
                  <a:pt x="291" y="506"/>
                </a:lnTo>
                <a:lnTo>
                  <a:pt x="26" y="506"/>
                </a:lnTo>
              </a:path>
            </a:pathLst>
          </a:custGeom>
          <a:noFill/>
          <a:ln w="38160">
            <a:solidFill>
              <a:srgbClr val="ccff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7217640" y="827280"/>
            <a:ext cx="285480" cy="2424240"/>
          </a:xfrm>
          <a:custGeom>
            <a:avLst/>
            <a:gdLst>
              <a:gd name="textAreaLeft" fmla="*/ 0 w 285480"/>
              <a:gd name="textAreaRight" fmla="*/ 102960 w 285480"/>
              <a:gd name="textAreaTop" fmla="*/ 63000 h 2424240"/>
              <a:gd name="textAreaBottom" fmla="*/ 2361240 h 24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72400" y="151128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imes New Roman"/>
              </a:rPr>
              <a:t>These columns are reject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99000" y="3747960"/>
            <a:ext cx="7643520" cy="2282400"/>
            <a:chOff x="999000" y="3747960"/>
            <a:chExt cx="7643520" cy="2282400"/>
          </a:xfrm>
        </p:grpSpPr>
        <p:sp>
          <p:nvSpPr>
            <p:cNvPr id="371" name=""/>
            <p:cNvSpPr/>
            <p:nvPr/>
          </p:nvSpPr>
          <p:spPr>
            <a:xfrm>
              <a:off x="5006880" y="4021200"/>
              <a:ext cx="1089000" cy="203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77840" y="4022640"/>
              <a:ext cx="5035680" cy="2034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77840" y="4130640"/>
              <a:ext cx="5032440" cy="32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1240" y="4022640"/>
              <a:ext cx="176040" cy="177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6080" y="4022640"/>
              <a:ext cx="176040" cy="1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52680" y="4038480"/>
              <a:ext cx="176400" cy="1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10160" y="4024440"/>
              <a:ext cx="176040" cy="177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4038480"/>
              <a:ext cx="176040" cy="17784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16600" y="4025880"/>
              <a:ext cx="176400" cy="177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93360" y="4937040"/>
              <a:ext cx="120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400" spc="-1" strike="noStrike">
                  <a:solidFill>
                    <a:srgbClr val="ccff33"/>
                  </a:solidFill>
                  <a:latin typeface="Times New Roman"/>
                </a:rPr>
                <a:t>New Z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32520" y="481644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/>
            <p:nvPr/>
          </p:nvCxnSpPr>
          <p:spPr>
            <a:xfrm rot="10800000">
              <a:off x="5007960" y="4622040"/>
              <a:ext cx="167040" cy="529200"/>
            </a:xfrm>
            <a:prstGeom prst="bentConnector2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7297560" y="4316400"/>
              <a:ext cx="12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ax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71360" y="430524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in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5000" y="3747960"/>
              <a:ext cx="461880" cy="80352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309000" y="4405320"/>
              <a:ext cx="573840" cy="617760"/>
              <a:chOff x="6309000" y="4405320"/>
              <a:chExt cx="573840" cy="617760"/>
            </a:xfrm>
          </p:grpSpPr>
          <p:sp>
            <p:nvSpPr>
              <p:cNvPr id="387" name=""/>
              <p:cNvSpPr/>
              <p:nvPr/>
            </p:nvSpPr>
            <p:spPr>
              <a:xfrm>
                <a:off x="6309000" y="4512960"/>
                <a:ext cx="57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2400" spc="-1" strike="noStrike">
                    <a:solidFill>
                      <a:srgbClr val="ccff33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0240" y="4405320"/>
                <a:ext cx="35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389" name=""/>
            <p:cNvCxnSpPr/>
            <p:nvPr/>
          </p:nvCxnSpPr>
          <p:spPr>
            <a:xfrm rot="10800000">
              <a:off x="6111000" y="4566600"/>
              <a:ext cx="167040" cy="229320"/>
            </a:xfrm>
            <a:prstGeom prst="bentConnector2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</p:cxnSp>
        <p:sp>
          <p:nvSpPr>
            <p:cNvPr id="390" name=""/>
            <p:cNvSpPr/>
            <p:nvPr/>
          </p:nvSpPr>
          <p:spPr>
            <a:xfrm>
              <a:off x="6110280" y="3747960"/>
              <a:ext cx="0" cy="693720"/>
            </a:xfrm>
            <a:prstGeom prst="line">
              <a:avLst/>
            </a:prstGeom>
            <a:ln w="936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10120" y="3846600"/>
              <a:ext cx="0" cy="69372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97320" y="4027320"/>
              <a:ext cx="176400" cy="177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0280" y="4033800"/>
              <a:ext cx="2532240" cy="1904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83" idx="0"/>
              <a:endCxn id="379" idx="7"/>
            </p:cNvCxnSpPr>
            <p:nvPr/>
          </p:nvCxnSpPr>
          <p:spPr>
            <a:xfrm flipV="1" rot="16200000">
              <a:off x="6849720" y="3268080"/>
              <a:ext cx="265680" cy="1830960"/>
            </a:xfrm>
            <a:prstGeom prst="curvedConnector5">
              <a:avLst>
                <a:gd name="adj1" fmla="val 195793"/>
                <a:gd name="adj2" fmla="val 49990"/>
                <a:gd name="adj3" fmla="val 195793"/>
              </a:avLst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395" name=""/>
            <p:cNvSpPr/>
            <p:nvPr/>
          </p:nvSpPr>
          <p:spPr>
            <a:xfrm>
              <a:off x="999000" y="5570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etc.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01880" y="61596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9000" y="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43A-C425-4D86-B55C-682C27C95E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59360" y="4467240"/>
            <a:ext cx="706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ccff33"/>
                </a:solidFill>
                <a:uFillTx/>
                <a:latin typeface="Times New Roman"/>
              </a:rPr>
              <a:t>The difficulty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: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There is almost no dominanc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because the marginal cost func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and the cut are negatively correlat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Solution time may increase 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50720" y="25653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ccff33"/>
                </a:solidFill>
                <a:uFillTx/>
                <a:latin typeface="Times New Roman"/>
              </a:rPr>
              <a:t>Dominance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2280" y="313704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(c1, r1)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dominates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(c2, r2)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if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61200" y="3013200"/>
            <a:ext cx="1528560" cy="825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c1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CA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r1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1840" y="1884240"/>
            <a:ext cx="190440" cy="190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70640" y="1900080"/>
            <a:ext cx="190440" cy="190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3520" y="1677960"/>
            <a:ext cx="2948040" cy="301680"/>
          </a:xfrm>
          <a:custGeom>
            <a:avLst/>
            <a:gdLst/>
            <a:ahLst/>
            <a:rect l="l" t="t" r="r" b="b"/>
            <a:pathLst>
              <a:path w="1857" h="199">
                <a:moveTo>
                  <a:pt x="109" y="165"/>
                </a:moveTo>
                <a:cubicBezTo>
                  <a:pt x="225" y="125"/>
                  <a:pt x="0" y="185"/>
                  <a:pt x="349" y="147"/>
                </a:cubicBezTo>
                <a:cubicBezTo>
                  <a:pt x="396" y="142"/>
                  <a:pt x="441" y="128"/>
                  <a:pt x="486" y="113"/>
                </a:cubicBezTo>
                <a:cubicBezTo>
                  <a:pt x="520" y="102"/>
                  <a:pt x="589" y="79"/>
                  <a:pt x="589" y="79"/>
                </a:cubicBezTo>
                <a:cubicBezTo>
                  <a:pt x="606" y="62"/>
                  <a:pt x="619" y="40"/>
                  <a:pt x="640" y="27"/>
                </a:cubicBezTo>
                <a:cubicBezTo>
                  <a:pt x="663" y="13"/>
                  <a:pt x="717" y="2"/>
                  <a:pt x="717" y="2"/>
                </a:cubicBezTo>
                <a:cubicBezTo>
                  <a:pt x="777" y="5"/>
                  <a:pt x="838" y="0"/>
                  <a:pt x="897" y="10"/>
                </a:cubicBezTo>
                <a:cubicBezTo>
                  <a:pt x="922" y="14"/>
                  <a:pt x="941" y="41"/>
                  <a:pt x="966" y="45"/>
                </a:cubicBezTo>
                <a:cubicBezTo>
                  <a:pt x="983" y="48"/>
                  <a:pt x="1000" y="50"/>
                  <a:pt x="1017" y="53"/>
                </a:cubicBezTo>
                <a:cubicBezTo>
                  <a:pt x="1088" y="77"/>
                  <a:pt x="1142" y="96"/>
                  <a:pt x="1215" y="105"/>
                </a:cubicBezTo>
                <a:cubicBezTo>
                  <a:pt x="1417" y="92"/>
                  <a:pt x="1377" y="90"/>
                  <a:pt x="1635" y="105"/>
                </a:cubicBezTo>
                <a:cubicBezTo>
                  <a:pt x="1676" y="107"/>
                  <a:pt x="1710" y="140"/>
                  <a:pt x="1746" y="156"/>
                </a:cubicBezTo>
                <a:cubicBezTo>
                  <a:pt x="1762" y="163"/>
                  <a:pt x="1797" y="173"/>
                  <a:pt x="1797" y="173"/>
                </a:cubicBezTo>
                <a:cubicBezTo>
                  <a:pt x="1816" y="186"/>
                  <a:pt x="1833" y="199"/>
                  <a:pt x="1857" y="19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35280" y="2104920"/>
            <a:ext cx="2911320" cy="344520"/>
          </a:xfrm>
          <a:custGeom>
            <a:avLst/>
            <a:gdLst/>
            <a:ahLst/>
            <a:rect l="l" t="t" r="r" b="b"/>
            <a:pathLst>
              <a:path w="1834" h="244">
                <a:moveTo>
                  <a:pt x="0" y="0"/>
                </a:moveTo>
                <a:cubicBezTo>
                  <a:pt x="11" y="24"/>
                  <a:pt x="23" y="48"/>
                  <a:pt x="34" y="71"/>
                </a:cubicBezTo>
                <a:cubicBezTo>
                  <a:pt x="70" y="148"/>
                  <a:pt x="46" y="186"/>
                  <a:pt x="121" y="213"/>
                </a:cubicBezTo>
                <a:cubicBezTo>
                  <a:pt x="380" y="208"/>
                  <a:pt x="475" y="224"/>
                  <a:pt x="720" y="180"/>
                </a:cubicBezTo>
                <a:cubicBezTo>
                  <a:pt x="791" y="67"/>
                  <a:pt x="842" y="114"/>
                  <a:pt x="1123" y="128"/>
                </a:cubicBezTo>
                <a:cubicBezTo>
                  <a:pt x="1240" y="142"/>
                  <a:pt x="1290" y="167"/>
                  <a:pt x="1395" y="222"/>
                </a:cubicBezTo>
                <a:cubicBezTo>
                  <a:pt x="1436" y="244"/>
                  <a:pt x="1487" y="227"/>
                  <a:pt x="1533" y="231"/>
                </a:cubicBezTo>
                <a:cubicBezTo>
                  <a:pt x="1548" y="228"/>
                  <a:pt x="1637" y="221"/>
                  <a:pt x="1661" y="213"/>
                </a:cubicBezTo>
                <a:cubicBezTo>
                  <a:pt x="1671" y="210"/>
                  <a:pt x="1677" y="199"/>
                  <a:pt x="1687" y="195"/>
                </a:cubicBezTo>
                <a:cubicBezTo>
                  <a:pt x="1710" y="187"/>
                  <a:pt x="1734" y="184"/>
                  <a:pt x="1757" y="178"/>
                </a:cubicBezTo>
                <a:cubicBezTo>
                  <a:pt x="1789" y="144"/>
                  <a:pt x="1818" y="37"/>
                  <a:pt x="1834" y="0"/>
                </a:cubicBezTo>
              </a:path>
            </a:pathLst>
          </a:custGeom>
          <a:noFill/>
          <a:ln w="9360">
            <a:solidFill>
              <a:srgbClr val="fcab4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77200" y="15112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imes New Roman"/>
              </a:rPr>
              <a:t>Path1 (c1,r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96200" y="22352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cab40"/>
                </a:solidFill>
                <a:latin typeface="Times New Roman"/>
              </a:rPr>
              <a:t>Path2 (c2,r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0400" y="73008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3400" y="18432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6EA-E33A-4303-94E2-42FD466EF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952200" y="1625760"/>
            <a:ext cx="6822360" cy="2141640"/>
            <a:chOff x="952200" y="1625760"/>
            <a:chExt cx="6822360" cy="2141640"/>
          </a:xfrm>
        </p:grpSpPr>
        <p:grpSp>
          <p:nvGrpSpPr>
            <p:cNvPr id="411" name=""/>
            <p:cNvGrpSpPr/>
            <p:nvPr/>
          </p:nvGrpSpPr>
          <p:grpSpPr>
            <a:xfrm>
              <a:off x="1157400" y="2357280"/>
              <a:ext cx="5755680" cy="1410120"/>
              <a:chOff x="1157400" y="2357280"/>
              <a:chExt cx="5755680" cy="1410120"/>
            </a:xfrm>
          </p:grpSpPr>
          <p:sp>
            <p:nvSpPr>
              <p:cNvPr id="412" name=""/>
              <p:cNvSpPr/>
              <p:nvPr/>
            </p:nvSpPr>
            <p:spPr>
              <a:xfrm>
                <a:off x="1157400" y="2671920"/>
                <a:ext cx="5000400" cy="199800"/>
              </a:xfrm>
              <a:prstGeom prst="rect">
                <a:avLst/>
              </a:prstGeom>
              <a:solidFill>
                <a:srgbClr val="ebd18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6339240" y="3149640"/>
                <a:ext cx="573840" cy="617760"/>
                <a:chOff x="6339240" y="3149640"/>
                <a:chExt cx="573840" cy="617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6339240" y="3257280"/>
                  <a:ext cx="5738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2400" spc="-1" strike="noStrike">
                      <a:solidFill>
                        <a:srgbClr val="eaeaea"/>
                      </a:solidFill>
                      <a:latin typeface="Times New Roman"/>
                    </a:rPr>
                    <a:t>Z</a:t>
                  </a:r>
                  <a:r>
                    <a:rPr b="0" i="1" lang="en-CA" sz="2400" spc="-1" strike="noStrike" baseline="-25000">
                      <a:solidFill>
                        <a:srgbClr val="eaeaea"/>
                      </a:solidFill>
                      <a:latin typeface="Times New Roman"/>
                    </a:rPr>
                    <a:t>LP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40480" y="3149640"/>
                  <a:ext cx="355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2400" spc="-1" strike="noStrike" baseline="-25000">
                      <a:solidFill>
                        <a:srgbClr val="eaeaea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16" name=""/>
              <p:cNvCxnSpPr>
                <a:stCxn id="414" idx="1"/>
              </p:cNvCxnSpPr>
              <p:nvPr/>
            </p:nvCxnSpPr>
            <p:spPr>
              <a:xfrm rot="10800000">
                <a:off x="6155640" y="3256920"/>
                <a:ext cx="167040" cy="229320"/>
              </a:xfrm>
              <a:prstGeom prst="bentConnector2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417" name=""/>
              <p:cNvSpPr/>
              <p:nvPr/>
            </p:nvSpPr>
            <p:spPr>
              <a:xfrm>
                <a:off x="5680080" y="2357280"/>
                <a:ext cx="461880" cy="803520"/>
              </a:xfrm>
              <a:custGeom>
                <a:avLst/>
                <a:gdLst/>
                <a:ahLst/>
                <a:rect l="l" t="t" r="r" b="b"/>
                <a:pathLst>
                  <a:path w="291" h="506">
                    <a:moveTo>
                      <a:pt x="0" y="0"/>
                    </a:moveTo>
                    <a:lnTo>
                      <a:pt x="291" y="0"/>
                    </a:lnTo>
                    <a:lnTo>
                      <a:pt x="291" y="506"/>
                    </a:lnTo>
                    <a:lnTo>
                      <a:pt x="26" y="506"/>
                    </a:lnTo>
                  </a:path>
                </a:pathLst>
              </a:custGeom>
              <a:noFill/>
              <a:ln w="38160">
                <a:solidFill>
                  <a:srgbClr val="ccff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52200" y="1625760"/>
              <a:ext cx="68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eaeaea"/>
                  </a:solidFill>
                  <a:latin typeface="Times New Roman"/>
                </a:rPr>
                <a:t>We know that the integer solution will be in this area 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441080" y="4673520"/>
            <a:ext cx="5487840" cy="1410120"/>
            <a:chOff x="1441080" y="4673520"/>
            <a:chExt cx="5487840" cy="1410120"/>
          </a:xfrm>
        </p:grpSpPr>
        <p:sp>
          <p:nvSpPr>
            <p:cNvPr id="420" name=""/>
            <p:cNvSpPr/>
            <p:nvPr/>
          </p:nvSpPr>
          <p:spPr>
            <a:xfrm>
              <a:off x="1467000" y="4981680"/>
              <a:ext cx="4686120" cy="199800"/>
            </a:xfrm>
            <a:prstGeom prst="rect">
              <a:avLst/>
            </a:pr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355080" y="5465880"/>
              <a:ext cx="573840" cy="617760"/>
              <a:chOff x="6355080" y="5465880"/>
              <a:chExt cx="573840" cy="617760"/>
            </a:xfrm>
          </p:grpSpPr>
          <p:sp>
            <p:nvSpPr>
              <p:cNvPr id="422" name=""/>
              <p:cNvSpPr/>
              <p:nvPr/>
            </p:nvSpPr>
            <p:spPr>
              <a:xfrm>
                <a:off x="6355080" y="5573520"/>
                <a:ext cx="57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56320" y="5465880"/>
                <a:ext cx="35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424" name=""/>
            <p:cNvCxnSpPr>
              <a:stCxn id="422" idx="1"/>
            </p:cNvCxnSpPr>
            <p:nvPr/>
          </p:nvCxnSpPr>
          <p:spPr>
            <a:xfrm rot="10800000">
              <a:off x="6171480" y="5573160"/>
              <a:ext cx="167040" cy="229320"/>
            </a:xfrm>
            <a:prstGeom prst="bentConnector2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425" name=""/>
            <p:cNvSpPr/>
            <p:nvPr/>
          </p:nvSpPr>
          <p:spPr>
            <a:xfrm>
              <a:off x="5695920" y="4673520"/>
              <a:ext cx="461880" cy="80352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440720" y="472932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01880" y="61596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360" y="795240"/>
            <a:ext cx="80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Solution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: </a:t>
            </a: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An alternative cut in the sub-problem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49480" y="2671920"/>
            <a:ext cx="7619760" cy="2030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9480" y="2779560"/>
            <a:ext cx="761976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39920" y="2684520"/>
            <a:ext cx="17604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2685960"/>
            <a:ext cx="17604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24320" y="2687760"/>
            <a:ext cx="17604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86080" y="2687760"/>
            <a:ext cx="17640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30600" y="2687760"/>
            <a:ext cx="17640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92600" y="2689200"/>
            <a:ext cx="17640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16720" y="2689200"/>
            <a:ext cx="17604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83480" y="2687760"/>
            <a:ext cx="17640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70720" y="2678040"/>
            <a:ext cx="176400" cy="17784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91480" y="29512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295416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in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6560" y="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27000" y="4073400"/>
            <a:ext cx="8217000" cy="2213640"/>
            <a:chOff x="927000" y="4073400"/>
            <a:chExt cx="8217000" cy="2213640"/>
          </a:xfrm>
        </p:grpSpPr>
        <p:sp>
          <p:nvSpPr>
            <p:cNvPr id="444" name=""/>
            <p:cNvSpPr/>
            <p:nvPr/>
          </p:nvSpPr>
          <p:spPr>
            <a:xfrm>
              <a:off x="927000" y="407340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aeaea"/>
                  </a:solidFill>
                  <a:latin typeface="Times New Roman"/>
                </a:rPr>
                <a:t>However most of the time the integer solution is in this area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65320" y="4987800"/>
              <a:ext cx="7619760" cy="2034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65320" y="5095800"/>
              <a:ext cx="7619760" cy="1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55760" y="500076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16160" y="500220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40160" y="500364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02280" y="500364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46440" y="5003640"/>
              <a:ext cx="17640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08800" y="500544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32560" y="5005440"/>
              <a:ext cx="17604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99320" y="5003640"/>
              <a:ext cx="17640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86560" y="4994280"/>
              <a:ext cx="176400" cy="17784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43760" y="5524560"/>
              <a:ext cx="12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ax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99880" y="558324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Minimu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i="1" lang="en-CA" sz="2000" spc="-1" strike="noStrike">
                  <a:solidFill>
                    <a:srgbClr val="ccff33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0520" y="4317840"/>
              <a:ext cx="217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173-E0B4-44AD-AF25-316E88367B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144080" y="2465280"/>
            <a:ext cx="5316840" cy="3188520"/>
            <a:chOff x="1144080" y="2465280"/>
            <a:chExt cx="5316840" cy="3188520"/>
          </a:xfrm>
        </p:grpSpPr>
        <p:sp>
          <p:nvSpPr>
            <p:cNvPr id="460" name=""/>
            <p:cNvSpPr/>
            <p:nvPr/>
          </p:nvSpPr>
          <p:spPr>
            <a:xfrm>
              <a:off x="1400040" y="3057480"/>
              <a:ext cx="4700880" cy="214200"/>
            </a:xfrm>
            <a:prstGeom prst="rect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86520" y="2465280"/>
              <a:ext cx="12600" cy="236700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366560" y="2576520"/>
              <a:ext cx="27000" cy="243504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05080" y="4670280"/>
              <a:ext cx="4681440" cy="0"/>
            </a:xfrm>
            <a:prstGeom prst="line">
              <a:avLst/>
            </a:prstGeom>
            <a:ln w="38160">
              <a:solidFill>
                <a:srgbClr val="fcab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80040" y="4819680"/>
              <a:ext cx="43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cab40"/>
                  </a:solidFill>
                  <a:latin typeface="Times New Roman"/>
                </a:rPr>
                <a:t>Area of application of the new cu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4080" y="5141880"/>
              <a:ext cx="61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16880" y="514368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185840" y="64152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911160" y="2208240"/>
            <a:ext cx="2960640" cy="1058760"/>
            <a:chOff x="911160" y="2208240"/>
            <a:chExt cx="2960640" cy="1058760"/>
          </a:xfrm>
        </p:grpSpPr>
        <p:sp>
          <p:nvSpPr>
            <p:cNvPr id="469" name=""/>
            <p:cNvSpPr/>
            <p:nvPr/>
          </p:nvSpPr>
          <p:spPr>
            <a:xfrm>
              <a:off x="1090440" y="3067200"/>
              <a:ext cx="2114640" cy="19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1849320" y="1712880"/>
              <a:ext cx="300240" cy="2138400"/>
            </a:xfrm>
            <a:custGeom>
              <a:avLst/>
              <a:gdLst>
                <a:gd name="textAreaLeft" fmla="*/ 0 w 300240"/>
                <a:gd name="textAreaRight" fmla="*/ 108360 w 300240"/>
                <a:gd name="textAreaTop" fmla="*/ 55440 h 2138400"/>
                <a:gd name="textAreaBottom" fmla="*/ 2082960 h 213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11160" y="2208240"/>
              <a:ext cx="29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3300"/>
                  </a:solidFill>
                  <a:latin typeface="Times New Roman"/>
                </a:rPr>
                <a:t>These columns are rejecte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095480" y="3059280"/>
            <a:ext cx="7619760" cy="212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5480" y="3176640"/>
            <a:ext cx="7619760" cy="1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85920" y="3081240"/>
            <a:ext cx="17604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46320" y="3083040"/>
            <a:ext cx="17604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70320" y="3084480"/>
            <a:ext cx="176040" cy="177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32440" y="3084480"/>
            <a:ext cx="1760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76600" y="3084480"/>
            <a:ext cx="176400" cy="1778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38960" y="3086280"/>
            <a:ext cx="176040" cy="177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62720" y="3086280"/>
            <a:ext cx="176040" cy="177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29480" y="3084480"/>
            <a:ext cx="176400" cy="1778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16720" y="3075120"/>
            <a:ext cx="17640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85240" y="3546360"/>
            <a:ext cx="573840" cy="617760"/>
            <a:chOff x="6285240" y="3546360"/>
            <a:chExt cx="573840" cy="617760"/>
          </a:xfrm>
        </p:grpSpPr>
        <p:sp>
          <p:nvSpPr>
            <p:cNvPr id="484" name=""/>
            <p:cNvSpPr/>
            <p:nvPr/>
          </p:nvSpPr>
          <p:spPr>
            <a:xfrm>
              <a:off x="6285240" y="3654000"/>
              <a:ext cx="57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400" spc="-1" strike="noStrike">
                  <a:solidFill>
                    <a:srgbClr val="eaeaea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86480" y="354636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84" idx="1"/>
          </p:cNvCxnSpPr>
          <p:nvPr/>
        </p:nvCxnSpPr>
        <p:spPr>
          <a:xfrm rot="10800000">
            <a:off x="6101640" y="3653640"/>
            <a:ext cx="167040" cy="22932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7737480" y="334800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03280" y="33908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Min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eaeaea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7600" y="2768760"/>
            <a:ext cx="461880" cy="803160"/>
          </a:xfrm>
          <a:custGeom>
            <a:avLst/>
            <a:gdLst/>
            <a:ahLst/>
            <a:rect l="l" t="t" r="r" b="b"/>
            <a:pathLst>
              <a:path w="291" h="506">
                <a:moveTo>
                  <a:pt x="0" y="0"/>
                </a:moveTo>
                <a:lnTo>
                  <a:pt x="291" y="0"/>
                </a:lnTo>
                <a:lnTo>
                  <a:pt x="291" y="506"/>
                </a:lnTo>
                <a:lnTo>
                  <a:pt x="26" y="506"/>
                </a:lnTo>
              </a:path>
            </a:pathLst>
          </a:custGeom>
          <a:noFill/>
          <a:ln w="38160">
            <a:solidFill>
              <a:srgbClr val="ccff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73880" y="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41040" y="822240"/>
            <a:ext cx="41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Principle of the new cut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E70-F63B-4755-A51C-BF92952E82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39760" y="274320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1. Description of the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1920" y="3646440"/>
            <a:ext cx="39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0120" y="455148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old and the new cu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5560" y="101448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Presentation Out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111400"/>
            <a:ext cx="62866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46600" y="545616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4. 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F24-20AC-43CE-B0DB-08648A47F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141560" y="9176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29240" y="27612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50720" y="256536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ccff33"/>
                </a:solidFill>
                <a:uFillTx/>
                <a:latin typeface="Times New Roman"/>
              </a:rPr>
              <a:t>Dominance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12280" y="3137040"/>
            <a:ext cx="36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(c1, r1)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dominates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(c2,r2)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if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95400" y="3701880"/>
            <a:ext cx="11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c1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imes New Roman"/>
              </a:rPr>
              <a:t>r1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cab4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71840" y="1884240"/>
            <a:ext cx="190440" cy="190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70640" y="1900080"/>
            <a:ext cx="190440" cy="190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03520" y="1677960"/>
            <a:ext cx="2948040" cy="301680"/>
          </a:xfrm>
          <a:custGeom>
            <a:avLst/>
            <a:gdLst/>
            <a:ahLst/>
            <a:rect l="l" t="t" r="r" b="b"/>
            <a:pathLst>
              <a:path w="1857" h="199">
                <a:moveTo>
                  <a:pt x="109" y="165"/>
                </a:moveTo>
                <a:cubicBezTo>
                  <a:pt x="225" y="125"/>
                  <a:pt x="0" y="185"/>
                  <a:pt x="349" y="147"/>
                </a:cubicBezTo>
                <a:cubicBezTo>
                  <a:pt x="396" y="142"/>
                  <a:pt x="441" y="128"/>
                  <a:pt x="486" y="113"/>
                </a:cubicBezTo>
                <a:cubicBezTo>
                  <a:pt x="520" y="102"/>
                  <a:pt x="589" y="79"/>
                  <a:pt x="589" y="79"/>
                </a:cubicBezTo>
                <a:cubicBezTo>
                  <a:pt x="606" y="62"/>
                  <a:pt x="619" y="40"/>
                  <a:pt x="640" y="27"/>
                </a:cubicBezTo>
                <a:cubicBezTo>
                  <a:pt x="663" y="13"/>
                  <a:pt x="717" y="2"/>
                  <a:pt x="717" y="2"/>
                </a:cubicBezTo>
                <a:cubicBezTo>
                  <a:pt x="777" y="5"/>
                  <a:pt x="838" y="0"/>
                  <a:pt x="897" y="10"/>
                </a:cubicBezTo>
                <a:cubicBezTo>
                  <a:pt x="922" y="14"/>
                  <a:pt x="941" y="41"/>
                  <a:pt x="966" y="45"/>
                </a:cubicBezTo>
                <a:cubicBezTo>
                  <a:pt x="983" y="48"/>
                  <a:pt x="1000" y="50"/>
                  <a:pt x="1017" y="53"/>
                </a:cubicBezTo>
                <a:cubicBezTo>
                  <a:pt x="1088" y="77"/>
                  <a:pt x="1142" y="96"/>
                  <a:pt x="1215" y="105"/>
                </a:cubicBezTo>
                <a:cubicBezTo>
                  <a:pt x="1417" y="92"/>
                  <a:pt x="1377" y="90"/>
                  <a:pt x="1635" y="105"/>
                </a:cubicBezTo>
                <a:cubicBezTo>
                  <a:pt x="1676" y="107"/>
                  <a:pt x="1710" y="140"/>
                  <a:pt x="1746" y="156"/>
                </a:cubicBezTo>
                <a:cubicBezTo>
                  <a:pt x="1762" y="163"/>
                  <a:pt x="1797" y="173"/>
                  <a:pt x="1797" y="173"/>
                </a:cubicBezTo>
                <a:cubicBezTo>
                  <a:pt x="1816" y="186"/>
                  <a:pt x="1833" y="199"/>
                  <a:pt x="1857" y="19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35280" y="2104920"/>
            <a:ext cx="2911320" cy="344520"/>
          </a:xfrm>
          <a:custGeom>
            <a:avLst/>
            <a:gdLst/>
            <a:ahLst/>
            <a:rect l="l" t="t" r="r" b="b"/>
            <a:pathLst>
              <a:path w="1834" h="244">
                <a:moveTo>
                  <a:pt x="0" y="0"/>
                </a:moveTo>
                <a:cubicBezTo>
                  <a:pt x="11" y="24"/>
                  <a:pt x="23" y="48"/>
                  <a:pt x="34" y="71"/>
                </a:cubicBezTo>
                <a:cubicBezTo>
                  <a:pt x="70" y="148"/>
                  <a:pt x="46" y="186"/>
                  <a:pt x="121" y="213"/>
                </a:cubicBezTo>
                <a:cubicBezTo>
                  <a:pt x="380" y="208"/>
                  <a:pt x="475" y="224"/>
                  <a:pt x="720" y="180"/>
                </a:cubicBezTo>
                <a:cubicBezTo>
                  <a:pt x="791" y="67"/>
                  <a:pt x="842" y="114"/>
                  <a:pt x="1123" y="128"/>
                </a:cubicBezTo>
                <a:cubicBezTo>
                  <a:pt x="1240" y="142"/>
                  <a:pt x="1290" y="167"/>
                  <a:pt x="1395" y="222"/>
                </a:cubicBezTo>
                <a:cubicBezTo>
                  <a:pt x="1436" y="244"/>
                  <a:pt x="1487" y="227"/>
                  <a:pt x="1533" y="231"/>
                </a:cubicBezTo>
                <a:cubicBezTo>
                  <a:pt x="1548" y="228"/>
                  <a:pt x="1637" y="221"/>
                  <a:pt x="1661" y="213"/>
                </a:cubicBezTo>
                <a:cubicBezTo>
                  <a:pt x="1671" y="210"/>
                  <a:pt x="1677" y="199"/>
                  <a:pt x="1687" y="195"/>
                </a:cubicBezTo>
                <a:cubicBezTo>
                  <a:pt x="1710" y="187"/>
                  <a:pt x="1734" y="184"/>
                  <a:pt x="1757" y="178"/>
                </a:cubicBezTo>
                <a:cubicBezTo>
                  <a:pt x="1789" y="144"/>
                  <a:pt x="1818" y="37"/>
                  <a:pt x="1834" y="0"/>
                </a:cubicBezTo>
              </a:path>
            </a:pathLst>
          </a:custGeom>
          <a:noFill/>
          <a:ln w="9360">
            <a:solidFill>
              <a:srgbClr val="fcab4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77200" y="15112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imes New Roman"/>
              </a:rPr>
              <a:t>Path1 (c1,r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96200" y="22352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cab40"/>
                </a:solidFill>
                <a:latin typeface="Times New Roman"/>
              </a:rPr>
              <a:t>Path2 (c2,r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4E5-1853-4961-8635-13947DBA75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762120" y="1981080"/>
            <a:ext cx="2960640" cy="1067040"/>
            <a:chOff x="762120" y="1981080"/>
            <a:chExt cx="2960640" cy="1067040"/>
          </a:xfrm>
        </p:grpSpPr>
        <p:sp>
          <p:nvSpPr>
            <p:cNvPr id="504" name=""/>
            <p:cNvSpPr/>
            <p:nvPr/>
          </p:nvSpPr>
          <p:spPr>
            <a:xfrm>
              <a:off x="942840" y="2844720"/>
              <a:ext cx="2105280" cy="203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1751040" y="1434600"/>
              <a:ext cx="299880" cy="2239920"/>
            </a:xfrm>
            <a:custGeom>
              <a:avLst/>
              <a:gdLst>
                <a:gd name="textAreaLeft" fmla="*/ 0 w 299880"/>
                <a:gd name="textAreaRight" fmla="*/ 108360 w 299880"/>
                <a:gd name="textAreaTop" fmla="*/ 58320 h 2239920"/>
                <a:gd name="textAreaBottom" fmla="*/ 218160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1981080"/>
              <a:ext cx="29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3300"/>
                  </a:solidFill>
                  <a:latin typeface="Times New Roman"/>
                </a:rPr>
                <a:t>These columns are rejecte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46080" y="2841480"/>
            <a:ext cx="7620120" cy="203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46080" y="2949480"/>
            <a:ext cx="762012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36520" y="285444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96920" y="285588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20920" y="2857680"/>
            <a:ext cx="176400" cy="177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83040" y="2857680"/>
            <a:ext cx="176040" cy="177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2857680"/>
            <a:ext cx="1760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89560" y="2859120"/>
            <a:ext cx="1760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13320" y="2859120"/>
            <a:ext cx="176400" cy="177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440" y="2857680"/>
            <a:ext cx="176040" cy="177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67680" y="2847960"/>
            <a:ext cx="17604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135840" y="3319560"/>
            <a:ext cx="573840" cy="617760"/>
            <a:chOff x="6135840" y="3319560"/>
            <a:chExt cx="573840" cy="617760"/>
          </a:xfrm>
        </p:grpSpPr>
        <p:sp>
          <p:nvSpPr>
            <p:cNvPr id="519" name=""/>
            <p:cNvSpPr/>
            <p:nvPr/>
          </p:nvSpPr>
          <p:spPr>
            <a:xfrm>
              <a:off x="6135840" y="3427200"/>
              <a:ext cx="57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400" spc="-1" strike="noStrike">
                  <a:solidFill>
                    <a:srgbClr val="ccff33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37080" y="331956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521" name=""/>
          <p:cNvCxnSpPr>
            <a:stCxn id="519" idx="1"/>
          </p:cNvCxnSpPr>
          <p:nvPr/>
        </p:nvCxnSpPr>
        <p:spPr>
          <a:xfrm rot="10800000">
            <a:off x="5952240" y="3426840"/>
            <a:ext cx="167040" cy="229320"/>
          </a:xfrm>
          <a:prstGeom prst="bentConnector2">
            <a:avLst/>
          </a:prstGeom>
          <a:ln w="9360">
            <a:solidFill>
              <a:srgbClr val="ccff33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7588080" y="312120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61840" y="32209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in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96200" y="101916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Principle of the new cut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867040" y="2541600"/>
            <a:ext cx="653760" cy="1727640"/>
            <a:chOff x="2867040" y="2541600"/>
            <a:chExt cx="653760" cy="1727640"/>
          </a:xfrm>
        </p:grpSpPr>
        <p:sp>
          <p:nvSpPr>
            <p:cNvPr id="526" name=""/>
            <p:cNvSpPr/>
            <p:nvPr/>
          </p:nvSpPr>
          <p:spPr>
            <a:xfrm flipH="1">
              <a:off x="3058560" y="254160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053880" y="264780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7040" y="375912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20160" y="2251080"/>
            <a:ext cx="5389920" cy="2637360"/>
            <a:chOff x="920160" y="2251080"/>
            <a:chExt cx="5389920" cy="2637360"/>
          </a:xfrm>
        </p:grpSpPr>
        <p:sp>
          <p:nvSpPr>
            <p:cNvPr id="530" name=""/>
            <p:cNvSpPr/>
            <p:nvPr/>
          </p:nvSpPr>
          <p:spPr>
            <a:xfrm>
              <a:off x="5952960" y="2251080"/>
              <a:ext cx="11160" cy="223200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4520" y="2349360"/>
              <a:ext cx="14400" cy="209556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6040" y="437832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20160" y="4361040"/>
              <a:ext cx="61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249640" y="5126040"/>
            <a:ext cx="4343040" cy="1032120"/>
            <a:chOff x="2249640" y="5126040"/>
            <a:chExt cx="4343040" cy="1032120"/>
          </a:xfrm>
        </p:grpSpPr>
        <p:sp>
          <p:nvSpPr>
            <p:cNvPr id="535" name=""/>
            <p:cNvSpPr/>
            <p:nvPr/>
          </p:nvSpPr>
          <p:spPr>
            <a:xfrm>
              <a:off x="2589480" y="5165640"/>
              <a:ext cx="3071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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  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 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249640" y="5521320"/>
              <a:ext cx="1417680" cy="636840"/>
              <a:chOff x="2249640" y="5521320"/>
              <a:chExt cx="1417680" cy="636840"/>
            </a:xfrm>
          </p:grpSpPr>
          <p:sp>
            <p:nvSpPr>
              <p:cNvPr id="537" name=""/>
              <p:cNvSpPr/>
              <p:nvPr/>
            </p:nvSpPr>
            <p:spPr>
              <a:xfrm>
                <a:off x="2249640" y="5648040"/>
                <a:ext cx="128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eaeaea"/>
                    </a:solidFill>
                    <a:latin typeface="Times New Roman"/>
                  </a:rPr>
                  <a:t>(i,j)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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40280" y="5521320"/>
                <a:ext cx="52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645160" y="5126040"/>
              <a:ext cx="947520" cy="575640"/>
              <a:chOff x="5645160" y="5126040"/>
              <a:chExt cx="947520" cy="575640"/>
            </a:xfrm>
          </p:grpSpPr>
          <p:sp>
            <p:nvSpPr>
              <p:cNvPr id="540" name=""/>
              <p:cNvSpPr/>
              <p:nvPr/>
            </p:nvSpPr>
            <p:spPr>
              <a:xfrm>
                <a:off x="5645160" y="5244840"/>
                <a:ext cx="947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03720" y="5126040"/>
                <a:ext cx="408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4753080" y="5210280"/>
            <a:ext cx="725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i="1" lang="en-CA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58840" y="5014800"/>
            <a:ext cx="4911840" cy="1251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1560" y="9176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29240" y="27612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6EF-FAD8-486D-9C35-255D0ADF03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076560" y="2844720"/>
            <a:ext cx="78408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762120" y="1981080"/>
            <a:ext cx="2960640" cy="1067040"/>
            <a:chOff x="762120" y="1981080"/>
            <a:chExt cx="2960640" cy="1067040"/>
          </a:xfrm>
        </p:grpSpPr>
        <p:sp>
          <p:nvSpPr>
            <p:cNvPr id="548" name=""/>
            <p:cNvSpPr/>
            <p:nvPr/>
          </p:nvSpPr>
          <p:spPr>
            <a:xfrm>
              <a:off x="942840" y="2844720"/>
              <a:ext cx="2105280" cy="203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6200000">
              <a:off x="1751040" y="1434600"/>
              <a:ext cx="299880" cy="2239920"/>
            </a:xfrm>
            <a:custGeom>
              <a:avLst/>
              <a:gdLst>
                <a:gd name="textAreaLeft" fmla="*/ 0 w 299880"/>
                <a:gd name="textAreaRight" fmla="*/ 108360 w 299880"/>
                <a:gd name="textAreaTop" fmla="*/ 58320 h 2239920"/>
                <a:gd name="textAreaBottom" fmla="*/ 218160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2120" y="1981080"/>
              <a:ext cx="29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3300"/>
                  </a:solidFill>
                  <a:latin typeface="Times New Roman"/>
                </a:rPr>
                <a:t>These columns are rejecte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946080" y="2841480"/>
            <a:ext cx="7620120" cy="203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46080" y="2949480"/>
            <a:ext cx="762012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36520" y="285444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96920" y="285588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20920" y="2857680"/>
            <a:ext cx="176400" cy="177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83040" y="2857680"/>
            <a:ext cx="176040" cy="177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27560" y="2857680"/>
            <a:ext cx="1760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89560" y="2859120"/>
            <a:ext cx="1760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13320" y="2859120"/>
            <a:ext cx="176400" cy="177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80440" y="2857680"/>
            <a:ext cx="176040" cy="177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67680" y="2847960"/>
            <a:ext cx="17604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8080" y="312120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61840" y="32209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in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96200" y="101916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Principle of the new cut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867040" y="2541600"/>
            <a:ext cx="653760" cy="1727640"/>
            <a:chOff x="2867040" y="2541600"/>
            <a:chExt cx="653760" cy="1727640"/>
          </a:xfrm>
        </p:grpSpPr>
        <p:sp>
          <p:nvSpPr>
            <p:cNvPr id="566" name=""/>
            <p:cNvSpPr/>
            <p:nvPr/>
          </p:nvSpPr>
          <p:spPr>
            <a:xfrm flipH="1">
              <a:off x="3058560" y="254160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053880" y="264780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67040" y="375912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920160" y="2251080"/>
            <a:ext cx="5389920" cy="2637360"/>
            <a:chOff x="920160" y="2251080"/>
            <a:chExt cx="5389920" cy="2637360"/>
          </a:xfrm>
        </p:grpSpPr>
        <p:sp>
          <p:nvSpPr>
            <p:cNvPr id="570" name=""/>
            <p:cNvSpPr/>
            <p:nvPr/>
          </p:nvSpPr>
          <p:spPr>
            <a:xfrm>
              <a:off x="5952960" y="2251080"/>
              <a:ext cx="11160" cy="223200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44520" y="2349360"/>
              <a:ext cx="14400" cy="209556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66040" y="437832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0160" y="4361040"/>
              <a:ext cx="61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49640" y="5126040"/>
            <a:ext cx="4343040" cy="1032120"/>
            <a:chOff x="2249640" y="5126040"/>
            <a:chExt cx="4343040" cy="1032120"/>
          </a:xfrm>
        </p:grpSpPr>
        <p:sp>
          <p:nvSpPr>
            <p:cNvPr id="575" name=""/>
            <p:cNvSpPr/>
            <p:nvPr/>
          </p:nvSpPr>
          <p:spPr>
            <a:xfrm>
              <a:off x="2589480" y="5165640"/>
              <a:ext cx="3071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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  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 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i="1" lang="en-CA" sz="32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i="1" lang="en-CA" sz="3200" spc="-1" strike="noStrike" baseline="-25000">
                  <a:solidFill>
                    <a:srgbClr val="eaeaea"/>
                  </a:solidFill>
                  <a:latin typeface="Times New Roman"/>
                </a:rPr>
                <a:t>ij</a:t>
              </a:r>
              <a:r>
                <a:rPr b="0" lang="en-C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CA" sz="32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249640" y="5521320"/>
              <a:ext cx="1417680" cy="636840"/>
              <a:chOff x="2249640" y="5521320"/>
              <a:chExt cx="1417680" cy="636840"/>
            </a:xfrm>
          </p:grpSpPr>
          <p:sp>
            <p:nvSpPr>
              <p:cNvPr id="577" name=""/>
              <p:cNvSpPr/>
              <p:nvPr/>
            </p:nvSpPr>
            <p:spPr>
              <a:xfrm>
                <a:off x="2249640" y="5648040"/>
                <a:ext cx="128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eaeaea"/>
                    </a:solidFill>
                    <a:latin typeface="Times New Roman"/>
                  </a:rPr>
                  <a:t>(i,j)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</a:t>
                </a:r>
                <a:r>
                  <a:rPr b="0" lang="en-CA" sz="2400" spc="-1" strike="noStrike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40280" y="5521320"/>
                <a:ext cx="52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k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645160" y="5126040"/>
              <a:ext cx="947520" cy="575640"/>
              <a:chOff x="5645160" y="5126040"/>
              <a:chExt cx="947520" cy="575640"/>
            </a:xfrm>
          </p:grpSpPr>
          <p:sp>
            <p:nvSpPr>
              <p:cNvPr id="580" name=""/>
              <p:cNvSpPr/>
              <p:nvPr/>
            </p:nvSpPr>
            <p:spPr>
              <a:xfrm>
                <a:off x="5645160" y="5244840"/>
                <a:ext cx="947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03720" y="5126040"/>
                <a:ext cx="408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4791240" y="5210280"/>
            <a:ext cx="725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i="1" lang="en-CA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58840" y="5014800"/>
            <a:ext cx="4911840" cy="1251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1560" y="9176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29240" y="27612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09960" y="2835360"/>
            <a:ext cx="17640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686040" y="2505240"/>
            <a:ext cx="653760" cy="1727640"/>
            <a:chOff x="3686040" y="2505240"/>
            <a:chExt cx="653760" cy="1727640"/>
          </a:xfrm>
        </p:grpSpPr>
        <p:sp>
          <p:nvSpPr>
            <p:cNvPr id="588" name=""/>
            <p:cNvSpPr/>
            <p:nvPr/>
          </p:nvSpPr>
          <p:spPr>
            <a:xfrm flipH="1">
              <a:off x="3877560" y="250524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872880" y="261144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6040" y="372276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516280" y="2206800"/>
            <a:ext cx="787320" cy="2035080"/>
            <a:chOff x="5516280" y="2206800"/>
            <a:chExt cx="787320" cy="2035080"/>
          </a:xfrm>
        </p:grpSpPr>
        <p:grpSp>
          <p:nvGrpSpPr>
            <p:cNvPr id="592" name=""/>
            <p:cNvGrpSpPr/>
            <p:nvPr/>
          </p:nvGrpSpPr>
          <p:grpSpPr>
            <a:xfrm>
              <a:off x="5729760" y="3624120"/>
              <a:ext cx="573840" cy="617760"/>
              <a:chOff x="5729760" y="3624120"/>
              <a:chExt cx="573840" cy="617760"/>
            </a:xfrm>
          </p:grpSpPr>
          <p:sp>
            <p:nvSpPr>
              <p:cNvPr id="593" name=""/>
              <p:cNvSpPr/>
              <p:nvPr/>
            </p:nvSpPr>
            <p:spPr>
              <a:xfrm>
                <a:off x="5729760" y="3731760"/>
                <a:ext cx="57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2400" spc="-1" strike="noStrike">
                    <a:solidFill>
                      <a:srgbClr val="ccff33"/>
                    </a:solidFill>
                    <a:latin typeface="Times New Roman"/>
                  </a:rPr>
                  <a:t>Z</a:t>
                </a: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31000" y="3624120"/>
                <a:ext cx="35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 baseline="-25000">
                    <a:solidFill>
                      <a:srgbClr val="ccff33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595" name=""/>
            <p:cNvCxnSpPr/>
            <p:nvPr/>
          </p:nvCxnSpPr>
          <p:spPr>
            <a:xfrm rot="10800000">
              <a:off x="5515920" y="3747240"/>
              <a:ext cx="167040" cy="229320"/>
            </a:xfrm>
            <a:prstGeom prst="bentConnector2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</p:cxnSp>
        <p:sp>
          <p:nvSpPr>
            <p:cNvPr id="596" name=""/>
            <p:cNvSpPr/>
            <p:nvPr/>
          </p:nvSpPr>
          <p:spPr>
            <a:xfrm>
              <a:off x="5529240" y="2206800"/>
              <a:ext cx="0" cy="16110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DAF-F5FE-45F0-9898-8E52138A23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42840" y="2844720"/>
            <a:ext cx="2105280" cy="20340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46080" y="2841480"/>
            <a:ext cx="7620120" cy="203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46080" y="2949480"/>
            <a:ext cx="762012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36520" y="285444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96920" y="2855880"/>
            <a:ext cx="176400" cy="177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20920" y="2857680"/>
            <a:ext cx="176400" cy="177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83040" y="2857680"/>
            <a:ext cx="176040" cy="177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27560" y="2857680"/>
            <a:ext cx="1760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89560" y="2859120"/>
            <a:ext cx="1760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13320" y="2859120"/>
            <a:ext cx="176400" cy="177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440" y="2857680"/>
            <a:ext cx="176040" cy="177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67680" y="2847960"/>
            <a:ext cx="17604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88080" y="312120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Maxi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Sc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96920" y="101916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Infeasible 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852640" y="2556000"/>
            <a:ext cx="653760" cy="1727640"/>
            <a:chOff x="2852640" y="2556000"/>
            <a:chExt cx="653760" cy="1727640"/>
          </a:xfrm>
        </p:grpSpPr>
        <p:sp>
          <p:nvSpPr>
            <p:cNvPr id="612" name=""/>
            <p:cNvSpPr/>
            <p:nvPr/>
          </p:nvSpPr>
          <p:spPr>
            <a:xfrm flipH="1">
              <a:off x="3044160" y="255600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039480" y="266220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52640" y="377352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891720" y="2236680"/>
            <a:ext cx="5389200" cy="2637360"/>
            <a:chOff x="891720" y="2236680"/>
            <a:chExt cx="5389200" cy="2637360"/>
          </a:xfrm>
        </p:grpSpPr>
        <p:sp>
          <p:nvSpPr>
            <p:cNvPr id="616" name=""/>
            <p:cNvSpPr/>
            <p:nvPr/>
          </p:nvSpPr>
          <p:spPr>
            <a:xfrm>
              <a:off x="5924160" y="2236680"/>
              <a:ext cx="10800" cy="223200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15720" y="2334960"/>
              <a:ext cx="14040" cy="2095560"/>
            </a:xfrm>
            <a:prstGeom prst="line">
              <a:avLst/>
            </a:prstGeom>
            <a:ln w="28440">
              <a:solidFill>
                <a:srgbClr val="fcab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6880" y="4363920"/>
              <a:ext cx="64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91720" y="4346640"/>
              <a:ext cx="61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cab40"/>
                  </a:solidFill>
                  <a:latin typeface="Times New Roman"/>
                </a:rPr>
                <a:t>Z</a:t>
              </a:r>
              <a:r>
                <a:rPr b="0" i="1" lang="en-CA" sz="2400" spc="-1" strike="noStrike" baseline="-25000">
                  <a:solidFill>
                    <a:srgbClr val="fcab4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141560" y="9176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29240" y="27612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3. The new c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9960" y="2835360"/>
            <a:ext cx="17640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88440" y="5040360"/>
            <a:ext cx="476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Arial Narrow"/>
              </a:rPr>
              <a:t>If for « </a:t>
            </a:r>
            <a:r>
              <a:rPr b="0" i="1" lang="fr-CA" sz="2400" spc="-1" strike="noStrike">
                <a:solidFill>
                  <a:srgbClr val="eaeaea"/>
                </a:solidFill>
                <a:latin typeface="Arial Narrow"/>
              </a:rPr>
              <a:t>K</a:t>
            </a:r>
            <a:r>
              <a:rPr b="0" i="1" lang="fr-CA" sz="2400" spc="-1" strike="noStrike" baseline="-25000">
                <a:solidFill>
                  <a:srgbClr val="eaeaea"/>
                </a:solidFill>
                <a:latin typeface="Arial Narrow"/>
              </a:rPr>
              <a:t>3</a:t>
            </a:r>
            <a:r>
              <a:rPr b="0" lang="fr-CA" sz="2400" spc="-1" strike="noStrike">
                <a:solidFill>
                  <a:srgbClr val="eaeaea"/>
                </a:solidFill>
                <a:latin typeface="Arial Narrow"/>
              </a:rPr>
              <a:t> » an infeasible solution is f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79800" y="55911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Arial Narrow"/>
              </a:rPr>
              <a:t>Then the old cut must be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280880" y="2556000"/>
            <a:ext cx="4656240" cy="4047480"/>
            <a:chOff x="1280880" y="2556000"/>
            <a:chExt cx="4656240" cy="4047480"/>
          </a:xfrm>
        </p:grpSpPr>
        <p:sp>
          <p:nvSpPr>
            <p:cNvPr id="626" name=""/>
            <p:cNvSpPr/>
            <p:nvPr/>
          </p:nvSpPr>
          <p:spPr>
            <a:xfrm>
              <a:off x="2590920" y="255600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99cc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80880" y="6143760"/>
              <a:ext cx="40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99ccff"/>
                  </a:solidFill>
                  <a:latin typeface="Arial Narrow"/>
                </a:rPr>
                <a:t>But it will use a better upper bound!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3063960" y="3350880"/>
              <a:ext cx="2117520" cy="28321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195880" y="3525840"/>
              <a:ext cx="741240" cy="26431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162080" y="2533680"/>
            <a:ext cx="653760" cy="1727640"/>
            <a:chOff x="1162080" y="2533680"/>
            <a:chExt cx="653760" cy="1727640"/>
          </a:xfrm>
        </p:grpSpPr>
        <p:sp>
          <p:nvSpPr>
            <p:cNvPr id="631" name=""/>
            <p:cNvSpPr/>
            <p:nvPr/>
          </p:nvSpPr>
          <p:spPr>
            <a:xfrm flipH="1">
              <a:off x="1353600" y="253368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348920" y="263988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62080" y="375120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798560" y="2550960"/>
            <a:ext cx="653760" cy="1727640"/>
            <a:chOff x="1798560" y="2550960"/>
            <a:chExt cx="653760" cy="1727640"/>
          </a:xfrm>
        </p:grpSpPr>
        <p:sp>
          <p:nvSpPr>
            <p:cNvPr id="635" name=""/>
            <p:cNvSpPr/>
            <p:nvPr/>
          </p:nvSpPr>
          <p:spPr>
            <a:xfrm flipH="1">
              <a:off x="1990080" y="2550960"/>
              <a:ext cx="461880" cy="803160"/>
            </a:xfrm>
            <a:custGeom>
              <a:avLst/>
              <a:gdLst/>
              <a:ahLst/>
              <a:rect l="l" t="t" r="r" b="b"/>
              <a:pathLst>
                <a:path w="291" h="506">
                  <a:moveTo>
                    <a:pt x="0" y="0"/>
                  </a:moveTo>
                  <a:lnTo>
                    <a:pt x="291" y="0"/>
                  </a:lnTo>
                  <a:lnTo>
                    <a:pt x="291" y="506"/>
                  </a:lnTo>
                  <a:lnTo>
                    <a:pt x="26" y="506"/>
                  </a:lnTo>
                </a:path>
              </a:pathLst>
            </a:custGeom>
            <a:noFill/>
            <a:ln w="38160">
              <a:solidFill>
                <a:srgbClr val="ccff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985400" y="2657160"/>
              <a:ext cx="3240" cy="1171800"/>
            </a:xfrm>
            <a:prstGeom prst="line">
              <a:avLst/>
            </a:prstGeom>
            <a:ln w="28440">
              <a:solidFill>
                <a:srgbClr val="cc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98560" y="376848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K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DD0-0FB5-4DA0-B54A-8FA119E1E6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141560" y="91764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030320" y="2761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4. Some 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595440" y="1353960"/>
          <a:ext cx="8215200" cy="4726080"/>
        </p:xfrm>
        <a:graphic>
          <a:graphicData uri="http://schemas.openxmlformats.org/drawingml/2006/table">
            <a:tbl>
              <a:tblPr/>
              <a:tblGrid>
                <a:gridCol w="1438200"/>
                <a:gridCol w="750960"/>
                <a:gridCol w="988920"/>
                <a:gridCol w="1039680"/>
                <a:gridCol w="1003320"/>
                <a:gridCol w="901800"/>
                <a:gridCol w="2092320"/>
              </a:tblGrid>
              <a:tr h="677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Proble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Old Cu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d18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New Cu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d18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Improv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66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CP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CP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555bad"/>
                          </a:solidFill>
                          <a:latin typeface="Arial"/>
                        </a:rPr>
                        <a:t>%CP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CT-ZZY-340 (4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57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18720">
                      <a:solidFill>
                        <a:srgbClr val="99ccff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CT-ZZY-767 (8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33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CT-ZZY-DC9 (4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87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CT-ZZY-320 (11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3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51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555bad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C-ZZY-767 (8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4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10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0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87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ff"/>
                      </a:solidFill>
                    </a:lnL>
                    <a:lnR w="18720">
                      <a:solidFill>
                        <a:srgbClr val="99ccff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99ccff"/>
                      </a:solidFill>
                    </a:lnB>
                    <a:solidFill>
                      <a:srgbClr val="555bad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07B-41DA-42F9-9C72-1F6BB5E9EC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36520" y="22068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1. Description of the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92880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160" y="1206360"/>
            <a:ext cx="804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ccff33"/>
                </a:solidFill>
                <a:latin typeface="Times New Roman"/>
              </a:rPr>
              <a:t>Constructing a monthly work schedule for each pilot taking into account his (her) preferences and seniorit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5888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33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Each employee indicates his/her prefer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13388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The objective is to assign each employee a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feasible schedule having the highest score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taking into account the seniority order between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employees and all the constraints of the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proble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4920" y="3119400"/>
            <a:ext cx="77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Based on preferences, a </a:t>
            </a:r>
            <a:r>
              <a:rPr b="1" lang="en-CA" sz="2800" spc="-1" strike="noStrike">
                <a:solidFill>
                  <a:srgbClr val="ff0000"/>
                </a:solidFill>
                <a:latin typeface="Times New Roman"/>
              </a:rPr>
              <a:t>score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is attributed to 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ccff33"/>
                </a:solidFill>
                <a:latin typeface="Times New Roman"/>
              </a:rPr>
              <a:t>each task and sched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4AE-05BA-49C5-99D3-0636A3602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55600" y="20628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1. Description of the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4360" y="91440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2080" y="1193760"/>
            <a:ext cx="77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Constraints of the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3400" y="3117960"/>
            <a:ext cx="61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33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ach employee must have a feasible schedu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2035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ach task must be covered by an employ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7440" y="2338560"/>
            <a:ext cx="176040" cy="1457280"/>
          </a:xfrm>
          <a:custGeom>
            <a:avLst/>
            <a:gdLst>
              <a:gd name="textAreaLeft" fmla="*/ 0 w 176040"/>
              <a:gd name="textAreaRight" fmla="*/ 63360 w 17604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00960" y="256860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Global constra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40680" y="3173400"/>
            <a:ext cx="7303320" cy="2638440"/>
            <a:chOff x="1840680" y="3173400"/>
            <a:chExt cx="7303320" cy="2638440"/>
          </a:xfrm>
        </p:grpSpPr>
        <p:cxnSp>
          <p:nvCxnSpPr>
            <p:cNvPr id="114" name=""/>
            <p:cNvCxnSpPr>
              <a:stCxn id="115" idx="2"/>
              <a:endCxn id="116" idx="1"/>
            </p:cNvCxnSpPr>
            <p:nvPr/>
          </p:nvCxnSpPr>
          <p:spPr>
            <a:xfrm rot="5400000">
              <a:off x="3658320" y="1964880"/>
              <a:ext cx="708840" cy="3886920"/>
            </a:xfrm>
            <a:prstGeom prst="bentConnector4">
              <a:avLst>
                <a:gd name="adj1" fmla="val 33841"/>
                <a:gd name="adj2" fmla="val 105881"/>
              </a:avLst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2070000" y="44146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ccff33"/>
                </a:buClr>
                <a:buFont typeface="Monotype Sort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Duration of consecutive working period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	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70000" y="487188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ccff33"/>
                </a:buClr>
                <a:buFont typeface="Monotype Sort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Number of flight hours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	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70000" y="53290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ccff33"/>
                </a:buClr>
                <a:buFont typeface="Monotype Sort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Respect of pre-scheduled activities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	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1360" y="3173400"/>
              <a:ext cx="2209680" cy="380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0000" y="403380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ccff33"/>
                </a:buClr>
                <a:buFont typeface="Monotype Sort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Rest periods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	</a:t>
              </a:r>
              <a:r>
                <a:rPr b="0" lang="en-CA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07280" y="3975120"/>
              <a:ext cx="176040" cy="1836720"/>
            </a:xfrm>
            <a:custGeom>
              <a:avLst/>
              <a:gdLst>
                <a:gd name="textAreaLeft" fmla="*/ 0 w 176040"/>
                <a:gd name="textAreaRight" fmla="*/ 63360 w 176040"/>
                <a:gd name="textAreaTop" fmla="*/ 47880 h 1836720"/>
                <a:gd name="textAreaBottom" fmla="*/ 1788840 h 18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0960" y="4368960"/>
              <a:ext cx="1643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eaeaea"/>
                  </a:solidFill>
                  <a:latin typeface="Times New Roman"/>
                </a:rPr>
                <a:t>Local constrain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825-400A-40E8-BBE5-4D9EF458D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87440" y="161280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A sequential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16160" y="269064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mployees are sorted from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 = 1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to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m,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wher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 = 1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represents the most senior employee and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 = m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the most junior o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16160" y="431172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At th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</a:t>
            </a:r>
            <a:r>
              <a:rPr b="0" i="1" lang="en-CA" sz="2400" spc="-1" strike="noStrike" baseline="30000">
                <a:solidFill>
                  <a:srgbClr val="ccff33"/>
                </a:solidFill>
                <a:latin typeface="Times New Roman"/>
              </a:rPr>
              <a:t>th 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iteration, the solution approach looks for the best feasible schedule for employe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considering that employees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 k = 1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to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 k -1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have received their best schedu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85760" y="108576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720" y="3780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218-2F09-4D94-8E59-AF69ED18E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5760" y="1085760"/>
            <a:ext cx="76964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05120" y="121608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ccff33"/>
                </a:solidFill>
                <a:uFillTx/>
                <a:latin typeface="Times New Roman"/>
              </a:rPr>
              <a:t>A sequential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09800" y="2867040"/>
            <a:ext cx="785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1.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A feasible schedule for employe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2.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Among all the feasible schedules that are available, the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one with the best score is assigned to employe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3.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The chosen schedule must ensure that             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mployees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+1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to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m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will receive their best schedule 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4.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nsure feasi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00080" y="204948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Optimality criteria at iteration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720" y="3780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CBD-A276-4E18-9AAC-12452200AE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16520" y="1011240"/>
            <a:ext cx="24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At iteration </a:t>
            </a: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k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994120"/>
            <a:ext cx="3878280" cy="93816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25720" y="3171960"/>
            <a:ext cx="21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555bad"/>
                </a:solidFill>
                <a:latin typeface="Times New Roman"/>
              </a:rPr>
              <a:t>Master prob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63960" y="4889520"/>
            <a:ext cx="3878280" cy="93816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81600" y="521496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555bad"/>
                </a:solidFill>
                <a:latin typeface="Times New Roman"/>
              </a:rPr>
              <a:t>Subprobl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67120" y="3743280"/>
            <a:ext cx="0" cy="1455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3080" y="3719520"/>
            <a:ext cx="0" cy="1523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63760" y="4170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5840" y="2289240"/>
            <a:ext cx="5446800" cy="3932280"/>
          </a:xfrm>
          <a:prstGeom prst="rect">
            <a:avLst/>
          </a:prstGeom>
          <a:noFill/>
          <a:ln w="5724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8840" y="42195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66"/>
                </a:solidFill>
                <a:latin typeface="Times New Roman"/>
              </a:rPr>
              <a:t>schedu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04960" y="1798560"/>
            <a:ext cx="6381720" cy="4694400"/>
            <a:chOff x="1704960" y="1798560"/>
            <a:chExt cx="6381720" cy="4694400"/>
          </a:xfrm>
        </p:grpSpPr>
        <p:sp>
          <p:nvSpPr>
            <p:cNvPr id="143" name=""/>
            <p:cNvSpPr/>
            <p:nvPr/>
          </p:nvSpPr>
          <p:spPr>
            <a:xfrm>
              <a:off x="1704960" y="1825560"/>
              <a:ext cx="6381720" cy="4667400"/>
            </a:xfrm>
            <a:prstGeom prst="rect">
              <a:avLst/>
            </a:prstGeom>
            <a:noFill/>
            <a:ln w="5724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0680" y="1852560"/>
              <a:ext cx="42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eaeaea"/>
                  </a:solidFill>
                  <a:latin typeface="Times New Roman"/>
                </a:rPr>
                <a:t>Branching-and-cutting algorith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47600" y="1798560"/>
              <a:ext cx="54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eaeaea"/>
                  </a:solidFill>
                  <a:latin typeface="Times New Roman"/>
                </a:rPr>
                <a:t>IP</a:t>
              </a:r>
              <a:r>
                <a:rPr b="0" i="1" lang="en-CA" sz="2400" spc="-1" strike="noStrike" baseline="-25000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9520" y="2097000"/>
              <a:ext cx="4078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08520" y="2413080"/>
            <a:ext cx="61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eaeaea"/>
                </a:solidFill>
                <a:latin typeface="Times New Roman"/>
              </a:rPr>
              <a:t>LP</a:t>
            </a:r>
            <a:r>
              <a:rPr b="0" i="1" lang="en-CA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9400" y="548784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555bad"/>
                </a:solidFill>
                <a:latin typeface="Times New Roman"/>
              </a:rPr>
              <a:t>k </a:t>
            </a:r>
            <a:r>
              <a:rPr b="0" lang="en-CA" sz="2000" spc="-1" strike="noStrike">
                <a:solidFill>
                  <a:srgbClr val="555bad"/>
                </a:solidFill>
                <a:latin typeface="Times New Roman"/>
              </a:rPr>
              <a:t>to </a:t>
            </a:r>
            <a:r>
              <a:rPr b="0" i="1" lang="en-CA" sz="2000" spc="-1" strike="noStrike">
                <a:solidFill>
                  <a:srgbClr val="555bad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32920" y="1165320"/>
            <a:ext cx="43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cff33"/>
                </a:solidFill>
                <a:latin typeface="Times New Roman"/>
              </a:rPr>
              <a:t>(Employees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1</a:t>
            </a:r>
            <a:r>
              <a:rPr b="0" lang="en-CA" sz="2000" spc="-1" strike="noStrike">
                <a:solidFill>
                  <a:srgbClr val="ccff33"/>
                </a:solidFill>
                <a:latin typeface="Times New Roman"/>
              </a:rPr>
              <a:t> to </a:t>
            </a:r>
            <a:r>
              <a:rPr b="0" i="1" lang="en-CA" sz="2000" spc="-1" strike="noStrike">
                <a:solidFill>
                  <a:srgbClr val="ccff33"/>
                </a:solidFill>
                <a:latin typeface="Times New Roman"/>
              </a:rPr>
              <a:t>k-1</a:t>
            </a:r>
            <a:r>
              <a:rPr b="0" lang="en-CA" sz="2000" spc="-1" strike="noStrike">
                <a:solidFill>
                  <a:srgbClr val="ccff33"/>
                </a:solidFill>
                <a:latin typeface="Times New Roman"/>
              </a:rPr>
              <a:t> have their schedul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70960" y="244944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Column Gen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0160" y="885960"/>
            <a:ext cx="76960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2120" y="17784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9040" y="2671920"/>
            <a:ext cx="4082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2EC-3254-4ED2-AB4A-3DC64331E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1320" y="1200240"/>
            <a:ext cx="3990960" cy="56340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92240" y="900000"/>
            <a:ext cx="7165800" cy="180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4600" y="1173240"/>
            <a:ext cx="417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55bad"/>
                </a:solidFill>
                <a:latin typeface="Times New Roman"/>
              </a:rPr>
              <a:t>Master Problem ( </a:t>
            </a:r>
            <a:r>
              <a:rPr b="0" i="1" lang="en-CA" sz="3200" spc="-1" strike="noStrike">
                <a:solidFill>
                  <a:srgbClr val="555bad"/>
                </a:solidFill>
                <a:latin typeface="Times New Roman"/>
              </a:rPr>
              <a:t>IP</a:t>
            </a:r>
            <a:r>
              <a:rPr b="0" i="1" lang="en-CA" sz="3200" spc="-1" strike="noStrike" baseline="-25000">
                <a:solidFill>
                  <a:srgbClr val="555bad"/>
                </a:solidFill>
                <a:latin typeface="Times New Roman"/>
              </a:rPr>
              <a:t>k </a:t>
            </a:r>
            <a:r>
              <a:rPr b="0" lang="en-CA" sz="3200" spc="-1" strike="noStrike">
                <a:solidFill>
                  <a:srgbClr val="555ba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62040" y="208584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Max    </a:t>
            </a:r>
            <a:r>
              <a:rPr b="0" lang="en-CA" sz="3200" spc="-1" strike="noStrike">
                <a:solidFill>
                  <a:srgbClr val="ccff33"/>
                </a:solidFill>
                <a:latin typeface="Symbol"/>
                <a:ea typeface="Symbol"/>
              </a:rPr>
              <a:t></a:t>
            </a: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    </a:t>
            </a: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c</a:t>
            </a:r>
            <a:r>
              <a:rPr b="0" i="1" lang="en-CA" sz="3200" spc="-1" strike="noStrike" baseline="-25000">
                <a:solidFill>
                  <a:srgbClr val="ccff33"/>
                </a:solidFill>
                <a:latin typeface="Times New Roman"/>
              </a:rPr>
              <a:t>r </a:t>
            </a:r>
            <a:r>
              <a:rPr b="0" i="1" lang="en-CA" sz="3200" spc="-1" strike="noStrike">
                <a:solidFill>
                  <a:srgbClr val="ccff33"/>
                </a:solidFill>
                <a:latin typeface="Times New Roman"/>
              </a:rPr>
              <a:t>x</a:t>
            </a:r>
            <a:r>
              <a:rPr b="0" i="1" lang="en-CA" sz="3200" spc="-1" strike="noStrike" baseline="-25000">
                <a:solidFill>
                  <a:srgbClr val="ccff33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36760" y="2359080"/>
            <a:ext cx="873360" cy="624240"/>
            <a:chOff x="3236760" y="2359080"/>
            <a:chExt cx="873360" cy="624240"/>
          </a:xfrm>
        </p:grpSpPr>
        <p:sp>
          <p:nvSpPr>
            <p:cNvPr id="159" name=""/>
            <p:cNvSpPr/>
            <p:nvPr/>
          </p:nvSpPr>
          <p:spPr>
            <a:xfrm>
              <a:off x="3236760" y="2473200"/>
              <a:ext cx="86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r</a:t>
              </a:r>
              <a:r>
                <a:rPr b="0" lang="en-CA" sz="2400" spc="-1" strike="noStrike">
                  <a:solidFill>
                    <a:srgbClr val="ccff33"/>
                  </a:solidFill>
                  <a:latin typeface="Symbol"/>
                  <a:ea typeface="Symbol"/>
                </a:rPr>
                <a:t></a:t>
              </a:r>
              <a:r>
                <a:rPr b="0" i="1" lang="en-CA" sz="2400" spc="-1" strike="noStrike">
                  <a:solidFill>
                    <a:srgbClr val="ccff33"/>
                  </a:solidFill>
                  <a:latin typeface="Times New Roman"/>
                </a:rPr>
                <a:t>R</a:t>
              </a: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4440" y="2359080"/>
              <a:ext cx="35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 baseline="-25000">
                  <a:solidFill>
                    <a:srgbClr val="ccff33"/>
                  </a:solidFill>
                  <a:latin typeface="Times New Roman"/>
                </a:rPr>
                <a:t>k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154520" y="3065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Subject to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85272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ach available task is cove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49840" y="473724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Each employee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k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 to </a:t>
            </a:r>
            <a:r>
              <a:rPr b="0" i="1" lang="en-CA" sz="2400" spc="-1" strike="noStrike">
                <a:solidFill>
                  <a:srgbClr val="ccff33"/>
                </a:solidFill>
                <a:latin typeface="Times New Roman"/>
              </a:rPr>
              <a:t>m</a:t>
            </a: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 has a feasible schedu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4520" y="56228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33"/>
                </a:solidFill>
                <a:latin typeface="Times New Roman"/>
              </a:rPr>
              <a:t>Other constra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3400" y="24912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20D-6C18-4C5F-A9AE-4A7D7D5BC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20680" y="1197000"/>
            <a:ext cx="2413080" cy="480960"/>
          </a:xfrm>
          <a:prstGeom prst="rect">
            <a:avLst/>
          </a:prstGeom>
          <a:solidFill>
            <a:srgbClr val="ebd189"/>
          </a:solidFill>
          <a:ln w="936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14480" y="914400"/>
            <a:ext cx="7505640" cy="144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66760" y="1144440"/>
            <a:ext cx="26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55bad"/>
                </a:solidFill>
                <a:latin typeface="Times New Roman"/>
              </a:rPr>
              <a:t>Subproble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4780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696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612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528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2444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2760" y="3382920"/>
            <a:ext cx="244440" cy="2588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0040" y="3382920"/>
            <a:ext cx="203040" cy="2048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881920" y="3382920"/>
            <a:ext cx="203400" cy="2048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0"/>
            <a:endCxn id="171" idx="1"/>
          </p:cNvCxnSpPr>
          <p:nvPr/>
        </p:nvCxnSpPr>
        <p:spPr>
          <a:xfrm flipH="1" rot="16200000">
            <a:off x="2328120" y="1926000"/>
            <a:ext cx="38880" cy="2952000"/>
          </a:xfrm>
          <a:prstGeom prst="curvedConnector5">
            <a:avLst>
              <a:gd name="adj1" fmla="val -1237383"/>
              <a:gd name="adj2" fmla="val 49993"/>
              <a:gd name="adj3" fmla="val -1237383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6" idx="0"/>
            <a:endCxn id="170" idx="0"/>
          </p:cNvCxnSpPr>
          <p:nvPr/>
        </p:nvCxnSpPr>
        <p:spPr>
          <a:xfrm flipH="1" rot="16200000">
            <a:off x="1878840" y="2373840"/>
            <a:ext cx="2520" cy="201816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9" idx="0"/>
            <a:endCxn id="171" idx="1"/>
          </p:cNvCxnSpPr>
          <p:nvPr/>
        </p:nvCxnSpPr>
        <p:spPr>
          <a:xfrm flipH="1" rot="16200000">
            <a:off x="2827440" y="2425680"/>
            <a:ext cx="38880" cy="1953000"/>
          </a:xfrm>
          <a:prstGeom prst="curvedConnector5">
            <a:avLst>
              <a:gd name="adj1" fmla="val -849532"/>
              <a:gd name="adj2" fmla="val 50000"/>
              <a:gd name="adj3" fmla="val -849532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 rot="16200000">
            <a:off x="1852200" y="2620080"/>
            <a:ext cx="54720" cy="2018160"/>
          </a:xfrm>
          <a:prstGeom prst="curvedConnector5">
            <a:avLst>
              <a:gd name="adj1" fmla="val 523178"/>
              <a:gd name="adj2" fmla="val 49991"/>
              <a:gd name="adj3" fmla="val 523178"/>
            </a:avLst>
          </a:prstGeom>
          <a:ln w="936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9" idx="4"/>
            <a:endCxn id="171" idx="4"/>
          </p:cNvCxnSpPr>
          <p:nvPr/>
        </p:nvCxnSpPr>
        <p:spPr>
          <a:xfrm flipH="1" rot="16200000">
            <a:off x="2888640" y="2622960"/>
            <a:ext cx="2160" cy="2039040"/>
          </a:xfrm>
          <a:prstGeom prst="curvedConnector5">
            <a:avLst>
              <a:gd name="adj1" fmla="val 14400000"/>
              <a:gd name="adj2" fmla="val 49991"/>
              <a:gd name="adj3" fmla="val 14400000"/>
            </a:avLst>
          </a:prstGeom>
          <a:ln w="936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9" idx="0"/>
            <a:endCxn id="172" idx="0"/>
          </p:cNvCxnSpPr>
          <p:nvPr/>
        </p:nvCxnSpPr>
        <p:spPr>
          <a:xfrm flipH="1" rot="16200000">
            <a:off x="3397680" y="1854000"/>
            <a:ext cx="2520" cy="3058200"/>
          </a:xfrm>
          <a:prstGeom prst="curvedConnector5">
            <a:avLst>
              <a:gd name="adj1" fmla="val -27200000"/>
              <a:gd name="adj2" fmla="val 50000"/>
              <a:gd name="adj3" fmla="val -27200000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5070600" y="3511440"/>
            <a:ext cx="788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60480" y="349884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350208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33720" y="350352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41720" y="350532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50532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15040" y="3517920"/>
            <a:ext cx="789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36000" y="3517920"/>
            <a:ext cx="7887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0" idx="4"/>
            <a:endCxn id="172" idx="4"/>
          </p:cNvCxnSpPr>
          <p:nvPr/>
        </p:nvCxnSpPr>
        <p:spPr>
          <a:xfrm flipH="1" rot="16200000">
            <a:off x="3907800" y="2622960"/>
            <a:ext cx="2160" cy="2039040"/>
          </a:xfrm>
          <a:prstGeom prst="curvedConnector5">
            <a:avLst>
              <a:gd name="adj1" fmla="val 14400000"/>
              <a:gd name="adj2" fmla="val 49991"/>
              <a:gd name="adj3" fmla="val 14400000"/>
            </a:avLst>
          </a:prstGeom>
          <a:ln w="936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4" idx="7"/>
            <a:endCxn id="177" idx="0"/>
          </p:cNvCxnSpPr>
          <p:nvPr/>
        </p:nvCxnSpPr>
        <p:spPr>
          <a:xfrm flipH="1" flipV="1" rot="5400000">
            <a:off x="7998120" y="2435400"/>
            <a:ext cx="38880" cy="1932840"/>
          </a:xfrm>
          <a:prstGeom prst="curvedConnector5">
            <a:avLst>
              <a:gd name="adj1" fmla="val 700000"/>
              <a:gd name="adj2" fmla="val 50000"/>
              <a:gd name="adj3" fmla="val 700000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74" idx="4"/>
            <a:endCxn id="175" idx="4"/>
          </p:cNvCxnSpPr>
          <p:nvPr/>
        </p:nvCxnSpPr>
        <p:spPr>
          <a:xfrm flipH="1" rot="16200000">
            <a:off x="7473960" y="3132720"/>
            <a:ext cx="2160" cy="10198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4" idx="4"/>
            <a:endCxn id="177" idx="2"/>
          </p:cNvCxnSpPr>
          <p:nvPr/>
        </p:nvCxnSpPr>
        <p:spPr>
          <a:xfrm flipH="1" flipV="1" rot="5400000">
            <a:off x="7946280" y="2605680"/>
            <a:ext cx="54720" cy="2018160"/>
          </a:xfrm>
          <a:prstGeom prst="curvedConnector5">
            <a:avLst>
              <a:gd name="adj1" fmla="val -902649"/>
              <a:gd name="adj2" fmla="val 49991"/>
              <a:gd name="adj3" fmla="val -902649"/>
            </a:avLst>
          </a:prstGeom>
          <a:ln w="936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5" idx="0"/>
          </p:cNvCxnSpPr>
          <p:nvPr/>
        </p:nvCxnSpPr>
        <p:spPr>
          <a:xfrm flipH="1" flipV="1" rot="5400000">
            <a:off x="8284320" y="2693880"/>
            <a:ext cx="389520" cy="989280"/>
          </a:xfrm>
          <a:prstGeom prst="curvedConnector2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746440" y="2097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99ccff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171520" y="2489040"/>
            <a:ext cx="585720" cy="4240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960280" y="2490840"/>
            <a:ext cx="95400" cy="57132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2520" y="2517840"/>
            <a:ext cx="231840" cy="46332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25480" y="41511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66"/>
                </a:solidFill>
                <a:latin typeface="Times New Roman"/>
              </a:rPr>
              <a:t>Rest Perio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612440" y="3838320"/>
            <a:ext cx="260280" cy="4078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347920" y="3524400"/>
            <a:ext cx="82440" cy="70776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92600" y="3851280"/>
            <a:ext cx="1223640" cy="3952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46800" y="428796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3300"/>
                </a:solidFill>
                <a:latin typeface="Times New Roman"/>
              </a:rPr>
              <a:t>Pre-assign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33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54640" y="3592440"/>
            <a:ext cx="1440" cy="64152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3360" y="4724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Beginning of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the mont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23440" y="4710240"/>
            <a:ext cx="120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End of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the mont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51040" y="3606840"/>
            <a:ext cx="0" cy="134784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02960" y="6008760"/>
            <a:ext cx="74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The shortest path = The schedule with the best reduced c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2120" y="22068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ff33"/>
                </a:solidFill>
                <a:latin typeface="Times New Roman"/>
              </a:rPr>
              <a:t>2. The solution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 flipH="1" flipV="1" rot="5400000">
            <a:off x="6924960" y="2422800"/>
            <a:ext cx="38880" cy="1932840"/>
          </a:xfrm>
          <a:prstGeom prst="curvedConnector5">
            <a:avLst>
              <a:gd name="adj1" fmla="val 1057943"/>
              <a:gd name="adj2" fmla="val 50000"/>
              <a:gd name="adj3" fmla="val 1057943"/>
            </a:avLst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 flipV="1">
            <a:off x="8961480" y="3573360"/>
            <a:ext cx="0" cy="134784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3A8-8FB7-4FF9-9670-A3DCF5CD3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4:30:27Z</dcterms:created>
  <dc:creator>Michel Gamache</dc:creator>
  <dc:description/>
  <dc:language>en-US</dc:language>
  <cp:lastModifiedBy>jacques</cp:lastModifiedBy>
  <cp:lastPrinted>2001-05-04T13:37:16Z</cp:lastPrinted>
  <dcterms:modified xsi:type="dcterms:W3CDTF">2002-12-02T02:58:20Z</dcterms:modified>
  <cp:revision>32</cp:revision>
  <dc:subject/>
  <dc:title>Aucun titre de diapositive</dc:title>
</cp:coreProperties>
</file>